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DE2DF-30E1-4740-AA83-67DF3EEB6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B94D-4363-4980-90AF-520070732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91297-6081-49BC-ABCB-B37BC8DF0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A7EA4-FE13-4930-AD26-4DF46AD68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ECBE7-1910-40BD-8A2E-B447179F9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9C0F-ADFA-4CE1-871F-052346DEA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FBE1E-7DD1-420D-A3C3-082A24546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BC34-7EFF-4CBB-82D7-E2852F329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70161-A82A-4579-9B88-25E8BE87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3B4C-2091-4489-81E4-FE848C433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D857-3221-4AA9-A81C-C9DBFBD8F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211ED-55FF-468C-BC86-C9D28FB99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C8ED-813B-4B09-807A-40E44C5175B8}"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2CC519C6-B0EC-4520-99BC-73776D914607}" type="datetime12">
              <a:rPr b="0" lang="en-US" sz="1400" spc="-1" strike="noStrike">
                <a:solidFill>
                  <a:srgbClr val="000000"/>
                </a:solidFill>
                <a:latin typeface="Times New Roman"/>
              </a:rPr>
              <a:t>03:11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332A-5C96-4D7F-813E-43950F14F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D8739C5-9255-435C-BF3A-707FCCA14C1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F79394B-00C9-498A-82B9-05EC33122F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C2095A1-BF40-4CEB-B3CC-8EFC98B299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FFFD9EA-EDA6-4B7D-8E96-22E536CC47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89535D2-20CA-425D-8A84-E93539C749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3559427-2B83-4500-860B-941BCB6140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BBA41FA-C207-4862-A030-178D791194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7E9C9318-B424-4E6E-AF6A-CF4E196F17A2}"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