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513F4-A74C-430E-B9A3-CB959CB31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96554-F3BC-4354-B416-A485E0D44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6DF33-212B-4A5C-951B-F933998D1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8742F-29FB-40DE-A8B9-A468B3DAA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B8E72-FBC5-414E-AF29-C5C6614D6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06FBA-8963-47D2-9F70-39C04B151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3740B-A4F1-4760-B59C-94CAB7E6F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CD840-AF43-457D-AED2-A43E6BBD3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22595-2B07-4BDC-A946-520A1EC6D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DE437-A808-436E-9E75-6F3D6D99D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199AE-36CE-460F-8FFD-E1C5E88E8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54716-4AEA-4C18-9B95-B95633844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4BE7-A5A3-4B94-AB65-BC9EAC91BE37}"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74181EAB-A683-4654-BE10-AB98F8A9DF6C}" type="datetime12">
              <a:rPr b="0" lang="en-US" sz="1400" spc="-1" strike="noStrike">
                <a:solidFill>
                  <a:srgbClr val="000000"/>
                </a:solidFill>
                <a:latin typeface="Times New Roman"/>
              </a:rPr>
              <a:t>03:11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463D5-F376-4D6C-B894-0BE8342DF3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in  Language Analysis Tool</a:t>
            </a:r>
            <a:br>
              <a:rPr sz="4400"/>
            </a:br>
            <a:r>
              <a:rPr b="0" lang="en-US" sz="4400" spc="-1" strike="noStrike">
                <a:solidFill>
                  <a:srgbClr val="000000"/>
                </a:solidFill>
                <a:latin typeface="Times New Roman"/>
              </a:rPr>
              <a:t>(PL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9EDFFD8-448C-4B16-963A-B97FBCE96E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61"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2"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3"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4" name=""/>
          <p:cNvGrpSpPr/>
          <p:nvPr/>
        </p:nvGrpSpPr>
        <p:grpSpPr>
          <a:xfrm>
            <a:off x="1981080" y="2057400"/>
            <a:ext cx="3047760" cy="2971800"/>
            <a:chOff x="1981080" y="2057400"/>
            <a:chExt cx="3047760" cy="2971800"/>
          </a:xfrm>
        </p:grpSpPr>
        <p:grpSp>
          <p:nvGrpSpPr>
            <p:cNvPr id="65" name=""/>
            <p:cNvGrpSpPr/>
            <p:nvPr/>
          </p:nvGrpSpPr>
          <p:grpSpPr>
            <a:xfrm>
              <a:off x="1981080" y="2057400"/>
              <a:ext cx="2438280" cy="2361960"/>
              <a:chOff x="1981080" y="2057400"/>
              <a:chExt cx="2438280" cy="2361960"/>
            </a:xfrm>
          </p:grpSpPr>
          <p:sp>
            <p:nvSpPr>
              <p:cNvPr id="66"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1981080" y="2057400"/>
                <a:ext cx="2437920" cy="2361600"/>
                <a:chOff x="1981080" y="2057400"/>
                <a:chExt cx="2437920" cy="2361600"/>
              </a:xfrm>
            </p:grpSpPr>
            <p:grpSp>
              <p:nvGrpSpPr>
                <p:cNvPr id="68" name=""/>
                <p:cNvGrpSpPr/>
                <p:nvPr/>
              </p:nvGrpSpPr>
              <p:grpSpPr>
                <a:xfrm>
                  <a:off x="2285640" y="2057400"/>
                  <a:ext cx="1828800" cy="2361600"/>
                  <a:chOff x="2285640" y="2057400"/>
                  <a:chExt cx="1828800" cy="2361600"/>
                </a:xfrm>
              </p:grpSpPr>
              <p:sp>
                <p:nvSpPr>
                  <p:cNvPr id="69"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1981080" y="2286000"/>
                  <a:ext cx="2437920" cy="1904760"/>
                  <a:chOff x="1981080" y="2286000"/>
                  <a:chExt cx="2437920" cy="1904760"/>
                </a:xfrm>
              </p:grpSpPr>
              <p:sp>
                <p:nvSpPr>
                  <p:cNvPr id="76"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 name=""/>
            <p:cNvGrpSpPr/>
            <p:nvPr/>
          </p:nvGrpSpPr>
          <p:grpSpPr>
            <a:xfrm>
              <a:off x="2133360" y="2209680"/>
              <a:ext cx="2438280" cy="2362320"/>
              <a:chOff x="2133360" y="2209680"/>
              <a:chExt cx="2438280" cy="2362320"/>
            </a:xfrm>
          </p:grpSpPr>
          <p:sp>
            <p:nvSpPr>
              <p:cNvPr id="83"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2133360" y="2209680"/>
                <a:ext cx="2437920" cy="2361600"/>
                <a:chOff x="2133360" y="2209680"/>
                <a:chExt cx="2437920" cy="2361600"/>
              </a:xfrm>
            </p:grpSpPr>
            <p:grpSp>
              <p:nvGrpSpPr>
                <p:cNvPr id="85" name=""/>
                <p:cNvGrpSpPr/>
                <p:nvPr/>
              </p:nvGrpSpPr>
              <p:grpSpPr>
                <a:xfrm>
                  <a:off x="2437920" y="2209680"/>
                  <a:ext cx="1828800" cy="2361600"/>
                  <a:chOff x="2437920" y="2209680"/>
                  <a:chExt cx="1828800" cy="2361600"/>
                </a:xfrm>
              </p:grpSpPr>
              <p:sp>
                <p:nvSpPr>
                  <p:cNvPr id="86"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2133360" y="2438280"/>
                  <a:ext cx="2437920" cy="1904760"/>
                  <a:chOff x="2133360" y="2438280"/>
                  <a:chExt cx="2437920" cy="1904760"/>
                </a:xfrm>
              </p:grpSpPr>
              <p:sp>
                <p:nvSpPr>
                  <p:cNvPr id="93"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9" name=""/>
            <p:cNvGrpSpPr/>
            <p:nvPr/>
          </p:nvGrpSpPr>
          <p:grpSpPr>
            <a:xfrm>
              <a:off x="2285640" y="2361960"/>
              <a:ext cx="2438640" cy="2362320"/>
              <a:chOff x="2285640" y="2361960"/>
              <a:chExt cx="2438640" cy="2362320"/>
            </a:xfrm>
          </p:grpSpPr>
          <p:sp>
            <p:nvSpPr>
              <p:cNvPr id="100"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2285640" y="2361960"/>
                <a:ext cx="2437920" cy="2361600"/>
                <a:chOff x="2285640" y="2361960"/>
                <a:chExt cx="2437920" cy="2361600"/>
              </a:xfrm>
            </p:grpSpPr>
            <p:grpSp>
              <p:nvGrpSpPr>
                <p:cNvPr id="102" name=""/>
                <p:cNvGrpSpPr/>
                <p:nvPr/>
              </p:nvGrpSpPr>
              <p:grpSpPr>
                <a:xfrm>
                  <a:off x="2590200" y="2361960"/>
                  <a:ext cx="1828800" cy="2361600"/>
                  <a:chOff x="2590200" y="2361960"/>
                  <a:chExt cx="1828800" cy="2361600"/>
                </a:xfrm>
              </p:grpSpPr>
              <p:sp>
                <p:nvSpPr>
                  <p:cNvPr id="103"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2285640" y="2590560"/>
                  <a:ext cx="2437920" cy="1904760"/>
                  <a:chOff x="2285640" y="2590560"/>
                  <a:chExt cx="2437920" cy="1904760"/>
                </a:xfrm>
              </p:grpSpPr>
              <p:sp>
                <p:nvSpPr>
                  <p:cNvPr id="110"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6" name=""/>
            <p:cNvGrpSpPr/>
            <p:nvPr/>
          </p:nvGrpSpPr>
          <p:grpSpPr>
            <a:xfrm>
              <a:off x="2438280" y="2514600"/>
              <a:ext cx="2438280" cy="2361960"/>
              <a:chOff x="2438280" y="2514600"/>
              <a:chExt cx="2438280" cy="2361960"/>
            </a:xfrm>
          </p:grpSpPr>
          <p:sp>
            <p:nvSpPr>
              <p:cNvPr id="117"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2438280" y="2514600"/>
                <a:ext cx="2437920" cy="2361600"/>
                <a:chOff x="2438280" y="2514600"/>
                <a:chExt cx="2437920" cy="2361600"/>
              </a:xfrm>
            </p:grpSpPr>
            <p:grpSp>
              <p:nvGrpSpPr>
                <p:cNvPr id="119" name=""/>
                <p:cNvGrpSpPr/>
                <p:nvPr/>
              </p:nvGrpSpPr>
              <p:grpSpPr>
                <a:xfrm>
                  <a:off x="2742840" y="2514600"/>
                  <a:ext cx="1828800" cy="2361600"/>
                  <a:chOff x="2742840" y="2514600"/>
                  <a:chExt cx="1828800" cy="2361600"/>
                </a:xfrm>
              </p:grpSpPr>
              <p:sp>
                <p:nvSpPr>
                  <p:cNvPr id="120"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2438280" y="2743200"/>
                  <a:ext cx="2437920" cy="1904760"/>
                  <a:chOff x="2438280" y="2743200"/>
                  <a:chExt cx="2437920" cy="1904760"/>
                </a:xfrm>
              </p:grpSpPr>
              <p:sp>
                <p:nvSpPr>
                  <p:cNvPr id="127"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3" name=""/>
            <p:cNvGrpSpPr/>
            <p:nvPr/>
          </p:nvGrpSpPr>
          <p:grpSpPr>
            <a:xfrm>
              <a:off x="2590560" y="2666880"/>
              <a:ext cx="2438280" cy="2362320"/>
              <a:chOff x="2590560" y="2666880"/>
              <a:chExt cx="2438280" cy="2362320"/>
            </a:xfrm>
          </p:grpSpPr>
          <p:sp>
            <p:nvSpPr>
              <p:cNvPr id="134"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2590560" y="2666880"/>
                <a:ext cx="2437920" cy="2361600"/>
                <a:chOff x="2590560" y="2666880"/>
                <a:chExt cx="2437920" cy="2361600"/>
              </a:xfrm>
            </p:grpSpPr>
            <p:grpSp>
              <p:nvGrpSpPr>
                <p:cNvPr id="136" name=""/>
                <p:cNvGrpSpPr/>
                <p:nvPr/>
              </p:nvGrpSpPr>
              <p:grpSpPr>
                <a:xfrm>
                  <a:off x="2895120" y="2666880"/>
                  <a:ext cx="1828800" cy="2361600"/>
                  <a:chOff x="2895120" y="2666880"/>
                  <a:chExt cx="1828800" cy="2361600"/>
                </a:xfrm>
              </p:grpSpPr>
              <p:sp>
                <p:nvSpPr>
                  <p:cNvPr id="137"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2590560" y="2895480"/>
                  <a:ext cx="2437920" cy="1904760"/>
                  <a:chOff x="2590560" y="2895480"/>
                  <a:chExt cx="2437920" cy="1904760"/>
                </a:xfrm>
              </p:grpSpPr>
              <p:sp>
                <p:nvSpPr>
                  <p:cNvPr id="144"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50"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5715000" y="1676520"/>
            <a:ext cx="1066320" cy="914400"/>
            <a:chOff x="5715000" y="1676520"/>
            <a:chExt cx="1066320" cy="914400"/>
          </a:xfrm>
        </p:grpSpPr>
        <p:grpSp>
          <p:nvGrpSpPr>
            <p:cNvPr id="152" name=""/>
            <p:cNvGrpSpPr/>
            <p:nvPr/>
          </p:nvGrpSpPr>
          <p:grpSpPr>
            <a:xfrm>
              <a:off x="5715000" y="1676520"/>
              <a:ext cx="853200" cy="726840"/>
              <a:chOff x="5715000" y="1676520"/>
              <a:chExt cx="853200" cy="726840"/>
            </a:xfrm>
          </p:grpSpPr>
          <p:sp>
            <p:nvSpPr>
              <p:cNvPr id="153"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5715000" y="1676520"/>
                <a:ext cx="853200" cy="726840"/>
                <a:chOff x="5715000" y="1676520"/>
                <a:chExt cx="853200" cy="726840"/>
              </a:xfrm>
            </p:grpSpPr>
            <p:grpSp>
              <p:nvGrpSpPr>
                <p:cNvPr id="155" name=""/>
                <p:cNvGrpSpPr/>
                <p:nvPr/>
              </p:nvGrpSpPr>
              <p:grpSpPr>
                <a:xfrm>
                  <a:off x="5821560" y="1676520"/>
                  <a:ext cx="640080" cy="726840"/>
                  <a:chOff x="5821560" y="1676520"/>
                  <a:chExt cx="640080" cy="726840"/>
                </a:xfrm>
              </p:grpSpPr>
              <p:sp>
                <p:nvSpPr>
                  <p:cNvPr id="156"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5715000" y="1746720"/>
                  <a:ext cx="853200" cy="586080"/>
                  <a:chOff x="5715000" y="1746720"/>
                  <a:chExt cx="853200" cy="586080"/>
                </a:xfrm>
              </p:grpSpPr>
              <p:sp>
                <p:nvSpPr>
                  <p:cNvPr id="163"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9" name=""/>
            <p:cNvGrpSpPr/>
            <p:nvPr/>
          </p:nvGrpSpPr>
          <p:grpSpPr>
            <a:xfrm>
              <a:off x="5768280" y="1723320"/>
              <a:ext cx="853200" cy="726840"/>
              <a:chOff x="5768280" y="1723320"/>
              <a:chExt cx="853200" cy="726840"/>
            </a:xfrm>
          </p:grpSpPr>
          <p:sp>
            <p:nvSpPr>
              <p:cNvPr id="170"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768280" y="1723320"/>
                <a:ext cx="853200" cy="726840"/>
                <a:chOff x="5768280" y="1723320"/>
                <a:chExt cx="853200" cy="726840"/>
              </a:xfrm>
            </p:grpSpPr>
            <p:grpSp>
              <p:nvGrpSpPr>
                <p:cNvPr id="172" name=""/>
                <p:cNvGrpSpPr/>
                <p:nvPr/>
              </p:nvGrpSpPr>
              <p:grpSpPr>
                <a:xfrm>
                  <a:off x="5874840" y="1723320"/>
                  <a:ext cx="640080" cy="726840"/>
                  <a:chOff x="5874840" y="1723320"/>
                  <a:chExt cx="640080" cy="726840"/>
                </a:xfrm>
              </p:grpSpPr>
              <p:sp>
                <p:nvSpPr>
                  <p:cNvPr id="173"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5768280" y="1793520"/>
                  <a:ext cx="853200" cy="586080"/>
                  <a:chOff x="5768280" y="1793520"/>
                  <a:chExt cx="853200" cy="586080"/>
                </a:xfrm>
              </p:grpSpPr>
              <p:sp>
                <p:nvSpPr>
                  <p:cNvPr id="180"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6" name=""/>
            <p:cNvGrpSpPr/>
            <p:nvPr/>
          </p:nvGrpSpPr>
          <p:grpSpPr>
            <a:xfrm>
              <a:off x="5821200" y="1770120"/>
              <a:ext cx="853920" cy="726840"/>
              <a:chOff x="5821200" y="1770120"/>
              <a:chExt cx="853920" cy="726840"/>
            </a:xfrm>
          </p:grpSpPr>
          <p:sp>
            <p:nvSpPr>
              <p:cNvPr id="187"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5821200" y="1770120"/>
                <a:ext cx="853560" cy="726840"/>
                <a:chOff x="5821200" y="1770120"/>
                <a:chExt cx="853560" cy="726840"/>
              </a:xfrm>
            </p:grpSpPr>
            <p:grpSp>
              <p:nvGrpSpPr>
                <p:cNvPr id="189" name=""/>
                <p:cNvGrpSpPr/>
                <p:nvPr/>
              </p:nvGrpSpPr>
              <p:grpSpPr>
                <a:xfrm>
                  <a:off x="5928120" y="1770120"/>
                  <a:ext cx="640080" cy="726840"/>
                  <a:chOff x="5928120" y="1770120"/>
                  <a:chExt cx="640080" cy="726840"/>
                </a:xfrm>
              </p:grpSpPr>
              <p:sp>
                <p:nvSpPr>
                  <p:cNvPr id="190"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5821200" y="1840320"/>
                  <a:ext cx="853560" cy="586080"/>
                  <a:chOff x="5821200" y="1840320"/>
                  <a:chExt cx="853560" cy="586080"/>
                </a:xfrm>
              </p:grpSpPr>
              <p:sp>
                <p:nvSpPr>
                  <p:cNvPr id="197"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3" name=""/>
            <p:cNvGrpSpPr/>
            <p:nvPr/>
          </p:nvGrpSpPr>
          <p:grpSpPr>
            <a:xfrm>
              <a:off x="5874840" y="1816920"/>
              <a:ext cx="853200" cy="726840"/>
              <a:chOff x="5874840" y="1816920"/>
              <a:chExt cx="853200" cy="726840"/>
            </a:xfrm>
          </p:grpSpPr>
          <p:sp>
            <p:nvSpPr>
              <p:cNvPr id="204"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 name=""/>
              <p:cNvGrpSpPr/>
              <p:nvPr/>
            </p:nvGrpSpPr>
            <p:grpSpPr>
              <a:xfrm>
                <a:off x="5874840" y="1816920"/>
                <a:ext cx="853200" cy="726840"/>
                <a:chOff x="5874840" y="1816920"/>
                <a:chExt cx="853200" cy="726840"/>
              </a:xfrm>
            </p:grpSpPr>
            <p:grpSp>
              <p:nvGrpSpPr>
                <p:cNvPr id="206" name=""/>
                <p:cNvGrpSpPr/>
                <p:nvPr/>
              </p:nvGrpSpPr>
              <p:grpSpPr>
                <a:xfrm>
                  <a:off x="5981400" y="1816920"/>
                  <a:ext cx="640080" cy="726840"/>
                  <a:chOff x="5981400" y="1816920"/>
                  <a:chExt cx="640080" cy="726840"/>
                </a:xfrm>
              </p:grpSpPr>
              <p:sp>
                <p:nvSpPr>
                  <p:cNvPr id="207"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5874840" y="1887120"/>
                  <a:ext cx="853200" cy="586080"/>
                  <a:chOff x="5874840" y="1887120"/>
                  <a:chExt cx="853200" cy="586080"/>
                </a:xfrm>
              </p:grpSpPr>
              <p:sp>
                <p:nvSpPr>
                  <p:cNvPr id="214"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20" name=""/>
            <p:cNvGrpSpPr/>
            <p:nvPr/>
          </p:nvGrpSpPr>
          <p:grpSpPr>
            <a:xfrm>
              <a:off x="5928120" y="1864080"/>
              <a:ext cx="853200" cy="726840"/>
              <a:chOff x="5928120" y="1864080"/>
              <a:chExt cx="853200" cy="726840"/>
            </a:xfrm>
          </p:grpSpPr>
          <p:sp>
            <p:nvSpPr>
              <p:cNvPr id="221"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5928120" y="1864080"/>
                <a:ext cx="853200" cy="726840"/>
                <a:chOff x="5928120" y="1864080"/>
                <a:chExt cx="853200" cy="726840"/>
              </a:xfrm>
            </p:grpSpPr>
            <p:grpSp>
              <p:nvGrpSpPr>
                <p:cNvPr id="223" name=""/>
                <p:cNvGrpSpPr/>
                <p:nvPr/>
              </p:nvGrpSpPr>
              <p:grpSpPr>
                <a:xfrm>
                  <a:off x="6034680" y="1864080"/>
                  <a:ext cx="640080" cy="726840"/>
                  <a:chOff x="6034680" y="1864080"/>
                  <a:chExt cx="640080" cy="726840"/>
                </a:xfrm>
              </p:grpSpPr>
              <p:sp>
                <p:nvSpPr>
                  <p:cNvPr id="224"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928120" y="1934280"/>
                  <a:ext cx="853200" cy="586080"/>
                  <a:chOff x="5928120" y="1934280"/>
                  <a:chExt cx="853200" cy="586080"/>
                </a:xfrm>
              </p:grpSpPr>
              <p:sp>
                <p:nvSpPr>
                  <p:cNvPr id="231"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7"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8" name=""/>
          <p:cNvGrpSpPr/>
          <p:nvPr/>
        </p:nvGrpSpPr>
        <p:grpSpPr>
          <a:xfrm>
            <a:off x="6248520" y="2133720"/>
            <a:ext cx="1066320" cy="914400"/>
            <a:chOff x="6248520" y="2133720"/>
            <a:chExt cx="1066320" cy="914400"/>
          </a:xfrm>
        </p:grpSpPr>
        <p:grpSp>
          <p:nvGrpSpPr>
            <p:cNvPr id="239" name=""/>
            <p:cNvGrpSpPr/>
            <p:nvPr/>
          </p:nvGrpSpPr>
          <p:grpSpPr>
            <a:xfrm>
              <a:off x="6248520" y="2133720"/>
              <a:ext cx="853200" cy="726840"/>
              <a:chOff x="6248520" y="2133720"/>
              <a:chExt cx="853200" cy="726840"/>
            </a:xfrm>
          </p:grpSpPr>
          <p:sp>
            <p:nvSpPr>
              <p:cNvPr id="240"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6248520" y="2133720"/>
                <a:ext cx="853200" cy="726840"/>
                <a:chOff x="6248520" y="2133720"/>
                <a:chExt cx="853200" cy="726840"/>
              </a:xfrm>
            </p:grpSpPr>
            <p:grpSp>
              <p:nvGrpSpPr>
                <p:cNvPr id="242" name=""/>
                <p:cNvGrpSpPr/>
                <p:nvPr/>
              </p:nvGrpSpPr>
              <p:grpSpPr>
                <a:xfrm>
                  <a:off x="6355080" y="2133720"/>
                  <a:ext cx="640080" cy="726840"/>
                  <a:chOff x="6355080" y="2133720"/>
                  <a:chExt cx="640080" cy="726840"/>
                </a:xfrm>
              </p:grpSpPr>
              <p:sp>
                <p:nvSpPr>
                  <p:cNvPr id="243"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6248520" y="2203920"/>
                  <a:ext cx="853200" cy="586080"/>
                  <a:chOff x="6248520" y="2203920"/>
                  <a:chExt cx="853200" cy="586080"/>
                </a:xfrm>
              </p:grpSpPr>
              <p:sp>
                <p:nvSpPr>
                  <p:cNvPr id="250"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6" name=""/>
            <p:cNvGrpSpPr/>
            <p:nvPr/>
          </p:nvGrpSpPr>
          <p:grpSpPr>
            <a:xfrm>
              <a:off x="6301800" y="2180520"/>
              <a:ext cx="853200" cy="726840"/>
              <a:chOff x="6301800" y="2180520"/>
              <a:chExt cx="853200" cy="726840"/>
            </a:xfrm>
          </p:grpSpPr>
          <p:sp>
            <p:nvSpPr>
              <p:cNvPr id="257"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6301800" y="2180520"/>
                <a:ext cx="853200" cy="726840"/>
                <a:chOff x="6301800" y="2180520"/>
                <a:chExt cx="853200" cy="726840"/>
              </a:xfrm>
            </p:grpSpPr>
            <p:grpSp>
              <p:nvGrpSpPr>
                <p:cNvPr id="259" name=""/>
                <p:cNvGrpSpPr/>
                <p:nvPr/>
              </p:nvGrpSpPr>
              <p:grpSpPr>
                <a:xfrm>
                  <a:off x="6408360" y="2180520"/>
                  <a:ext cx="640080" cy="726840"/>
                  <a:chOff x="6408360" y="2180520"/>
                  <a:chExt cx="640080" cy="726840"/>
                </a:xfrm>
              </p:grpSpPr>
              <p:sp>
                <p:nvSpPr>
                  <p:cNvPr id="260"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6301800" y="2250720"/>
                  <a:ext cx="853200" cy="586080"/>
                  <a:chOff x="6301800" y="2250720"/>
                  <a:chExt cx="853200" cy="586080"/>
                </a:xfrm>
              </p:grpSpPr>
              <p:sp>
                <p:nvSpPr>
                  <p:cNvPr id="267"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3" name=""/>
            <p:cNvGrpSpPr/>
            <p:nvPr/>
          </p:nvGrpSpPr>
          <p:grpSpPr>
            <a:xfrm>
              <a:off x="6354720" y="2227320"/>
              <a:ext cx="853920" cy="726840"/>
              <a:chOff x="6354720" y="2227320"/>
              <a:chExt cx="853920" cy="726840"/>
            </a:xfrm>
          </p:grpSpPr>
          <p:sp>
            <p:nvSpPr>
              <p:cNvPr id="274"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 name=""/>
              <p:cNvGrpSpPr/>
              <p:nvPr/>
            </p:nvGrpSpPr>
            <p:grpSpPr>
              <a:xfrm>
                <a:off x="6354720" y="2227320"/>
                <a:ext cx="853560" cy="726840"/>
                <a:chOff x="6354720" y="2227320"/>
                <a:chExt cx="853560" cy="726840"/>
              </a:xfrm>
            </p:grpSpPr>
            <p:grpSp>
              <p:nvGrpSpPr>
                <p:cNvPr id="276" name=""/>
                <p:cNvGrpSpPr/>
                <p:nvPr/>
              </p:nvGrpSpPr>
              <p:grpSpPr>
                <a:xfrm>
                  <a:off x="6461640" y="2227320"/>
                  <a:ext cx="640080" cy="726840"/>
                  <a:chOff x="6461640" y="2227320"/>
                  <a:chExt cx="640080" cy="726840"/>
                </a:xfrm>
              </p:grpSpPr>
              <p:sp>
                <p:nvSpPr>
                  <p:cNvPr id="277"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 name=""/>
                <p:cNvGrpSpPr/>
                <p:nvPr/>
              </p:nvGrpSpPr>
              <p:grpSpPr>
                <a:xfrm>
                  <a:off x="6354720" y="2297520"/>
                  <a:ext cx="853560" cy="586080"/>
                  <a:chOff x="6354720" y="2297520"/>
                  <a:chExt cx="853560" cy="586080"/>
                </a:xfrm>
              </p:grpSpPr>
              <p:sp>
                <p:nvSpPr>
                  <p:cNvPr id="284"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90" name=""/>
            <p:cNvGrpSpPr/>
            <p:nvPr/>
          </p:nvGrpSpPr>
          <p:grpSpPr>
            <a:xfrm>
              <a:off x="6408360" y="2274120"/>
              <a:ext cx="853200" cy="726840"/>
              <a:chOff x="6408360" y="2274120"/>
              <a:chExt cx="853200" cy="726840"/>
            </a:xfrm>
          </p:grpSpPr>
          <p:sp>
            <p:nvSpPr>
              <p:cNvPr id="291"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 name=""/>
              <p:cNvGrpSpPr/>
              <p:nvPr/>
            </p:nvGrpSpPr>
            <p:grpSpPr>
              <a:xfrm>
                <a:off x="6408360" y="2274120"/>
                <a:ext cx="853200" cy="726840"/>
                <a:chOff x="6408360" y="2274120"/>
                <a:chExt cx="853200" cy="726840"/>
              </a:xfrm>
            </p:grpSpPr>
            <p:grpSp>
              <p:nvGrpSpPr>
                <p:cNvPr id="293" name=""/>
                <p:cNvGrpSpPr/>
                <p:nvPr/>
              </p:nvGrpSpPr>
              <p:grpSpPr>
                <a:xfrm>
                  <a:off x="6514920" y="2274120"/>
                  <a:ext cx="640080" cy="726840"/>
                  <a:chOff x="6514920" y="2274120"/>
                  <a:chExt cx="640080" cy="726840"/>
                </a:xfrm>
              </p:grpSpPr>
              <p:sp>
                <p:nvSpPr>
                  <p:cNvPr id="294"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6408360" y="2344320"/>
                  <a:ext cx="853200" cy="586080"/>
                  <a:chOff x="6408360" y="2344320"/>
                  <a:chExt cx="853200" cy="586080"/>
                </a:xfrm>
              </p:grpSpPr>
              <p:sp>
                <p:nvSpPr>
                  <p:cNvPr id="301"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7" name=""/>
            <p:cNvGrpSpPr/>
            <p:nvPr/>
          </p:nvGrpSpPr>
          <p:grpSpPr>
            <a:xfrm>
              <a:off x="6461640" y="2321280"/>
              <a:ext cx="853200" cy="726840"/>
              <a:chOff x="6461640" y="2321280"/>
              <a:chExt cx="853200" cy="726840"/>
            </a:xfrm>
          </p:grpSpPr>
          <p:sp>
            <p:nvSpPr>
              <p:cNvPr id="308"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6461640" y="2321280"/>
                <a:ext cx="853200" cy="726840"/>
                <a:chOff x="6461640" y="2321280"/>
                <a:chExt cx="853200" cy="726840"/>
              </a:xfrm>
            </p:grpSpPr>
            <p:grpSp>
              <p:nvGrpSpPr>
                <p:cNvPr id="310" name=""/>
                <p:cNvGrpSpPr/>
                <p:nvPr/>
              </p:nvGrpSpPr>
              <p:grpSpPr>
                <a:xfrm>
                  <a:off x="6568200" y="2321280"/>
                  <a:ext cx="640080" cy="726840"/>
                  <a:chOff x="6568200" y="2321280"/>
                  <a:chExt cx="640080" cy="726840"/>
                </a:xfrm>
              </p:grpSpPr>
              <p:sp>
                <p:nvSpPr>
                  <p:cNvPr id="311"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6461640" y="2391480"/>
                  <a:ext cx="853200" cy="586080"/>
                  <a:chOff x="6461640" y="2391480"/>
                  <a:chExt cx="853200" cy="586080"/>
                </a:xfrm>
              </p:grpSpPr>
              <p:sp>
                <p:nvSpPr>
                  <p:cNvPr id="318"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4"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6781320" y="2590920"/>
            <a:ext cx="1067040" cy="914400"/>
            <a:chOff x="6781320" y="2590920"/>
            <a:chExt cx="1067040" cy="914400"/>
          </a:xfrm>
        </p:grpSpPr>
        <p:grpSp>
          <p:nvGrpSpPr>
            <p:cNvPr id="326" name=""/>
            <p:cNvGrpSpPr/>
            <p:nvPr/>
          </p:nvGrpSpPr>
          <p:grpSpPr>
            <a:xfrm>
              <a:off x="6781320" y="2590920"/>
              <a:ext cx="853920" cy="726840"/>
              <a:chOff x="6781320" y="2590920"/>
              <a:chExt cx="853920" cy="726840"/>
            </a:xfrm>
          </p:grpSpPr>
          <p:sp>
            <p:nvSpPr>
              <p:cNvPr id="327"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 name=""/>
              <p:cNvGrpSpPr/>
              <p:nvPr/>
            </p:nvGrpSpPr>
            <p:grpSpPr>
              <a:xfrm>
                <a:off x="6781320" y="2590920"/>
                <a:ext cx="853560" cy="726840"/>
                <a:chOff x="6781320" y="2590920"/>
                <a:chExt cx="853560" cy="726840"/>
              </a:xfrm>
            </p:grpSpPr>
            <p:grpSp>
              <p:nvGrpSpPr>
                <p:cNvPr id="329" name=""/>
                <p:cNvGrpSpPr/>
                <p:nvPr/>
              </p:nvGrpSpPr>
              <p:grpSpPr>
                <a:xfrm>
                  <a:off x="6888240" y="2590920"/>
                  <a:ext cx="640080" cy="726840"/>
                  <a:chOff x="6888240" y="2590920"/>
                  <a:chExt cx="640080" cy="726840"/>
                </a:xfrm>
              </p:grpSpPr>
              <p:sp>
                <p:nvSpPr>
                  <p:cNvPr id="330"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6" name=""/>
                <p:cNvGrpSpPr/>
                <p:nvPr/>
              </p:nvGrpSpPr>
              <p:grpSpPr>
                <a:xfrm>
                  <a:off x="6781320" y="2661120"/>
                  <a:ext cx="853560" cy="586080"/>
                  <a:chOff x="6781320" y="2661120"/>
                  <a:chExt cx="853560" cy="586080"/>
                </a:xfrm>
              </p:grpSpPr>
              <p:sp>
                <p:nvSpPr>
                  <p:cNvPr id="337"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3" name=""/>
            <p:cNvGrpSpPr/>
            <p:nvPr/>
          </p:nvGrpSpPr>
          <p:grpSpPr>
            <a:xfrm>
              <a:off x="6834600" y="2637720"/>
              <a:ext cx="853920" cy="726840"/>
              <a:chOff x="6834600" y="2637720"/>
              <a:chExt cx="853920" cy="726840"/>
            </a:xfrm>
          </p:grpSpPr>
          <p:sp>
            <p:nvSpPr>
              <p:cNvPr id="344"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6834600" y="2637720"/>
                <a:ext cx="853560" cy="726840"/>
                <a:chOff x="6834600" y="2637720"/>
                <a:chExt cx="853560" cy="726840"/>
              </a:xfrm>
            </p:grpSpPr>
            <p:grpSp>
              <p:nvGrpSpPr>
                <p:cNvPr id="346" name=""/>
                <p:cNvGrpSpPr/>
                <p:nvPr/>
              </p:nvGrpSpPr>
              <p:grpSpPr>
                <a:xfrm>
                  <a:off x="6941520" y="2637720"/>
                  <a:ext cx="640080" cy="726840"/>
                  <a:chOff x="6941520" y="2637720"/>
                  <a:chExt cx="640080" cy="726840"/>
                </a:xfrm>
              </p:grpSpPr>
              <p:sp>
                <p:nvSpPr>
                  <p:cNvPr id="347"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 name=""/>
                <p:cNvGrpSpPr/>
                <p:nvPr/>
              </p:nvGrpSpPr>
              <p:grpSpPr>
                <a:xfrm>
                  <a:off x="6834600" y="2707920"/>
                  <a:ext cx="853560" cy="586080"/>
                  <a:chOff x="6834600" y="2707920"/>
                  <a:chExt cx="853560" cy="586080"/>
                </a:xfrm>
              </p:grpSpPr>
              <p:sp>
                <p:nvSpPr>
                  <p:cNvPr id="354"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6888240" y="2684520"/>
              <a:ext cx="853920" cy="726840"/>
              <a:chOff x="6888240" y="2684520"/>
              <a:chExt cx="853920" cy="726840"/>
            </a:xfrm>
          </p:grpSpPr>
          <p:sp>
            <p:nvSpPr>
              <p:cNvPr id="361"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6888240" y="2684520"/>
                <a:ext cx="853920" cy="726840"/>
                <a:chOff x="6888240" y="2684520"/>
                <a:chExt cx="853920" cy="726840"/>
              </a:xfrm>
            </p:grpSpPr>
            <p:grpSp>
              <p:nvGrpSpPr>
                <p:cNvPr id="363" name=""/>
                <p:cNvGrpSpPr/>
                <p:nvPr/>
              </p:nvGrpSpPr>
              <p:grpSpPr>
                <a:xfrm>
                  <a:off x="6994800" y="2684520"/>
                  <a:ext cx="640440" cy="726840"/>
                  <a:chOff x="6994800" y="2684520"/>
                  <a:chExt cx="640440" cy="726840"/>
                </a:xfrm>
              </p:grpSpPr>
              <p:sp>
                <p:nvSpPr>
                  <p:cNvPr id="364"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888240" y="2754720"/>
                  <a:ext cx="853920" cy="586080"/>
                  <a:chOff x="6888240" y="2754720"/>
                  <a:chExt cx="853920" cy="586080"/>
                </a:xfrm>
              </p:grpSpPr>
              <p:sp>
                <p:nvSpPr>
                  <p:cNvPr id="371"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7" name=""/>
            <p:cNvGrpSpPr/>
            <p:nvPr/>
          </p:nvGrpSpPr>
          <p:grpSpPr>
            <a:xfrm>
              <a:off x="6941160" y="2731320"/>
              <a:ext cx="853920" cy="726840"/>
              <a:chOff x="6941160" y="2731320"/>
              <a:chExt cx="853920" cy="726840"/>
            </a:xfrm>
          </p:grpSpPr>
          <p:sp>
            <p:nvSpPr>
              <p:cNvPr id="378"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6941160" y="2731320"/>
                <a:ext cx="853560" cy="726840"/>
                <a:chOff x="6941160" y="2731320"/>
                <a:chExt cx="853560" cy="726840"/>
              </a:xfrm>
            </p:grpSpPr>
            <p:grpSp>
              <p:nvGrpSpPr>
                <p:cNvPr id="380" name=""/>
                <p:cNvGrpSpPr/>
                <p:nvPr/>
              </p:nvGrpSpPr>
              <p:grpSpPr>
                <a:xfrm>
                  <a:off x="7048080" y="2731320"/>
                  <a:ext cx="640080" cy="726840"/>
                  <a:chOff x="7048080" y="2731320"/>
                  <a:chExt cx="640080" cy="726840"/>
                </a:xfrm>
              </p:grpSpPr>
              <p:sp>
                <p:nvSpPr>
                  <p:cNvPr id="381"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6941160" y="2801520"/>
                  <a:ext cx="853560" cy="586080"/>
                  <a:chOff x="6941160" y="2801520"/>
                  <a:chExt cx="853560" cy="586080"/>
                </a:xfrm>
              </p:grpSpPr>
              <p:sp>
                <p:nvSpPr>
                  <p:cNvPr id="388"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4" name=""/>
            <p:cNvGrpSpPr/>
            <p:nvPr/>
          </p:nvGrpSpPr>
          <p:grpSpPr>
            <a:xfrm>
              <a:off x="6994440" y="2778480"/>
              <a:ext cx="853920" cy="726840"/>
              <a:chOff x="6994440" y="2778480"/>
              <a:chExt cx="853920" cy="726840"/>
            </a:xfrm>
          </p:grpSpPr>
          <p:sp>
            <p:nvSpPr>
              <p:cNvPr id="395"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6994440" y="2778480"/>
                <a:ext cx="853560" cy="726840"/>
                <a:chOff x="6994440" y="2778480"/>
                <a:chExt cx="853560" cy="726840"/>
              </a:xfrm>
            </p:grpSpPr>
            <p:grpSp>
              <p:nvGrpSpPr>
                <p:cNvPr id="397" name=""/>
                <p:cNvGrpSpPr/>
                <p:nvPr/>
              </p:nvGrpSpPr>
              <p:grpSpPr>
                <a:xfrm>
                  <a:off x="7101360" y="2778480"/>
                  <a:ext cx="640080" cy="726840"/>
                  <a:chOff x="7101360" y="2778480"/>
                  <a:chExt cx="640080" cy="726840"/>
                </a:xfrm>
              </p:grpSpPr>
              <p:sp>
                <p:nvSpPr>
                  <p:cNvPr id="398"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6994440" y="2848680"/>
                  <a:ext cx="853560" cy="586080"/>
                  <a:chOff x="6994440" y="2848680"/>
                  <a:chExt cx="853560" cy="586080"/>
                </a:xfrm>
              </p:grpSpPr>
              <p:sp>
                <p:nvSpPr>
                  <p:cNvPr id="405"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11"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3"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4" name=""/>
          <p:cNvGrpSpPr/>
          <p:nvPr/>
        </p:nvGrpSpPr>
        <p:grpSpPr>
          <a:xfrm>
            <a:off x="5410080" y="4343400"/>
            <a:ext cx="533520" cy="457200"/>
            <a:chOff x="5410080" y="4343400"/>
            <a:chExt cx="533520" cy="457200"/>
          </a:xfrm>
        </p:grpSpPr>
        <p:grpSp>
          <p:nvGrpSpPr>
            <p:cNvPr id="415" name=""/>
            <p:cNvGrpSpPr/>
            <p:nvPr/>
          </p:nvGrpSpPr>
          <p:grpSpPr>
            <a:xfrm>
              <a:off x="5410080" y="4343400"/>
              <a:ext cx="426960" cy="363600"/>
              <a:chOff x="5410080" y="4343400"/>
              <a:chExt cx="426960" cy="363600"/>
            </a:xfrm>
          </p:grpSpPr>
          <p:sp>
            <p:nvSpPr>
              <p:cNvPr id="416"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7" name=""/>
              <p:cNvGrpSpPr/>
              <p:nvPr/>
            </p:nvGrpSpPr>
            <p:grpSpPr>
              <a:xfrm>
                <a:off x="5410080" y="4343400"/>
                <a:ext cx="426960" cy="363600"/>
                <a:chOff x="5410080" y="4343400"/>
                <a:chExt cx="426960" cy="363600"/>
              </a:xfrm>
            </p:grpSpPr>
            <p:grpSp>
              <p:nvGrpSpPr>
                <p:cNvPr id="418" name=""/>
                <p:cNvGrpSpPr/>
                <p:nvPr/>
              </p:nvGrpSpPr>
              <p:grpSpPr>
                <a:xfrm>
                  <a:off x="5463360" y="4343400"/>
                  <a:ext cx="320400" cy="363600"/>
                  <a:chOff x="5463360" y="4343400"/>
                  <a:chExt cx="320400" cy="363600"/>
                </a:xfrm>
              </p:grpSpPr>
              <p:sp>
                <p:nvSpPr>
                  <p:cNvPr id="419"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5" name=""/>
                <p:cNvGrpSpPr/>
                <p:nvPr/>
              </p:nvGrpSpPr>
              <p:grpSpPr>
                <a:xfrm>
                  <a:off x="5410080" y="4378320"/>
                  <a:ext cx="426960" cy="293400"/>
                  <a:chOff x="5410080" y="4378320"/>
                  <a:chExt cx="426960" cy="293400"/>
                </a:xfrm>
              </p:grpSpPr>
              <p:sp>
                <p:nvSpPr>
                  <p:cNvPr id="426"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2" name=""/>
            <p:cNvGrpSpPr/>
            <p:nvPr/>
          </p:nvGrpSpPr>
          <p:grpSpPr>
            <a:xfrm>
              <a:off x="5436720" y="4366800"/>
              <a:ext cx="426960" cy="363600"/>
              <a:chOff x="5436720" y="4366800"/>
              <a:chExt cx="426960" cy="363600"/>
            </a:xfrm>
          </p:grpSpPr>
          <p:sp>
            <p:nvSpPr>
              <p:cNvPr id="433"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5436720" y="4366800"/>
                <a:ext cx="426960" cy="363600"/>
                <a:chOff x="5436720" y="4366800"/>
                <a:chExt cx="426960" cy="363600"/>
              </a:xfrm>
            </p:grpSpPr>
            <p:grpSp>
              <p:nvGrpSpPr>
                <p:cNvPr id="435" name=""/>
                <p:cNvGrpSpPr/>
                <p:nvPr/>
              </p:nvGrpSpPr>
              <p:grpSpPr>
                <a:xfrm>
                  <a:off x="5490000" y="4366800"/>
                  <a:ext cx="320400" cy="363600"/>
                  <a:chOff x="5490000" y="4366800"/>
                  <a:chExt cx="320400" cy="363600"/>
                </a:xfrm>
              </p:grpSpPr>
              <p:sp>
                <p:nvSpPr>
                  <p:cNvPr id="436"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2" name=""/>
                <p:cNvGrpSpPr/>
                <p:nvPr/>
              </p:nvGrpSpPr>
              <p:grpSpPr>
                <a:xfrm>
                  <a:off x="5436720" y="4401720"/>
                  <a:ext cx="426960" cy="293400"/>
                  <a:chOff x="5436720" y="4401720"/>
                  <a:chExt cx="426960" cy="293400"/>
                </a:xfrm>
              </p:grpSpPr>
              <p:sp>
                <p:nvSpPr>
                  <p:cNvPr id="443"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9" name=""/>
            <p:cNvGrpSpPr/>
            <p:nvPr/>
          </p:nvGrpSpPr>
          <p:grpSpPr>
            <a:xfrm>
              <a:off x="5463360" y="4390200"/>
              <a:ext cx="426960" cy="363600"/>
              <a:chOff x="5463360" y="4390200"/>
              <a:chExt cx="426960" cy="363600"/>
            </a:xfrm>
          </p:grpSpPr>
          <p:sp>
            <p:nvSpPr>
              <p:cNvPr id="450"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5463360" y="4390200"/>
                <a:ext cx="426960" cy="363600"/>
                <a:chOff x="5463360" y="4390200"/>
                <a:chExt cx="426960" cy="363600"/>
              </a:xfrm>
            </p:grpSpPr>
            <p:grpSp>
              <p:nvGrpSpPr>
                <p:cNvPr id="452" name=""/>
                <p:cNvGrpSpPr/>
                <p:nvPr/>
              </p:nvGrpSpPr>
              <p:grpSpPr>
                <a:xfrm>
                  <a:off x="5516640" y="4390200"/>
                  <a:ext cx="320400" cy="363600"/>
                  <a:chOff x="5516640" y="4390200"/>
                  <a:chExt cx="320400" cy="363600"/>
                </a:xfrm>
              </p:grpSpPr>
              <p:sp>
                <p:nvSpPr>
                  <p:cNvPr id="453"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9" name=""/>
                <p:cNvGrpSpPr/>
                <p:nvPr/>
              </p:nvGrpSpPr>
              <p:grpSpPr>
                <a:xfrm>
                  <a:off x="5463360" y="4425120"/>
                  <a:ext cx="426960" cy="293400"/>
                  <a:chOff x="5463360" y="4425120"/>
                  <a:chExt cx="426960" cy="293400"/>
                </a:xfrm>
              </p:grpSpPr>
              <p:sp>
                <p:nvSpPr>
                  <p:cNvPr id="460"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6" name=""/>
            <p:cNvGrpSpPr/>
            <p:nvPr/>
          </p:nvGrpSpPr>
          <p:grpSpPr>
            <a:xfrm>
              <a:off x="5490000" y="4413600"/>
              <a:ext cx="426960" cy="363600"/>
              <a:chOff x="5490000" y="4413600"/>
              <a:chExt cx="426960" cy="363600"/>
            </a:xfrm>
          </p:grpSpPr>
          <p:sp>
            <p:nvSpPr>
              <p:cNvPr id="467"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5490000" y="4413600"/>
                <a:ext cx="426960" cy="363600"/>
                <a:chOff x="5490000" y="4413600"/>
                <a:chExt cx="426960" cy="363600"/>
              </a:xfrm>
            </p:grpSpPr>
            <p:grpSp>
              <p:nvGrpSpPr>
                <p:cNvPr id="469" name=""/>
                <p:cNvGrpSpPr/>
                <p:nvPr/>
              </p:nvGrpSpPr>
              <p:grpSpPr>
                <a:xfrm>
                  <a:off x="5543280" y="4413600"/>
                  <a:ext cx="320400" cy="363600"/>
                  <a:chOff x="5543280" y="4413600"/>
                  <a:chExt cx="320400" cy="363600"/>
                </a:xfrm>
              </p:grpSpPr>
              <p:sp>
                <p:nvSpPr>
                  <p:cNvPr id="470"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6" name=""/>
                <p:cNvGrpSpPr/>
                <p:nvPr/>
              </p:nvGrpSpPr>
              <p:grpSpPr>
                <a:xfrm>
                  <a:off x="5490000" y="4448520"/>
                  <a:ext cx="426960" cy="293400"/>
                  <a:chOff x="5490000" y="4448520"/>
                  <a:chExt cx="426960" cy="293400"/>
                </a:xfrm>
              </p:grpSpPr>
              <p:sp>
                <p:nvSpPr>
                  <p:cNvPr id="477"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3" name=""/>
            <p:cNvGrpSpPr/>
            <p:nvPr/>
          </p:nvGrpSpPr>
          <p:grpSpPr>
            <a:xfrm>
              <a:off x="5516640" y="4437000"/>
              <a:ext cx="426960" cy="363600"/>
              <a:chOff x="5516640" y="4437000"/>
              <a:chExt cx="426960" cy="363600"/>
            </a:xfrm>
          </p:grpSpPr>
          <p:sp>
            <p:nvSpPr>
              <p:cNvPr id="484"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5516640" y="4437000"/>
                <a:ext cx="426960" cy="363600"/>
                <a:chOff x="5516640" y="4437000"/>
                <a:chExt cx="426960" cy="363600"/>
              </a:xfrm>
            </p:grpSpPr>
            <p:grpSp>
              <p:nvGrpSpPr>
                <p:cNvPr id="486" name=""/>
                <p:cNvGrpSpPr/>
                <p:nvPr/>
              </p:nvGrpSpPr>
              <p:grpSpPr>
                <a:xfrm>
                  <a:off x="5569920" y="4437000"/>
                  <a:ext cx="320400" cy="363600"/>
                  <a:chOff x="5569920" y="4437000"/>
                  <a:chExt cx="320400" cy="363600"/>
                </a:xfrm>
              </p:grpSpPr>
              <p:sp>
                <p:nvSpPr>
                  <p:cNvPr id="487"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5516640" y="4471920"/>
                  <a:ext cx="426960" cy="293400"/>
                  <a:chOff x="5516640" y="4471920"/>
                  <a:chExt cx="426960" cy="293400"/>
                </a:xfrm>
              </p:grpSpPr>
              <p:sp>
                <p:nvSpPr>
                  <p:cNvPr id="494"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00"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1" name=""/>
          <p:cNvGrpSpPr/>
          <p:nvPr/>
        </p:nvGrpSpPr>
        <p:grpSpPr>
          <a:xfrm>
            <a:off x="5943600" y="4800600"/>
            <a:ext cx="533520" cy="457200"/>
            <a:chOff x="5943600" y="4800600"/>
            <a:chExt cx="533520" cy="457200"/>
          </a:xfrm>
        </p:grpSpPr>
        <p:grpSp>
          <p:nvGrpSpPr>
            <p:cNvPr id="502" name=""/>
            <p:cNvGrpSpPr/>
            <p:nvPr/>
          </p:nvGrpSpPr>
          <p:grpSpPr>
            <a:xfrm>
              <a:off x="5943600" y="4800600"/>
              <a:ext cx="426960" cy="363600"/>
              <a:chOff x="5943600" y="4800600"/>
              <a:chExt cx="426960" cy="363600"/>
            </a:xfrm>
          </p:grpSpPr>
          <p:sp>
            <p:nvSpPr>
              <p:cNvPr id="503"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5943600" y="4800600"/>
                <a:ext cx="426960" cy="363600"/>
                <a:chOff x="5943600" y="4800600"/>
                <a:chExt cx="426960" cy="363600"/>
              </a:xfrm>
            </p:grpSpPr>
            <p:grpSp>
              <p:nvGrpSpPr>
                <p:cNvPr id="505" name=""/>
                <p:cNvGrpSpPr/>
                <p:nvPr/>
              </p:nvGrpSpPr>
              <p:grpSpPr>
                <a:xfrm>
                  <a:off x="5996880" y="4800600"/>
                  <a:ext cx="320400" cy="363600"/>
                  <a:chOff x="5996880" y="4800600"/>
                  <a:chExt cx="320400" cy="363600"/>
                </a:xfrm>
              </p:grpSpPr>
              <p:sp>
                <p:nvSpPr>
                  <p:cNvPr id="506"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2" name=""/>
                <p:cNvGrpSpPr/>
                <p:nvPr/>
              </p:nvGrpSpPr>
              <p:grpSpPr>
                <a:xfrm>
                  <a:off x="5943600" y="4835520"/>
                  <a:ext cx="426960" cy="293400"/>
                  <a:chOff x="5943600" y="4835520"/>
                  <a:chExt cx="426960" cy="293400"/>
                </a:xfrm>
              </p:grpSpPr>
              <p:sp>
                <p:nvSpPr>
                  <p:cNvPr id="513"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9" name=""/>
            <p:cNvGrpSpPr/>
            <p:nvPr/>
          </p:nvGrpSpPr>
          <p:grpSpPr>
            <a:xfrm>
              <a:off x="5970240" y="4824000"/>
              <a:ext cx="426960" cy="363600"/>
              <a:chOff x="5970240" y="4824000"/>
              <a:chExt cx="426960" cy="363600"/>
            </a:xfrm>
          </p:grpSpPr>
          <p:sp>
            <p:nvSpPr>
              <p:cNvPr id="520"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5970240" y="4824000"/>
                <a:ext cx="426960" cy="363600"/>
                <a:chOff x="5970240" y="4824000"/>
                <a:chExt cx="426960" cy="363600"/>
              </a:xfrm>
            </p:grpSpPr>
            <p:grpSp>
              <p:nvGrpSpPr>
                <p:cNvPr id="522" name=""/>
                <p:cNvGrpSpPr/>
                <p:nvPr/>
              </p:nvGrpSpPr>
              <p:grpSpPr>
                <a:xfrm>
                  <a:off x="6023520" y="4824000"/>
                  <a:ext cx="320400" cy="363600"/>
                  <a:chOff x="6023520" y="4824000"/>
                  <a:chExt cx="320400" cy="363600"/>
                </a:xfrm>
              </p:grpSpPr>
              <p:sp>
                <p:nvSpPr>
                  <p:cNvPr id="523"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9" name=""/>
                <p:cNvGrpSpPr/>
                <p:nvPr/>
              </p:nvGrpSpPr>
              <p:grpSpPr>
                <a:xfrm>
                  <a:off x="5970240" y="4858920"/>
                  <a:ext cx="426960" cy="293400"/>
                  <a:chOff x="5970240" y="4858920"/>
                  <a:chExt cx="426960" cy="293400"/>
                </a:xfrm>
              </p:grpSpPr>
              <p:sp>
                <p:nvSpPr>
                  <p:cNvPr id="530"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6" name=""/>
            <p:cNvGrpSpPr/>
            <p:nvPr/>
          </p:nvGrpSpPr>
          <p:grpSpPr>
            <a:xfrm>
              <a:off x="5996880" y="4847400"/>
              <a:ext cx="426960" cy="363600"/>
              <a:chOff x="5996880" y="4847400"/>
              <a:chExt cx="426960" cy="363600"/>
            </a:xfrm>
          </p:grpSpPr>
          <p:sp>
            <p:nvSpPr>
              <p:cNvPr id="537"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8" name=""/>
              <p:cNvGrpSpPr/>
              <p:nvPr/>
            </p:nvGrpSpPr>
            <p:grpSpPr>
              <a:xfrm>
                <a:off x="5996880" y="4847400"/>
                <a:ext cx="426960" cy="363600"/>
                <a:chOff x="5996880" y="4847400"/>
                <a:chExt cx="426960" cy="363600"/>
              </a:xfrm>
            </p:grpSpPr>
            <p:grpSp>
              <p:nvGrpSpPr>
                <p:cNvPr id="539" name=""/>
                <p:cNvGrpSpPr/>
                <p:nvPr/>
              </p:nvGrpSpPr>
              <p:grpSpPr>
                <a:xfrm>
                  <a:off x="6050160" y="4847400"/>
                  <a:ext cx="320400" cy="363600"/>
                  <a:chOff x="6050160" y="4847400"/>
                  <a:chExt cx="320400" cy="363600"/>
                </a:xfrm>
              </p:grpSpPr>
              <p:sp>
                <p:nvSpPr>
                  <p:cNvPr id="540"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6" name=""/>
                <p:cNvGrpSpPr/>
                <p:nvPr/>
              </p:nvGrpSpPr>
              <p:grpSpPr>
                <a:xfrm>
                  <a:off x="5996880" y="4882320"/>
                  <a:ext cx="426960" cy="293400"/>
                  <a:chOff x="5996880" y="4882320"/>
                  <a:chExt cx="426960" cy="293400"/>
                </a:xfrm>
              </p:grpSpPr>
              <p:sp>
                <p:nvSpPr>
                  <p:cNvPr id="547"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3" name=""/>
            <p:cNvGrpSpPr/>
            <p:nvPr/>
          </p:nvGrpSpPr>
          <p:grpSpPr>
            <a:xfrm>
              <a:off x="6023520" y="4870800"/>
              <a:ext cx="426960" cy="363600"/>
              <a:chOff x="6023520" y="4870800"/>
              <a:chExt cx="426960" cy="363600"/>
            </a:xfrm>
          </p:grpSpPr>
          <p:sp>
            <p:nvSpPr>
              <p:cNvPr id="554"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 name=""/>
              <p:cNvGrpSpPr/>
              <p:nvPr/>
            </p:nvGrpSpPr>
            <p:grpSpPr>
              <a:xfrm>
                <a:off x="6023520" y="4870800"/>
                <a:ext cx="426960" cy="363600"/>
                <a:chOff x="6023520" y="4870800"/>
                <a:chExt cx="426960" cy="363600"/>
              </a:xfrm>
            </p:grpSpPr>
            <p:grpSp>
              <p:nvGrpSpPr>
                <p:cNvPr id="556" name=""/>
                <p:cNvGrpSpPr/>
                <p:nvPr/>
              </p:nvGrpSpPr>
              <p:grpSpPr>
                <a:xfrm>
                  <a:off x="6076800" y="4870800"/>
                  <a:ext cx="320400" cy="363600"/>
                  <a:chOff x="6076800" y="4870800"/>
                  <a:chExt cx="320400" cy="363600"/>
                </a:xfrm>
              </p:grpSpPr>
              <p:sp>
                <p:nvSpPr>
                  <p:cNvPr id="557"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3" name=""/>
                <p:cNvGrpSpPr/>
                <p:nvPr/>
              </p:nvGrpSpPr>
              <p:grpSpPr>
                <a:xfrm>
                  <a:off x="6023520" y="4905720"/>
                  <a:ext cx="426960" cy="293400"/>
                  <a:chOff x="6023520" y="4905720"/>
                  <a:chExt cx="426960" cy="293400"/>
                </a:xfrm>
              </p:grpSpPr>
              <p:sp>
                <p:nvSpPr>
                  <p:cNvPr id="564"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70" name=""/>
            <p:cNvGrpSpPr/>
            <p:nvPr/>
          </p:nvGrpSpPr>
          <p:grpSpPr>
            <a:xfrm>
              <a:off x="6050160" y="4894200"/>
              <a:ext cx="426960" cy="363600"/>
              <a:chOff x="6050160" y="4894200"/>
              <a:chExt cx="426960" cy="363600"/>
            </a:xfrm>
          </p:grpSpPr>
          <p:sp>
            <p:nvSpPr>
              <p:cNvPr id="571"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6050160" y="4894200"/>
                <a:ext cx="426960" cy="363600"/>
                <a:chOff x="6050160" y="4894200"/>
                <a:chExt cx="426960" cy="363600"/>
              </a:xfrm>
            </p:grpSpPr>
            <p:grpSp>
              <p:nvGrpSpPr>
                <p:cNvPr id="573" name=""/>
                <p:cNvGrpSpPr/>
                <p:nvPr/>
              </p:nvGrpSpPr>
              <p:grpSpPr>
                <a:xfrm>
                  <a:off x="6103440" y="4894200"/>
                  <a:ext cx="320400" cy="363600"/>
                  <a:chOff x="6103440" y="4894200"/>
                  <a:chExt cx="320400" cy="363600"/>
                </a:xfrm>
              </p:grpSpPr>
              <p:sp>
                <p:nvSpPr>
                  <p:cNvPr id="574"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6050160" y="4929120"/>
                  <a:ext cx="426960" cy="293400"/>
                  <a:chOff x="6050160" y="4929120"/>
                  <a:chExt cx="426960" cy="293400"/>
                </a:xfrm>
              </p:grpSpPr>
              <p:sp>
                <p:nvSpPr>
                  <p:cNvPr id="581"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7"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6476760" y="5257800"/>
            <a:ext cx="533520" cy="457200"/>
            <a:chOff x="6476760" y="5257800"/>
            <a:chExt cx="533520" cy="457200"/>
          </a:xfrm>
        </p:grpSpPr>
        <p:grpSp>
          <p:nvGrpSpPr>
            <p:cNvPr id="589" name=""/>
            <p:cNvGrpSpPr/>
            <p:nvPr/>
          </p:nvGrpSpPr>
          <p:grpSpPr>
            <a:xfrm>
              <a:off x="6476760" y="5257800"/>
              <a:ext cx="426960" cy="363600"/>
              <a:chOff x="6476760" y="5257800"/>
              <a:chExt cx="426960" cy="363600"/>
            </a:xfrm>
          </p:grpSpPr>
          <p:sp>
            <p:nvSpPr>
              <p:cNvPr id="590"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 name=""/>
              <p:cNvGrpSpPr/>
              <p:nvPr/>
            </p:nvGrpSpPr>
            <p:grpSpPr>
              <a:xfrm>
                <a:off x="6476760" y="5257800"/>
                <a:ext cx="426600" cy="363600"/>
                <a:chOff x="6476760" y="5257800"/>
                <a:chExt cx="426600" cy="363600"/>
              </a:xfrm>
            </p:grpSpPr>
            <p:grpSp>
              <p:nvGrpSpPr>
                <p:cNvPr id="592" name=""/>
                <p:cNvGrpSpPr/>
                <p:nvPr/>
              </p:nvGrpSpPr>
              <p:grpSpPr>
                <a:xfrm>
                  <a:off x="6530400" y="5257800"/>
                  <a:ext cx="320040" cy="363600"/>
                  <a:chOff x="6530400" y="5257800"/>
                  <a:chExt cx="320040" cy="363600"/>
                </a:xfrm>
              </p:grpSpPr>
              <p:sp>
                <p:nvSpPr>
                  <p:cNvPr id="593"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6476760" y="5292720"/>
                  <a:ext cx="426600" cy="293400"/>
                  <a:chOff x="6476760" y="5292720"/>
                  <a:chExt cx="426600" cy="293400"/>
                </a:xfrm>
              </p:grpSpPr>
              <p:sp>
                <p:nvSpPr>
                  <p:cNvPr id="600"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6" name=""/>
            <p:cNvGrpSpPr/>
            <p:nvPr/>
          </p:nvGrpSpPr>
          <p:grpSpPr>
            <a:xfrm>
              <a:off x="6503400" y="5281200"/>
              <a:ext cx="426960" cy="363600"/>
              <a:chOff x="6503400" y="5281200"/>
              <a:chExt cx="426960" cy="363600"/>
            </a:xfrm>
          </p:grpSpPr>
          <p:sp>
            <p:nvSpPr>
              <p:cNvPr id="607"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6503400" y="5281200"/>
                <a:ext cx="426600" cy="363600"/>
                <a:chOff x="6503400" y="5281200"/>
                <a:chExt cx="426600" cy="363600"/>
              </a:xfrm>
            </p:grpSpPr>
            <p:grpSp>
              <p:nvGrpSpPr>
                <p:cNvPr id="609" name=""/>
                <p:cNvGrpSpPr/>
                <p:nvPr/>
              </p:nvGrpSpPr>
              <p:grpSpPr>
                <a:xfrm>
                  <a:off x="6557040" y="5281200"/>
                  <a:ext cx="320040" cy="363600"/>
                  <a:chOff x="6557040" y="5281200"/>
                  <a:chExt cx="320040" cy="363600"/>
                </a:xfrm>
              </p:grpSpPr>
              <p:sp>
                <p:nvSpPr>
                  <p:cNvPr id="610"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6503400" y="5316120"/>
                  <a:ext cx="426600" cy="293400"/>
                  <a:chOff x="6503400" y="5316120"/>
                  <a:chExt cx="426600" cy="293400"/>
                </a:xfrm>
              </p:grpSpPr>
              <p:sp>
                <p:nvSpPr>
                  <p:cNvPr id="617"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3" name=""/>
            <p:cNvGrpSpPr/>
            <p:nvPr/>
          </p:nvGrpSpPr>
          <p:grpSpPr>
            <a:xfrm>
              <a:off x="6530040" y="5304600"/>
              <a:ext cx="426960" cy="363600"/>
              <a:chOff x="6530040" y="5304600"/>
              <a:chExt cx="426960" cy="363600"/>
            </a:xfrm>
          </p:grpSpPr>
          <p:sp>
            <p:nvSpPr>
              <p:cNvPr id="624"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6530040" y="5304600"/>
                <a:ext cx="426600" cy="363600"/>
                <a:chOff x="6530040" y="5304600"/>
                <a:chExt cx="426600" cy="363600"/>
              </a:xfrm>
            </p:grpSpPr>
            <p:grpSp>
              <p:nvGrpSpPr>
                <p:cNvPr id="626" name=""/>
                <p:cNvGrpSpPr/>
                <p:nvPr/>
              </p:nvGrpSpPr>
              <p:grpSpPr>
                <a:xfrm>
                  <a:off x="6583680" y="5304600"/>
                  <a:ext cx="320040" cy="363600"/>
                  <a:chOff x="6583680" y="5304600"/>
                  <a:chExt cx="320040" cy="363600"/>
                </a:xfrm>
              </p:grpSpPr>
              <p:sp>
                <p:nvSpPr>
                  <p:cNvPr id="627"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3" name=""/>
                <p:cNvGrpSpPr/>
                <p:nvPr/>
              </p:nvGrpSpPr>
              <p:grpSpPr>
                <a:xfrm>
                  <a:off x="6530040" y="5339520"/>
                  <a:ext cx="426600" cy="293400"/>
                  <a:chOff x="6530040" y="5339520"/>
                  <a:chExt cx="426600" cy="293400"/>
                </a:xfrm>
              </p:grpSpPr>
              <p:sp>
                <p:nvSpPr>
                  <p:cNvPr id="634"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40" name=""/>
            <p:cNvGrpSpPr/>
            <p:nvPr/>
          </p:nvGrpSpPr>
          <p:grpSpPr>
            <a:xfrm>
              <a:off x="6556680" y="5328000"/>
              <a:ext cx="426960" cy="363600"/>
              <a:chOff x="6556680" y="5328000"/>
              <a:chExt cx="426960" cy="363600"/>
            </a:xfrm>
          </p:grpSpPr>
          <p:sp>
            <p:nvSpPr>
              <p:cNvPr id="641"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
              <p:cNvGrpSpPr/>
              <p:nvPr/>
            </p:nvGrpSpPr>
            <p:grpSpPr>
              <a:xfrm>
                <a:off x="6556680" y="5328000"/>
                <a:ext cx="426600" cy="363600"/>
                <a:chOff x="6556680" y="5328000"/>
                <a:chExt cx="426600" cy="363600"/>
              </a:xfrm>
            </p:grpSpPr>
            <p:grpSp>
              <p:nvGrpSpPr>
                <p:cNvPr id="643" name=""/>
                <p:cNvGrpSpPr/>
                <p:nvPr/>
              </p:nvGrpSpPr>
              <p:grpSpPr>
                <a:xfrm>
                  <a:off x="6610320" y="5328000"/>
                  <a:ext cx="320040" cy="363600"/>
                  <a:chOff x="6610320" y="5328000"/>
                  <a:chExt cx="320040" cy="363600"/>
                </a:xfrm>
              </p:grpSpPr>
              <p:sp>
                <p:nvSpPr>
                  <p:cNvPr id="644"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0" name=""/>
                <p:cNvGrpSpPr/>
                <p:nvPr/>
              </p:nvGrpSpPr>
              <p:grpSpPr>
                <a:xfrm>
                  <a:off x="6556680" y="5362920"/>
                  <a:ext cx="426600" cy="293400"/>
                  <a:chOff x="6556680" y="5362920"/>
                  <a:chExt cx="426600" cy="293400"/>
                </a:xfrm>
              </p:grpSpPr>
              <p:sp>
                <p:nvSpPr>
                  <p:cNvPr id="651"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7" name=""/>
            <p:cNvGrpSpPr/>
            <p:nvPr/>
          </p:nvGrpSpPr>
          <p:grpSpPr>
            <a:xfrm>
              <a:off x="6583320" y="5351400"/>
              <a:ext cx="426960" cy="363600"/>
              <a:chOff x="6583320" y="5351400"/>
              <a:chExt cx="426960" cy="363600"/>
            </a:xfrm>
          </p:grpSpPr>
          <p:sp>
            <p:nvSpPr>
              <p:cNvPr id="658"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
              <p:cNvGrpSpPr/>
              <p:nvPr/>
            </p:nvGrpSpPr>
            <p:grpSpPr>
              <a:xfrm>
                <a:off x="6583320" y="5351400"/>
                <a:ext cx="426600" cy="363600"/>
                <a:chOff x="6583320" y="5351400"/>
                <a:chExt cx="426600" cy="363600"/>
              </a:xfrm>
            </p:grpSpPr>
            <p:grpSp>
              <p:nvGrpSpPr>
                <p:cNvPr id="660" name=""/>
                <p:cNvGrpSpPr/>
                <p:nvPr/>
              </p:nvGrpSpPr>
              <p:grpSpPr>
                <a:xfrm>
                  <a:off x="6636960" y="5351400"/>
                  <a:ext cx="320040" cy="363600"/>
                  <a:chOff x="6636960" y="5351400"/>
                  <a:chExt cx="320040" cy="363600"/>
                </a:xfrm>
              </p:grpSpPr>
              <p:sp>
                <p:nvSpPr>
                  <p:cNvPr id="661"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6583320" y="5386320"/>
                  <a:ext cx="426600" cy="293400"/>
                  <a:chOff x="6583320" y="5386320"/>
                  <a:chExt cx="426600" cy="293400"/>
                </a:xfrm>
              </p:grpSpPr>
              <p:sp>
                <p:nvSpPr>
                  <p:cNvPr id="668"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4"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6400800" y="4343400"/>
            <a:ext cx="533520" cy="457200"/>
            <a:chOff x="6400800" y="4343400"/>
            <a:chExt cx="533520" cy="457200"/>
          </a:xfrm>
        </p:grpSpPr>
        <p:grpSp>
          <p:nvGrpSpPr>
            <p:cNvPr id="676" name=""/>
            <p:cNvGrpSpPr/>
            <p:nvPr/>
          </p:nvGrpSpPr>
          <p:grpSpPr>
            <a:xfrm>
              <a:off x="6400800" y="4343400"/>
              <a:ext cx="426960" cy="363600"/>
              <a:chOff x="6400800" y="4343400"/>
              <a:chExt cx="426960" cy="363600"/>
            </a:xfrm>
          </p:grpSpPr>
          <p:sp>
            <p:nvSpPr>
              <p:cNvPr id="677"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6400800" y="4343400"/>
                <a:ext cx="426960" cy="363600"/>
                <a:chOff x="6400800" y="4343400"/>
                <a:chExt cx="426960" cy="363600"/>
              </a:xfrm>
            </p:grpSpPr>
            <p:grpSp>
              <p:nvGrpSpPr>
                <p:cNvPr id="679" name=""/>
                <p:cNvGrpSpPr/>
                <p:nvPr/>
              </p:nvGrpSpPr>
              <p:grpSpPr>
                <a:xfrm>
                  <a:off x="6454080" y="4343400"/>
                  <a:ext cx="320400" cy="363600"/>
                  <a:chOff x="6454080" y="4343400"/>
                  <a:chExt cx="320400" cy="363600"/>
                </a:xfrm>
              </p:grpSpPr>
              <p:sp>
                <p:nvSpPr>
                  <p:cNvPr id="680"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6400800" y="4378320"/>
                  <a:ext cx="426960" cy="293400"/>
                  <a:chOff x="6400800" y="4378320"/>
                  <a:chExt cx="426960" cy="293400"/>
                </a:xfrm>
              </p:grpSpPr>
              <p:sp>
                <p:nvSpPr>
                  <p:cNvPr id="687"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3" name=""/>
            <p:cNvGrpSpPr/>
            <p:nvPr/>
          </p:nvGrpSpPr>
          <p:grpSpPr>
            <a:xfrm>
              <a:off x="6427440" y="4366800"/>
              <a:ext cx="426960" cy="363600"/>
              <a:chOff x="6427440" y="4366800"/>
              <a:chExt cx="426960" cy="363600"/>
            </a:xfrm>
          </p:grpSpPr>
          <p:sp>
            <p:nvSpPr>
              <p:cNvPr id="694"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5" name=""/>
              <p:cNvGrpSpPr/>
              <p:nvPr/>
            </p:nvGrpSpPr>
            <p:grpSpPr>
              <a:xfrm>
                <a:off x="6427440" y="4366800"/>
                <a:ext cx="426960" cy="363600"/>
                <a:chOff x="6427440" y="4366800"/>
                <a:chExt cx="426960" cy="363600"/>
              </a:xfrm>
            </p:grpSpPr>
            <p:grpSp>
              <p:nvGrpSpPr>
                <p:cNvPr id="696" name=""/>
                <p:cNvGrpSpPr/>
                <p:nvPr/>
              </p:nvGrpSpPr>
              <p:grpSpPr>
                <a:xfrm>
                  <a:off x="6480720" y="4366800"/>
                  <a:ext cx="320400" cy="363600"/>
                  <a:chOff x="6480720" y="4366800"/>
                  <a:chExt cx="320400" cy="363600"/>
                </a:xfrm>
              </p:grpSpPr>
              <p:sp>
                <p:nvSpPr>
                  <p:cNvPr id="697"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6427440" y="4401720"/>
                  <a:ext cx="426960" cy="293400"/>
                  <a:chOff x="6427440" y="4401720"/>
                  <a:chExt cx="426960" cy="293400"/>
                </a:xfrm>
              </p:grpSpPr>
              <p:sp>
                <p:nvSpPr>
                  <p:cNvPr id="704"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10" name=""/>
            <p:cNvGrpSpPr/>
            <p:nvPr/>
          </p:nvGrpSpPr>
          <p:grpSpPr>
            <a:xfrm>
              <a:off x="6454080" y="4390200"/>
              <a:ext cx="426960" cy="363600"/>
              <a:chOff x="6454080" y="4390200"/>
              <a:chExt cx="426960" cy="363600"/>
            </a:xfrm>
          </p:grpSpPr>
          <p:sp>
            <p:nvSpPr>
              <p:cNvPr id="711"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 name=""/>
              <p:cNvGrpSpPr/>
              <p:nvPr/>
            </p:nvGrpSpPr>
            <p:grpSpPr>
              <a:xfrm>
                <a:off x="6454080" y="4390200"/>
                <a:ext cx="426960" cy="363600"/>
                <a:chOff x="6454080" y="4390200"/>
                <a:chExt cx="426960" cy="363600"/>
              </a:xfrm>
            </p:grpSpPr>
            <p:grpSp>
              <p:nvGrpSpPr>
                <p:cNvPr id="713" name=""/>
                <p:cNvGrpSpPr/>
                <p:nvPr/>
              </p:nvGrpSpPr>
              <p:grpSpPr>
                <a:xfrm>
                  <a:off x="6507360" y="4390200"/>
                  <a:ext cx="320400" cy="363600"/>
                  <a:chOff x="6507360" y="4390200"/>
                  <a:chExt cx="320400" cy="363600"/>
                </a:xfrm>
              </p:grpSpPr>
              <p:sp>
                <p:nvSpPr>
                  <p:cNvPr id="714"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0" name=""/>
                <p:cNvGrpSpPr/>
                <p:nvPr/>
              </p:nvGrpSpPr>
              <p:grpSpPr>
                <a:xfrm>
                  <a:off x="6454080" y="4425120"/>
                  <a:ext cx="426960" cy="293400"/>
                  <a:chOff x="6454080" y="4425120"/>
                  <a:chExt cx="426960" cy="293400"/>
                </a:xfrm>
              </p:grpSpPr>
              <p:sp>
                <p:nvSpPr>
                  <p:cNvPr id="721"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7" name=""/>
            <p:cNvGrpSpPr/>
            <p:nvPr/>
          </p:nvGrpSpPr>
          <p:grpSpPr>
            <a:xfrm>
              <a:off x="6480720" y="4413600"/>
              <a:ext cx="426960" cy="363600"/>
              <a:chOff x="6480720" y="4413600"/>
              <a:chExt cx="426960" cy="363600"/>
            </a:xfrm>
          </p:grpSpPr>
          <p:sp>
            <p:nvSpPr>
              <p:cNvPr id="728"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9" name=""/>
              <p:cNvGrpSpPr/>
              <p:nvPr/>
            </p:nvGrpSpPr>
            <p:grpSpPr>
              <a:xfrm>
                <a:off x="6480720" y="4413600"/>
                <a:ext cx="426960" cy="363600"/>
                <a:chOff x="6480720" y="4413600"/>
                <a:chExt cx="426960" cy="363600"/>
              </a:xfrm>
            </p:grpSpPr>
            <p:grpSp>
              <p:nvGrpSpPr>
                <p:cNvPr id="730" name=""/>
                <p:cNvGrpSpPr/>
                <p:nvPr/>
              </p:nvGrpSpPr>
              <p:grpSpPr>
                <a:xfrm>
                  <a:off x="6534000" y="4413600"/>
                  <a:ext cx="320400" cy="363600"/>
                  <a:chOff x="6534000" y="4413600"/>
                  <a:chExt cx="320400" cy="363600"/>
                </a:xfrm>
              </p:grpSpPr>
              <p:sp>
                <p:nvSpPr>
                  <p:cNvPr id="731"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6480720" y="4448520"/>
                  <a:ext cx="426960" cy="293400"/>
                  <a:chOff x="6480720" y="4448520"/>
                  <a:chExt cx="426960" cy="293400"/>
                </a:xfrm>
              </p:grpSpPr>
              <p:sp>
                <p:nvSpPr>
                  <p:cNvPr id="738"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4" name=""/>
            <p:cNvGrpSpPr/>
            <p:nvPr/>
          </p:nvGrpSpPr>
          <p:grpSpPr>
            <a:xfrm>
              <a:off x="6507360" y="4437000"/>
              <a:ext cx="426960" cy="363600"/>
              <a:chOff x="6507360" y="4437000"/>
              <a:chExt cx="426960" cy="363600"/>
            </a:xfrm>
          </p:grpSpPr>
          <p:sp>
            <p:nvSpPr>
              <p:cNvPr id="745"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6" name=""/>
              <p:cNvGrpSpPr/>
              <p:nvPr/>
            </p:nvGrpSpPr>
            <p:grpSpPr>
              <a:xfrm>
                <a:off x="6507360" y="4437000"/>
                <a:ext cx="426960" cy="363600"/>
                <a:chOff x="6507360" y="4437000"/>
                <a:chExt cx="426960" cy="363600"/>
              </a:xfrm>
            </p:grpSpPr>
            <p:grpSp>
              <p:nvGrpSpPr>
                <p:cNvPr id="747" name=""/>
                <p:cNvGrpSpPr/>
                <p:nvPr/>
              </p:nvGrpSpPr>
              <p:grpSpPr>
                <a:xfrm>
                  <a:off x="6560640" y="4437000"/>
                  <a:ext cx="320400" cy="363600"/>
                  <a:chOff x="6560640" y="4437000"/>
                  <a:chExt cx="320400" cy="363600"/>
                </a:xfrm>
              </p:grpSpPr>
              <p:sp>
                <p:nvSpPr>
                  <p:cNvPr id="748"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4" name=""/>
                <p:cNvGrpSpPr/>
                <p:nvPr/>
              </p:nvGrpSpPr>
              <p:grpSpPr>
                <a:xfrm>
                  <a:off x="6507360" y="4471920"/>
                  <a:ext cx="426960" cy="293400"/>
                  <a:chOff x="6507360" y="4471920"/>
                  <a:chExt cx="426960" cy="293400"/>
                </a:xfrm>
              </p:grpSpPr>
              <p:sp>
                <p:nvSpPr>
                  <p:cNvPr id="755"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61"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6933960" y="4800600"/>
            <a:ext cx="533520" cy="457200"/>
            <a:chOff x="6933960" y="4800600"/>
            <a:chExt cx="533520" cy="457200"/>
          </a:xfrm>
        </p:grpSpPr>
        <p:grpSp>
          <p:nvGrpSpPr>
            <p:cNvPr id="763" name=""/>
            <p:cNvGrpSpPr/>
            <p:nvPr/>
          </p:nvGrpSpPr>
          <p:grpSpPr>
            <a:xfrm>
              <a:off x="6933960" y="4800600"/>
              <a:ext cx="426960" cy="363600"/>
              <a:chOff x="6933960" y="4800600"/>
              <a:chExt cx="426960" cy="363600"/>
            </a:xfrm>
          </p:grpSpPr>
          <p:sp>
            <p:nvSpPr>
              <p:cNvPr id="764"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5" name=""/>
              <p:cNvGrpSpPr/>
              <p:nvPr/>
            </p:nvGrpSpPr>
            <p:grpSpPr>
              <a:xfrm>
                <a:off x="6933960" y="4800600"/>
                <a:ext cx="426600" cy="363600"/>
                <a:chOff x="6933960" y="4800600"/>
                <a:chExt cx="426600" cy="363600"/>
              </a:xfrm>
            </p:grpSpPr>
            <p:grpSp>
              <p:nvGrpSpPr>
                <p:cNvPr id="766" name=""/>
                <p:cNvGrpSpPr/>
                <p:nvPr/>
              </p:nvGrpSpPr>
              <p:grpSpPr>
                <a:xfrm>
                  <a:off x="6987600" y="4800600"/>
                  <a:ext cx="320040" cy="363600"/>
                  <a:chOff x="6987600" y="4800600"/>
                  <a:chExt cx="320040" cy="363600"/>
                </a:xfrm>
              </p:grpSpPr>
              <p:sp>
                <p:nvSpPr>
                  <p:cNvPr id="767"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6933960" y="4835520"/>
                  <a:ext cx="426600" cy="293400"/>
                  <a:chOff x="6933960" y="4835520"/>
                  <a:chExt cx="426600" cy="293400"/>
                </a:xfrm>
              </p:grpSpPr>
              <p:sp>
                <p:nvSpPr>
                  <p:cNvPr id="774"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0" name=""/>
            <p:cNvGrpSpPr/>
            <p:nvPr/>
          </p:nvGrpSpPr>
          <p:grpSpPr>
            <a:xfrm>
              <a:off x="6960600" y="4824000"/>
              <a:ext cx="426960" cy="363600"/>
              <a:chOff x="6960600" y="4824000"/>
              <a:chExt cx="426960" cy="363600"/>
            </a:xfrm>
          </p:grpSpPr>
          <p:sp>
            <p:nvSpPr>
              <p:cNvPr id="781"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6960600" y="4824000"/>
                <a:ext cx="426600" cy="363600"/>
                <a:chOff x="6960600" y="4824000"/>
                <a:chExt cx="426600" cy="363600"/>
              </a:xfrm>
            </p:grpSpPr>
            <p:grpSp>
              <p:nvGrpSpPr>
                <p:cNvPr id="783" name=""/>
                <p:cNvGrpSpPr/>
                <p:nvPr/>
              </p:nvGrpSpPr>
              <p:grpSpPr>
                <a:xfrm>
                  <a:off x="7014240" y="4824000"/>
                  <a:ext cx="320040" cy="363600"/>
                  <a:chOff x="7014240" y="4824000"/>
                  <a:chExt cx="320040" cy="363600"/>
                </a:xfrm>
              </p:grpSpPr>
              <p:sp>
                <p:nvSpPr>
                  <p:cNvPr id="784"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6960600" y="4858920"/>
                  <a:ext cx="426600" cy="293400"/>
                  <a:chOff x="6960600" y="4858920"/>
                  <a:chExt cx="426600" cy="293400"/>
                </a:xfrm>
              </p:grpSpPr>
              <p:sp>
                <p:nvSpPr>
                  <p:cNvPr id="791"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7" name=""/>
            <p:cNvGrpSpPr/>
            <p:nvPr/>
          </p:nvGrpSpPr>
          <p:grpSpPr>
            <a:xfrm>
              <a:off x="6987240" y="4847400"/>
              <a:ext cx="426960" cy="363600"/>
              <a:chOff x="6987240" y="4847400"/>
              <a:chExt cx="426960" cy="363600"/>
            </a:xfrm>
          </p:grpSpPr>
          <p:sp>
            <p:nvSpPr>
              <p:cNvPr id="798"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9" name=""/>
              <p:cNvGrpSpPr/>
              <p:nvPr/>
            </p:nvGrpSpPr>
            <p:grpSpPr>
              <a:xfrm>
                <a:off x="6987240" y="4847400"/>
                <a:ext cx="426600" cy="363600"/>
                <a:chOff x="6987240" y="4847400"/>
                <a:chExt cx="426600" cy="363600"/>
              </a:xfrm>
            </p:grpSpPr>
            <p:grpSp>
              <p:nvGrpSpPr>
                <p:cNvPr id="800" name=""/>
                <p:cNvGrpSpPr/>
                <p:nvPr/>
              </p:nvGrpSpPr>
              <p:grpSpPr>
                <a:xfrm>
                  <a:off x="7040880" y="4847400"/>
                  <a:ext cx="320040" cy="363600"/>
                  <a:chOff x="7040880" y="4847400"/>
                  <a:chExt cx="320040" cy="363600"/>
                </a:xfrm>
              </p:grpSpPr>
              <p:sp>
                <p:nvSpPr>
                  <p:cNvPr id="801"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7" name=""/>
                <p:cNvGrpSpPr/>
                <p:nvPr/>
              </p:nvGrpSpPr>
              <p:grpSpPr>
                <a:xfrm>
                  <a:off x="6987240" y="4882320"/>
                  <a:ext cx="426600" cy="293400"/>
                  <a:chOff x="6987240" y="4882320"/>
                  <a:chExt cx="426600" cy="293400"/>
                </a:xfrm>
              </p:grpSpPr>
              <p:sp>
                <p:nvSpPr>
                  <p:cNvPr id="808"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4" name=""/>
            <p:cNvGrpSpPr/>
            <p:nvPr/>
          </p:nvGrpSpPr>
          <p:grpSpPr>
            <a:xfrm>
              <a:off x="7013880" y="4870800"/>
              <a:ext cx="426960" cy="363600"/>
              <a:chOff x="7013880" y="4870800"/>
              <a:chExt cx="426960" cy="363600"/>
            </a:xfrm>
          </p:grpSpPr>
          <p:sp>
            <p:nvSpPr>
              <p:cNvPr id="815"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6" name=""/>
              <p:cNvGrpSpPr/>
              <p:nvPr/>
            </p:nvGrpSpPr>
            <p:grpSpPr>
              <a:xfrm>
                <a:off x="7013880" y="4870800"/>
                <a:ext cx="426600" cy="363600"/>
                <a:chOff x="7013880" y="4870800"/>
                <a:chExt cx="426600" cy="363600"/>
              </a:xfrm>
            </p:grpSpPr>
            <p:grpSp>
              <p:nvGrpSpPr>
                <p:cNvPr id="817" name=""/>
                <p:cNvGrpSpPr/>
                <p:nvPr/>
              </p:nvGrpSpPr>
              <p:grpSpPr>
                <a:xfrm>
                  <a:off x="7067520" y="4870800"/>
                  <a:ext cx="320040" cy="363600"/>
                  <a:chOff x="7067520" y="4870800"/>
                  <a:chExt cx="320040" cy="363600"/>
                </a:xfrm>
              </p:grpSpPr>
              <p:sp>
                <p:nvSpPr>
                  <p:cNvPr id="818"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4" name=""/>
                <p:cNvGrpSpPr/>
                <p:nvPr/>
              </p:nvGrpSpPr>
              <p:grpSpPr>
                <a:xfrm>
                  <a:off x="7013880" y="4905720"/>
                  <a:ext cx="426600" cy="293400"/>
                  <a:chOff x="7013880" y="4905720"/>
                  <a:chExt cx="426600" cy="293400"/>
                </a:xfrm>
              </p:grpSpPr>
              <p:sp>
                <p:nvSpPr>
                  <p:cNvPr id="825"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31" name=""/>
            <p:cNvGrpSpPr/>
            <p:nvPr/>
          </p:nvGrpSpPr>
          <p:grpSpPr>
            <a:xfrm>
              <a:off x="7040520" y="4894200"/>
              <a:ext cx="426960" cy="363600"/>
              <a:chOff x="7040520" y="4894200"/>
              <a:chExt cx="426960" cy="363600"/>
            </a:xfrm>
          </p:grpSpPr>
          <p:sp>
            <p:nvSpPr>
              <p:cNvPr id="832"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3" name=""/>
              <p:cNvGrpSpPr/>
              <p:nvPr/>
            </p:nvGrpSpPr>
            <p:grpSpPr>
              <a:xfrm>
                <a:off x="7040520" y="4894200"/>
                <a:ext cx="426600" cy="363600"/>
                <a:chOff x="7040520" y="4894200"/>
                <a:chExt cx="426600" cy="363600"/>
              </a:xfrm>
            </p:grpSpPr>
            <p:grpSp>
              <p:nvGrpSpPr>
                <p:cNvPr id="834" name=""/>
                <p:cNvGrpSpPr/>
                <p:nvPr/>
              </p:nvGrpSpPr>
              <p:grpSpPr>
                <a:xfrm>
                  <a:off x="7094160" y="4894200"/>
                  <a:ext cx="320040" cy="363600"/>
                  <a:chOff x="7094160" y="4894200"/>
                  <a:chExt cx="320040" cy="363600"/>
                </a:xfrm>
              </p:grpSpPr>
              <p:sp>
                <p:nvSpPr>
                  <p:cNvPr id="835"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1" name=""/>
                <p:cNvGrpSpPr/>
                <p:nvPr/>
              </p:nvGrpSpPr>
              <p:grpSpPr>
                <a:xfrm>
                  <a:off x="7040520" y="4929120"/>
                  <a:ext cx="426600" cy="293400"/>
                  <a:chOff x="7040520" y="4929120"/>
                  <a:chExt cx="426600" cy="293400"/>
                </a:xfrm>
              </p:grpSpPr>
              <p:sp>
                <p:nvSpPr>
                  <p:cNvPr id="842"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8"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7467480" y="5257800"/>
            <a:ext cx="533520" cy="457200"/>
            <a:chOff x="7467480" y="5257800"/>
            <a:chExt cx="533520" cy="457200"/>
          </a:xfrm>
        </p:grpSpPr>
        <p:grpSp>
          <p:nvGrpSpPr>
            <p:cNvPr id="850" name=""/>
            <p:cNvGrpSpPr/>
            <p:nvPr/>
          </p:nvGrpSpPr>
          <p:grpSpPr>
            <a:xfrm>
              <a:off x="7467480" y="5257800"/>
              <a:ext cx="426960" cy="363600"/>
              <a:chOff x="7467480" y="5257800"/>
              <a:chExt cx="426960" cy="363600"/>
            </a:xfrm>
          </p:grpSpPr>
          <p:sp>
            <p:nvSpPr>
              <p:cNvPr id="851"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2" name=""/>
              <p:cNvGrpSpPr/>
              <p:nvPr/>
            </p:nvGrpSpPr>
            <p:grpSpPr>
              <a:xfrm>
                <a:off x="7467480" y="5257800"/>
                <a:ext cx="426960" cy="363600"/>
                <a:chOff x="7467480" y="5257800"/>
                <a:chExt cx="426960" cy="363600"/>
              </a:xfrm>
            </p:grpSpPr>
            <p:grpSp>
              <p:nvGrpSpPr>
                <p:cNvPr id="853" name=""/>
                <p:cNvGrpSpPr/>
                <p:nvPr/>
              </p:nvGrpSpPr>
              <p:grpSpPr>
                <a:xfrm>
                  <a:off x="7520760" y="5257800"/>
                  <a:ext cx="320400" cy="363600"/>
                  <a:chOff x="7520760" y="5257800"/>
                  <a:chExt cx="320400" cy="363600"/>
                </a:xfrm>
              </p:grpSpPr>
              <p:sp>
                <p:nvSpPr>
                  <p:cNvPr id="854"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7467480" y="5292720"/>
                  <a:ext cx="426960" cy="293400"/>
                  <a:chOff x="7467480" y="5292720"/>
                  <a:chExt cx="426960" cy="293400"/>
                </a:xfrm>
              </p:grpSpPr>
              <p:sp>
                <p:nvSpPr>
                  <p:cNvPr id="861"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7" name=""/>
            <p:cNvGrpSpPr/>
            <p:nvPr/>
          </p:nvGrpSpPr>
          <p:grpSpPr>
            <a:xfrm>
              <a:off x="7494120" y="5281200"/>
              <a:ext cx="426960" cy="363600"/>
              <a:chOff x="7494120" y="5281200"/>
              <a:chExt cx="426960" cy="363600"/>
            </a:xfrm>
          </p:grpSpPr>
          <p:sp>
            <p:nvSpPr>
              <p:cNvPr id="868"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9" name=""/>
              <p:cNvGrpSpPr/>
              <p:nvPr/>
            </p:nvGrpSpPr>
            <p:grpSpPr>
              <a:xfrm>
                <a:off x="7494120" y="5281200"/>
                <a:ext cx="426960" cy="363600"/>
                <a:chOff x="7494120" y="5281200"/>
                <a:chExt cx="426960" cy="363600"/>
              </a:xfrm>
            </p:grpSpPr>
            <p:grpSp>
              <p:nvGrpSpPr>
                <p:cNvPr id="870" name=""/>
                <p:cNvGrpSpPr/>
                <p:nvPr/>
              </p:nvGrpSpPr>
              <p:grpSpPr>
                <a:xfrm>
                  <a:off x="7547400" y="5281200"/>
                  <a:ext cx="320400" cy="363600"/>
                  <a:chOff x="7547400" y="5281200"/>
                  <a:chExt cx="320400" cy="363600"/>
                </a:xfrm>
              </p:grpSpPr>
              <p:sp>
                <p:nvSpPr>
                  <p:cNvPr id="871"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7" name=""/>
                <p:cNvGrpSpPr/>
                <p:nvPr/>
              </p:nvGrpSpPr>
              <p:grpSpPr>
                <a:xfrm>
                  <a:off x="7494120" y="5316120"/>
                  <a:ext cx="426960" cy="293400"/>
                  <a:chOff x="7494120" y="5316120"/>
                  <a:chExt cx="426960" cy="293400"/>
                </a:xfrm>
              </p:grpSpPr>
              <p:sp>
                <p:nvSpPr>
                  <p:cNvPr id="878"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4" name=""/>
            <p:cNvGrpSpPr/>
            <p:nvPr/>
          </p:nvGrpSpPr>
          <p:grpSpPr>
            <a:xfrm>
              <a:off x="7520760" y="5304600"/>
              <a:ext cx="426960" cy="363600"/>
              <a:chOff x="7520760" y="5304600"/>
              <a:chExt cx="426960" cy="363600"/>
            </a:xfrm>
          </p:grpSpPr>
          <p:sp>
            <p:nvSpPr>
              <p:cNvPr id="885"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6" name=""/>
              <p:cNvGrpSpPr/>
              <p:nvPr/>
            </p:nvGrpSpPr>
            <p:grpSpPr>
              <a:xfrm>
                <a:off x="7520760" y="5304600"/>
                <a:ext cx="426960" cy="363600"/>
                <a:chOff x="7520760" y="5304600"/>
                <a:chExt cx="426960" cy="363600"/>
              </a:xfrm>
            </p:grpSpPr>
            <p:grpSp>
              <p:nvGrpSpPr>
                <p:cNvPr id="887" name=""/>
                <p:cNvGrpSpPr/>
                <p:nvPr/>
              </p:nvGrpSpPr>
              <p:grpSpPr>
                <a:xfrm>
                  <a:off x="7574040" y="5304600"/>
                  <a:ext cx="320400" cy="363600"/>
                  <a:chOff x="7574040" y="5304600"/>
                  <a:chExt cx="320400" cy="363600"/>
                </a:xfrm>
              </p:grpSpPr>
              <p:sp>
                <p:nvSpPr>
                  <p:cNvPr id="888"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7520760" y="5339520"/>
                  <a:ext cx="426960" cy="293400"/>
                  <a:chOff x="7520760" y="5339520"/>
                  <a:chExt cx="426960" cy="293400"/>
                </a:xfrm>
              </p:grpSpPr>
              <p:sp>
                <p:nvSpPr>
                  <p:cNvPr id="895"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01" name=""/>
            <p:cNvGrpSpPr/>
            <p:nvPr/>
          </p:nvGrpSpPr>
          <p:grpSpPr>
            <a:xfrm>
              <a:off x="7547400" y="5328000"/>
              <a:ext cx="426960" cy="363600"/>
              <a:chOff x="7547400" y="5328000"/>
              <a:chExt cx="426960" cy="363600"/>
            </a:xfrm>
          </p:grpSpPr>
          <p:sp>
            <p:nvSpPr>
              <p:cNvPr id="902"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7547400" y="5328000"/>
                <a:ext cx="426960" cy="363600"/>
                <a:chOff x="7547400" y="5328000"/>
                <a:chExt cx="426960" cy="363600"/>
              </a:xfrm>
            </p:grpSpPr>
            <p:grpSp>
              <p:nvGrpSpPr>
                <p:cNvPr id="904" name=""/>
                <p:cNvGrpSpPr/>
                <p:nvPr/>
              </p:nvGrpSpPr>
              <p:grpSpPr>
                <a:xfrm>
                  <a:off x="7600680" y="5328000"/>
                  <a:ext cx="320400" cy="363600"/>
                  <a:chOff x="7600680" y="5328000"/>
                  <a:chExt cx="320400" cy="363600"/>
                </a:xfrm>
              </p:grpSpPr>
              <p:sp>
                <p:nvSpPr>
                  <p:cNvPr id="905"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1" name=""/>
                <p:cNvGrpSpPr/>
                <p:nvPr/>
              </p:nvGrpSpPr>
              <p:grpSpPr>
                <a:xfrm>
                  <a:off x="7547400" y="5362920"/>
                  <a:ext cx="426960" cy="293400"/>
                  <a:chOff x="7547400" y="5362920"/>
                  <a:chExt cx="426960" cy="293400"/>
                </a:xfrm>
              </p:grpSpPr>
              <p:sp>
                <p:nvSpPr>
                  <p:cNvPr id="912"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8" name=""/>
            <p:cNvGrpSpPr/>
            <p:nvPr/>
          </p:nvGrpSpPr>
          <p:grpSpPr>
            <a:xfrm>
              <a:off x="7574040" y="5351400"/>
              <a:ext cx="426960" cy="363600"/>
              <a:chOff x="7574040" y="5351400"/>
              <a:chExt cx="426960" cy="363600"/>
            </a:xfrm>
          </p:grpSpPr>
          <p:sp>
            <p:nvSpPr>
              <p:cNvPr id="919"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0" name=""/>
              <p:cNvGrpSpPr/>
              <p:nvPr/>
            </p:nvGrpSpPr>
            <p:grpSpPr>
              <a:xfrm>
                <a:off x="7574040" y="5351400"/>
                <a:ext cx="426960" cy="363600"/>
                <a:chOff x="7574040" y="5351400"/>
                <a:chExt cx="426960" cy="363600"/>
              </a:xfrm>
            </p:grpSpPr>
            <p:grpSp>
              <p:nvGrpSpPr>
                <p:cNvPr id="921" name=""/>
                <p:cNvGrpSpPr/>
                <p:nvPr/>
              </p:nvGrpSpPr>
              <p:grpSpPr>
                <a:xfrm>
                  <a:off x="7627320" y="5351400"/>
                  <a:ext cx="320400" cy="363600"/>
                  <a:chOff x="7627320" y="5351400"/>
                  <a:chExt cx="320400" cy="363600"/>
                </a:xfrm>
              </p:grpSpPr>
              <p:sp>
                <p:nvSpPr>
                  <p:cNvPr id="922"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8" name=""/>
                <p:cNvGrpSpPr/>
                <p:nvPr/>
              </p:nvGrpSpPr>
              <p:grpSpPr>
                <a:xfrm>
                  <a:off x="7574040" y="5386320"/>
                  <a:ext cx="426960" cy="293400"/>
                  <a:chOff x="7574040" y="5386320"/>
                  <a:chExt cx="426960" cy="293400"/>
                </a:xfrm>
              </p:grpSpPr>
              <p:sp>
                <p:nvSpPr>
                  <p:cNvPr id="929"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5"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7"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8"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9"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40"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41"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2"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126CB6AF-FE98-4581-AA05-F5559BFA5585}"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lain Language Analysis Tool (PLA) is based on Internet technologies, and allows a user to analyze documents against your Plain Language Guidelin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489BE9D3-089D-47B4-B8A7-4C7DEA0157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L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Plain Language Guidelin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Plain Language Guideline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F43B75E-0819-4618-9DAB-09E3B62B29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A804DF4-D468-475B-BFE2-473F7522FB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PL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C55AEB6-91DB-437E-A0C7-A2F93A7980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PL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A41C6DC-1B76-42E3-8CB7-3D45460534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in Language</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Plain Language Guidelines, reading level, word themes, duplicates, etc</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veryone writing using the Plain Language Guidelines such as legislative staff, people, special interest groups, academics, teachers, etc</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e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Plain Language plus a service to identify how the document approaches the problem</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99EDF6D-9B92-4856-AD8B-ADC2EA8426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legislative elements, committees, roles, special interests, representatives, reading level, word themes, duplicate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government type, inalienable rights, separation of powers, roles, elections, representatives, challenges, sca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B3555F8-9040-4E6A-BF8B-4C5E7498E4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3F54B19-7685-49EE-8E44-52970C89C2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8-20T16:27:26Z</dcterms:modified>
  <cp:revision>364</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