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1181D-4C3F-40A5-A5CD-9ED6510C4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FC9D3-39E8-485B-A665-94673A98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F1CB4-1E5A-416A-90FD-1096E9284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72B6E-2FBC-433B-A536-17CE3FEEC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A297-B7C0-4044-BC07-7FEF8EA5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42EF7-8AFF-4901-B6DD-AB991360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A25DC-E05A-41D1-B76A-DA4AD3450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AB09-2997-4EC7-BC53-45009172C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C2D7-37D3-4888-9134-DBA10A34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2070-B636-492A-A118-4224D63E0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9EBD-4515-4580-B6FD-86B0A201E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7B5F-C0EA-497A-8F9D-2DA26EA35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989-9007-4D36-8CEC-148D016F8885}"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A2821BE8-447E-4344-9571-F9F3D839E6A7}" type="datetime12">
              <a:rPr b="0" lang="en-US" sz="1400" spc="-1" strike="noStrike">
                <a:solidFill>
                  <a:srgbClr val="000000"/>
                </a:solidFill>
                <a:latin typeface="Times New Roman"/>
              </a:rPr>
              <a:t>03:11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FD3B-3E52-46D5-9B4C-4ED875C26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713FBBE-F4C4-4A43-8A4B-E8613BE22B7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ABCE2DF-EAFA-48AF-9C0D-504D745D62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99E0123-98E1-4106-ADAC-4DCD5808F9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E77A8EC-410D-4D40-817B-E768E9BCC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16B2824-983F-4E08-BD9A-61885EF2F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8C8F045-CB9A-4064-BEF1-87B8CD884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736DD80-F104-44CE-8364-67ADBC5DD0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DFCC9D07-F961-46C7-BC77-6E7B7D696738}"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