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C0B4A-3841-4BDF-B52E-54E835343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28973-C04E-4D12-A3E7-1190B8BB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5A5AA-6E6A-438F-9965-239D1D641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1A38F-6C42-4437-BCBD-E36E2B6B1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C3A92-2592-445B-8957-F6AE781B3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AC8EB-20F0-4B8B-AFE8-08498D63F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141ED-1EC8-49F0-A02E-2F6A71472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F4BAB-40FE-43D8-98C0-9B52F3F5C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F5F3F-25D4-4C58-AB22-D08C0953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E298-07E6-4E28-A1D1-B029CC02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CB04C-B63B-4393-88FE-59937DAA1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C03F-AEEE-4606-8C68-CEB620EFE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C0E9-6A33-4AFA-99B4-43BC9D82E824}"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EDF3E661-6F5E-4883-AFAC-ABDAF10CD86C}" type="datetime12">
              <a:rPr b="0" lang="en-US" sz="1400" spc="-1" strike="noStrike">
                <a:solidFill>
                  <a:srgbClr val="000000"/>
                </a:solidFill>
                <a:latin typeface="Times New Roman"/>
              </a:rPr>
              <a:t>03:11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C941-EBD7-4BB4-8D11-366407404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4D011B7-B261-46ED-A3D8-310EFEEFFA6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13689AB-3911-4888-BA96-D2C8B23221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F53E64F-2C71-427B-B22D-FFA1DB55D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8A3CFAA-A5DC-481F-B640-A853BE383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83CF7F0-8C3E-4459-BD76-EE7408E5B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3B3B4AC-E8CE-4B98-875E-8ACD6CFFC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84CDF10-72ED-4608-ACA1-31E5507FF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2E43E92-8006-461C-8F61-A456B4F181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5A6809B9-8C51-47CA-89F3-EF463BA1C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