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AD586-25B2-468C-8F00-2F60B9318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22D94-AC70-444F-8A1B-0702CA91A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E59CD-55B8-4C5B-8284-E32CDE639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2E63F-40EE-4D70-8CD9-E23AB4802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F660C-6335-4602-ABA2-13F0E7D34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DA482-030E-4672-A59B-BCC6B9B0D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DD8DB-BC5B-4AA4-82F0-317B84DF9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C8680-D651-4550-AF01-C7D7FCC9E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3D6B5-877D-43B4-BE09-64217DE26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B41BE-577A-4EC9-90AB-4C5EEEC3F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903FE-C710-49FA-A525-0F31D8852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2F12F-52E4-48DC-BEB3-8815B9DAA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14C3-163F-48E2-9149-A5D505EA63B4}"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98803860-00CB-4A8C-A415-1DE3D119F4E9}" type="datetime12">
              <a:rPr b="0" lang="en-US" sz="1400" spc="-1" strike="noStrike">
                <a:solidFill>
                  <a:srgbClr val="000000"/>
                </a:solidFill>
                <a:latin typeface="Times New Roman"/>
              </a:rPr>
              <a:t>03:11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CF8A-AC61-4AAB-9DD0-A8722D4802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islative Analysis Tool</a:t>
            </a:r>
            <a:br>
              <a:rPr sz="4400"/>
            </a:br>
            <a:r>
              <a:rPr b="0" lang="en-US" sz="4400" spc="-1" strike="noStrike">
                <a:solidFill>
                  <a:srgbClr val="000000"/>
                </a:solidFill>
                <a:latin typeface="Times New Roman"/>
              </a:rPr>
              <a:t>(L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2725ABE-57A3-41B6-BE16-894FF0B7FDDC}"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egislative Analysis Tool (LAT) is based on Internet technologies, and allows a user to analyze Legislation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B8A3489-44A6-4C80-9ED8-9151D1B9E5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L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small tow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slators, 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F420EB4-450C-44CE-ACA3-FEC4764AB2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53DB3F2A-C1A6-4212-B568-A289C2B4B6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5A4D67B-E0F2-4D81-BD61-664306B6B2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4B45679-8023-4398-B0E9-FDC5BA5C1B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20A9B4E-C9E4-4AA9-8FCD-E13A102DB6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legisl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3C29906-26D1-491C-A45A-AF28293F5B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T 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16742F0B-401E-495B-B513-90DE67F76E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43:16Z</dcterms:modified>
  <cp:revision>362</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