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A2B79-CE4F-4266-B31A-E488DF623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394DD-D956-4A0A-8905-698B7F9FA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C46BF-2FCD-4C79-8CD2-64D20AFF9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2EA49-14A3-4B08-92F1-B28D02796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6C1AA-65EE-499B-BBC2-1044D3F53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1DC33-D785-4635-8854-FD549CCF5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5B388-1C5F-4AE1-966B-BC2819555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DE4F1-CB78-4248-A5B6-9DAA85E79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EA92C-D3A5-4669-A411-C48C4E61E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0A593-C8F6-460F-BA2E-F51B0BE99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9BE50-A348-4F98-BCDC-D07E4A48A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8158C-D336-43C9-8AB0-354815BF0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4B5C-18F8-4924-8389-EDE53BFFAF5E}"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6B8B23D1-B431-4FA1-9871-3B8991D1AFD4}" type="datetime12">
              <a:rPr b="0" lang="en-US" sz="1400" spc="-1" strike="noStrike">
                <a:solidFill>
                  <a:srgbClr val="000000"/>
                </a:solidFill>
                <a:latin typeface="Times New Roman"/>
              </a:rPr>
              <a:t>03:10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1872-DC01-4C8D-BE06-D1B56133B6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Document Analysis (GD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8F44AA9-8F9D-4E92-90E6-4CBAAFA2416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eneral Document Analysis (GD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D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ied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DBAB80E-29A5-4171-8DC0-5D7BAFCAF2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GD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CBC874F-487D-4FBB-8AE2-C9BCFE3FA9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619D0E4-E175-4870-BFD8-944D41FA86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GD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924E8D6-9210-4134-92D9-CA462ED7EC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6171ABE-3919-43DA-A3A6-F1962F5C57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91559FF-D23B-487C-AA76-DD2DA69345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73183C00-E03F-4C62-A925-2673B4E1396F}"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24T06:50:06Z</dcterms:modified>
  <cp:revision>366</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