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BF72B-5269-4A60-B414-00A68E7A1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8E1E1-269A-4469-8CC1-B06EAAC00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44EEA-9948-4D90-9A92-65E3B891D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8437E-9354-46EC-8E27-FB6F1D353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22BCC-BF65-4077-9A23-07BB23A9C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9F3E1-CC43-471A-8DA2-C6FD4007C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4D437-4466-4970-98E9-E246D0B2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97B46-6091-47E1-891C-CC1C06A9B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601D-66E0-42DC-99D4-79A5C3E7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E3E9-1506-4217-B177-B38CBAF8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90551-91AD-4C6C-A7FE-CDD454009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C429C-A181-4FCE-8A91-A5A822896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A3B1-CC37-4952-9B8B-D702CFDB9C8C}"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66A4F623-F4C6-46A9-BCB4-F0E04F713179}" type="datetime12">
              <a:rPr b="0" lang="en-US" sz="1400" spc="-1" strike="noStrike">
                <a:solidFill>
                  <a:srgbClr val="000000"/>
                </a:solidFill>
                <a:latin typeface="Times New Roman"/>
              </a:rPr>
              <a:t>08:42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1568-E932-41FF-B18E-66190D10B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C40F016-7CDD-4410-8238-9D80F1B907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34CBC422-15E0-467B-9A07-591F34B4AD0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42120A5-5107-46C0-AAB3-2B335DEC05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AA9B84E-F3D4-44E4-AF37-252761A78C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227D310-EB58-4EAC-8BC9-165938E877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B3CF1B6-001A-4A7A-8E3D-7EE307A7A5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C6E2711-F7BB-4FE7-B3CF-A6BA07BD22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4D9CB08-613E-449C-9BA6-2476C56D1D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D1B5E86-3EC6-4533-AC9E-F2CD84F1F1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B48AB55-DF50-4433-BA05-E669318ADD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