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E88DB-2358-4D6A-A3C0-D8F5E349A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11331-05E9-4978-911D-754D90067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A24A8-0454-400D-BA55-3E66FFC43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7EE64-6314-4EB9-8C03-9A73D19E3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F5C48-8246-46BF-9DBC-6A5D392EE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27C30-D9C8-48FC-87F7-52143C620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3D69D-0F34-41E2-AF6C-DA503A73D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6AAEC-EC8C-447A-8610-B512755C9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6B804-6DF3-4D3A-9725-F17B06DF2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0622D-5301-4463-ABB5-C238291D5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D8ECA-33AA-4673-8899-B17440A4D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8018B-AA9F-4605-9642-EE2A09EE7C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52C03-E87D-4831-A324-5C92953CD7B3}"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159E1F30-4C15-44FA-926C-32CB37963215}" type="datetime12">
              <a:rPr b="0" lang="en-US" sz="1400" spc="-1" strike="noStrike">
                <a:solidFill>
                  <a:srgbClr val="000000"/>
                </a:solidFill>
                <a:latin typeface="Times New Roman"/>
              </a:rPr>
              <a:t>08:41 P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5C19E-C274-44A0-AB5E-B143B8D5B3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itutional Analysis Tool</a:t>
            </a:r>
            <a:br>
              <a:rPr sz="4400"/>
            </a:br>
            <a:r>
              <a:rPr b="0" lang="en-US" sz="4400" spc="-1" strike="noStrike">
                <a:solidFill>
                  <a:srgbClr val="000000"/>
                </a:solidFill>
                <a:latin typeface="Times New Roman"/>
              </a:rPr>
              <a:t>(CAT)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200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CB34BA4B-1BB9-48F0-A1D7-BFE044423ED0}"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stitutional Analysis Tool (CAT) is based on Internet technologies, and allows a user to analyze Constitutions and make quantitative consistent comparisons of different struggles across our planet, both today and throughout our histor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This is the start of cognitive based autom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6210C854-FF45-4CDB-B5F3-3CBAA76A34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T</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constitu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nation state to organizational constitu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ians, academicians, legal experts, people, politicians, technologists, teachers, student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BC729E42-9A08-42DD-ADEE-6C2255537B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7F2C4121-5CF0-4E89-8E98-F3E7FA7656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CAT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SAT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8A39C08C-B0FE-4674-9A33-EA792964B9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CAT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09458761-AD07-44A4-9EE9-A97536D3A3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 state constitutions</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text clarity, government type, inalienable rights, separation of powers, roles, representatives, current challenges, reading level, document shape, word themes, duplicates</a:t>
            </a:r>
            <a:endParaRPr b="0" lang="en-US" sz="24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ational constitutions</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echnical, student, community, labor, corporate and other organizations</a:t>
            </a:r>
            <a:endParaRPr b="0" lang="en-US" sz="24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on</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9F9C69DC-08D7-4494-8D75-FA98602E0D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constitu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constitution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DE51176B-6BAD-448A-8791-F3D0F958CD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59"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60"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61"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2" name=""/>
          <p:cNvGrpSpPr/>
          <p:nvPr/>
        </p:nvGrpSpPr>
        <p:grpSpPr>
          <a:xfrm>
            <a:off x="1981080" y="2057400"/>
            <a:ext cx="3047760" cy="2971800"/>
            <a:chOff x="1981080" y="2057400"/>
            <a:chExt cx="3047760" cy="2971800"/>
          </a:xfrm>
        </p:grpSpPr>
        <p:grpSp>
          <p:nvGrpSpPr>
            <p:cNvPr id="63" name=""/>
            <p:cNvGrpSpPr/>
            <p:nvPr/>
          </p:nvGrpSpPr>
          <p:grpSpPr>
            <a:xfrm>
              <a:off x="1981080" y="2057400"/>
              <a:ext cx="2438280" cy="2361960"/>
              <a:chOff x="1981080" y="2057400"/>
              <a:chExt cx="2438280" cy="2361960"/>
            </a:xfrm>
          </p:grpSpPr>
          <p:sp>
            <p:nvSpPr>
              <p:cNvPr id="64"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1981080" y="2057400"/>
                <a:ext cx="2437920" cy="2361600"/>
                <a:chOff x="1981080" y="2057400"/>
                <a:chExt cx="2437920" cy="2361600"/>
              </a:xfrm>
            </p:grpSpPr>
            <p:grpSp>
              <p:nvGrpSpPr>
                <p:cNvPr id="66" name=""/>
                <p:cNvGrpSpPr/>
                <p:nvPr/>
              </p:nvGrpSpPr>
              <p:grpSpPr>
                <a:xfrm>
                  <a:off x="2285640" y="2057400"/>
                  <a:ext cx="1828800" cy="2361600"/>
                  <a:chOff x="2285640" y="2057400"/>
                  <a:chExt cx="1828800" cy="2361600"/>
                </a:xfrm>
              </p:grpSpPr>
              <p:sp>
                <p:nvSpPr>
                  <p:cNvPr id="67"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 name=""/>
                <p:cNvGrpSpPr/>
                <p:nvPr/>
              </p:nvGrpSpPr>
              <p:grpSpPr>
                <a:xfrm>
                  <a:off x="1981080" y="2286000"/>
                  <a:ext cx="2437920" cy="1904760"/>
                  <a:chOff x="1981080" y="2286000"/>
                  <a:chExt cx="2437920" cy="1904760"/>
                </a:xfrm>
              </p:grpSpPr>
              <p:sp>
                <p:nvSpPr>
                  <p:cNvPr id="74"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133360" y="2209680"/>
              <a:ext cx="2438280" cy="2362320"/>
              <a:chOff x="2133360" y="2209680"/>
              <a:chExt cx="2438280" cy="2362320"/>
            </a:xfrm>
          </p:grpSpPr>
          <p:sp>
            <p:nvSpPr>
              <p:cNvPr id="81"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2133360" y="2209680"/>
                <a:ext cx="2437920" cy="2361600"/>
                <a:chOff x="2133360" y="2209680"/>
                <a:chExt cx="2437920" cy="2361600"/>
              </a:xfrm>
            </p:grpSpPr>
            <p:grpSp>
              <p:nvGrpSpPr>
                <p:cNvPr id="83" name=""/>
                <p:cNvGrpSpPr/>
                <p:nvPr/>
              </p:nvGrpSpPr>
              <p:grpSpPr>
                <a:xfrm>
                  <a:off x="2437920" y="2209680"/>
                  <a:ext cx="1828800" cy="2361600"/>
                  <a:chOff x="2437920" y="2209680"/>
                  <a:chExt cx="1828800" cy="2361600"/>
                </a:xfrm>
              </p:grpSpPr>
              <p:sp>
                <p:nvSpPr>
                  <p:cNvPr id="84"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2133360" y="2438280"/>
                  <a:ext cx="2437920" cy="1904760"/>
                  <a:chOff x="2133360" y="2438280"/>
                  <a:chExt cx="2437920" cy="1904760"/>
                </a:xfrm>
              </p:grpSpPr>
              <p:sp>
                <p:nvSpPr>
                  <p:cNvPr id="91"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7" name=""/>
            <p:cNvGrpSpPr/>
            <p:nvPr/>
          </p:nvGrpSpPr>
          <p:grpSpPr>
            <a:xfrm>
              <a:off x="2285640" y="2361960"/>
              <a:ext cx="2438640" cy="2362320"/>
              <a:chOff x="2285640" y="2361960"/>
              <a:chExt cx="2438640" cy="2362320"/>
            </a:xfrm>
          </p:grpSpPr>
          <p:sp>
            <p:nvSpPr>
              <p:cNvPr id="98"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
              <p:cNvGrpSpPr/>
              <p:nvPr/>
            </p:nvGrpSpPr>
            <p:grpSpPr>
              <a:xfrm>
                <a:off x="2285640" y="2361960"/>
                <a:ext cx="2437920" cy="2361600"/>
                <a:chOff x="2285640" y="2361960"/>
                <a:chExt cx="2437920" cy="2361600"/>
              </a:xfrm>
            </p:grpSpPr>
            <p:grpSp>
              <p:nvGrpSpPr>
                <p:cNvPr id="100" name=""/>
                <p:cNvGrpSpPr/>
                <p:nvPr/>
              </p:nvGrpSpPr>
              <p:grpSpPr>
                <a:xfrm>
                  <a:off x="2590200" y="2361960"/>
                  <a:ext cx="1828800" cy="2361600"/>
                  <a:chOff x="2590200" y="2361960"/>
                  <a:chExt cx="1828800" cy="2361600"/>
                </a:xfrm>
              </p:grpSpPr>
              <p:sp>
                <p:nvSpPr>
                  <p:cNvPr id="101"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2285640" y="2590560"/>
                  <a:ext cx="2437920" cy="1904760"/>
                  <a:chOff x="2285640" y="2590560"/>
                  <a:chExt cx="2437920" cy="1904760"/>
                </a:xfrm>
              </p:grpSpPr>
              <p:sp>
                <p:nvSpPr>
                  <p:cNvPr id="108"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4" name=""/>
            <p:cNvGrpSpPr/>
            <p:nvPr/>
          </p:nvGrpSpPr>
          <p:grpSpPr>
            <a:xfrm>
              <a:off x="2438280" y="2514600"/>
              <a:ext cx="2438280" cy="2361960"/>
              <a:chOff x="2438280" y="2514600"/>
              <a:chExt cx="2438280" cy="2361960"/>
            </a:xfrm>
          </p:grpSpPr>
          <p:sp>
            <p:nvSpPr>
              <p:cNvPr id="115"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2438280" y="2514600"/>
                <a:ext cx="2437920" cy="2361600"/>
                <a:chOff x="2438280" y="2514600"/>
                <a:chExt cx="2437920" cy="2361600"/>
              </a:xfrm>
            </p:grpSpPr>
            <p:grpSp>
              <p:nvGrpSpPr>
                <p:cNvPr id="117" name=""/>
                <p:cNvGrpSpPr/>
                <p:nvPr/>
              </p:nvGrpSpPr>
              <p:grpSpPr>
                <a:xfrm>
                  <a:off x="2742840" y="2514600"/>
                  <a:ext cx="1828800" cy="2361600"/>
                  <a:chOff x="2742840" y="2514600"/>
                  <a:chExt cx="1828800" cy="2361600"/>
                </a:xfrm>
              </p:grpSpPr>
              <p:sp>
                <p:nvSpPr>
                  <p:cNvPr id="118"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2438280" y="2743200"/>
                  <a:ext cx="2437920" cy="1904760"/>
                  <a:chOff x="2438280" y="2743200"/>
                  <a:chExt cx="2437920" cy="1904760"/>
                </a:xfrm>
              </p:grpSpPr>
              <p:sp>
                <p:nvSpPr>
                  <p:cNvPr id="125"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1" name=""/>
            <p:cNvGrpSpPr/>
            <p:nvPr/>
          </p:nvGrpSpPr>
          <p:grpSpPr>
            <a:xfrm>
              <a:off x="2590560" y="2666880"/>
              <a:ext cx="2438280" cy="2362320"/>
              <a:chOff x="2590560" y="2666880"/>
              <a:chExt cx="2438280" cy="2362320"/>
            </a:xfrm>
          </p:grpSpPr>
          <p:sp>
            <p:nvSpPr>
              <p:cNvPr id="132"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2590560" y="2666880"/>
                <a:ext cx="2437920" cy="2361600"/>
                <a:chOff x="2590560" y="2666880"/>
                <a:chExt cx="2437920" cy="2361600"/>
              </a:xfrm>
            </p:grpSpPr>
            <p:grpSp>
              <p:nvGrpSpPr>
                <p:cNvPr id="134" name=""/>
                <p:cNvGrpSpPr/>
                <p:nvPr/>
              </p:nvGrpSpPr>
              <p:grpSpPr>
                <a:xfrm>
                  <a:off x="2895120" y="2666880"/>
                  <a:ext cx="1828800" cy="2361600"/>
                  <a:chOff x="2895120" y="2666880"/>
                  <a:chExt cx="1828800" cy="2361600"/>
                </a:xfrm>
              </p:grpSpPr>
              <p:sp>
                <p:nvSpPr>
                  <p:cNvPr id="135"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2590560" y="2895480"/>
                  <a:ext cx="2437920" cy="1904760"/>
                  <a:chOff x="2590560" y="2895480"/>
                  <a:chExt cx="2437920" cy="1904760"/>
                </a:xfrm>
              </p:grpSpPr>
              <p:sp>
                <p:nvSpPr>
                  <p:cNvPr id="142"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8"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5715000" y="1676520"/>
            <a:ext cx="1066320" cy="914400"/>
            <a:chOff x="5715000" y="1676520"/>
            <a:chExt cx="1066320" cy="914400"/>
          </a:xfrm>
        </p:grpSpPr>
        <p:grpSp>
          <p:nvGrpSpPr>
            <p:cNvPr id="150" name=""/>
            <p:cNvGrpSpPr/>
            <p:nvPr/>
          </p:nvGrpSpPr>
          <p:grpSpPr>
            <a:xfrm>
              <a:off x="5715000" y="1676520"/>
              <a:ext cx="853200" cy="726840"/>
              <a:chOff x="5715000" y="1676520"/>
              <a:chExt cx="853200" cy="726840"/>
            </a:xfrm>
          </p:grpSpPr>
          <p:sp>
            <p:nvSpPr>
              <p:cNvPr id="151"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5715000" y="1676520"/>
                <a:ext cx="853200" cy="726840"/>
                <a:chOff x="5715000" y="1676520"/>
                <a:chExt cx="853200" cy="726840"/>
              </a:xfrm>
            </p:grpSpPr>
            <p:grpSp>
              <p:nvGrpSpPr>
                <p:cNvPr id="153" name=""/>
                <p:cNvGrpSpPr/>
                <p:nvPr/>
              </p:nvGrpSpPr>
              <p:grpSpPr>
                <a:xfrm>
                  <a:off x="5821560" y="1676520"/>
                  <a:ext cx="640080" cy="726840"/>
                  <a:chOff x="5821560" y="1676520"/>
                  <a:chExt cx="640080" cy="726840"/>
                </a:xfrm>
              </p:grpSpPr>
              <p:sp>
                <p:nvSpPr>
                  <p:cNvPr id="154"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5715000" y="1746720"/>
                  <a:ext cx="853200" cy="586080"/>
                  <a:chOff x="5715000" y="1746720"/>
                  <a:chExt cx="853200" cy="586080"/>
                </a:xfrm>
              </p:grpSpPr>
              <p:sp>
                <p:nvSpPr>
                  <p:cNvPr id="161"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7" name=""/>
            <p:cNvGrpSpPr/>
            <p:nvPr/>
          </p:nvGrpSpPr>
          <p:grpSpPr>
            <a:xfrm>
              <a:off x="5768280" y="1723320"/>
              <a:ext cx="853200" cy="726840"/>
              <a:chOff x="5768280" y="1723320"/>
              <a:chExt cx="853200" cy="726840"/>
            </a:xfrm>
          </p:grpSpPr>
          <p:sp>
            <p:nvSpPr>
              <p:cNvPr id="168"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5768280" y="1723320"/>
                <a:ext cx="853200" cy="726840"/>
                <a:chOff x="5768280" y="1723320"/>
                <a:chExt cx="853200" cy="726840"/>
              </a:xfrm>
            </p:grpSpPr>
            <p:grpSp>
              <p:nvGrpSpPr>
                <p:cNvPr id="170" name=""/>
                <p:cNvGrpSpPr/>
                <p:nvPr/>
              </p:nvGrpSpPr>
              <p:grpSpPr>
                <a:xfrm>
                  <a:off x="5874840" y="1723320"/>
                  <a:ext cx="640080" cy="726840"/>
                  <a:chOff x="5874840" y="1723320"/>
                  <a:chExt cx="640080" cy="726840"/>
                </a:xfrm>
              </p:grpSpPr>
              <p:sp>
                <p:nvSpPr>
                  <p:cNvPr id="171"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5768280" y="1793520"/>
                  <a:ext cx="853200" cy="586080"/>
                  <a:chOff x="5768280" y="1793520"/>
                  <a:chExt cx="853200" cy="586080"/>
                </a:xfrm>
              </p:grpSpPr>
              <p:sp>
                <p:nvSpPr>
                  <p:cNvPr id="178"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4" name=""/>
            <p:cNvGrpSpPr/>
            <p:nvPr/>
          </p:nvGrpSpPr>
          <p:grpSpPr>
            <a:xfrm>
              <a:off x="5821200" y="1770120"/>
              <a:ext cx="853920" cy="726840"/>
              <a:chOff x="5821200" y="1770120"/>
              <a:chExt cx="853920" cy="726840"/>
            </a:xfrm>
          </p:grpSpPr>
          <p:sp>
            <p:nvSpPr>
              <p:cNvPr id="185"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5821200" y="1770120"/>
                <a:ext cx="853560" cy="726840"/>
                <a:chOff x="5821200" y="1770120"/>
                <a:chExt cx="853560" cy="726840"/>
              </a:xfrm>
            </p:grpSpPr>
            <p:grpSp>
              <p:nvGrpSpPr>
                <p:cNvPr id="187" name=""/>
                <p:cNvGrpSpPr/>
                <p:nvPr/>
              </p:nvGrpSpPr>
              <p:grpSpPr>
                <a:xfrm>
                  <a:off x="5928120" y="1770120"/>
                  <a:ext cx="640080" cy="726840"/>
                  <a:chOff x="5928120" y="1770120"/>
                  <a:chExt cx="640080" cy="726840"/>
                </a:xfrm>
              </p:grpSpPr>
              <p:sp>
                <p:nvSpPr>
                  <p:cNvPr id="188"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5821200" y="1840320"/>
                  <a:ext cx="853560" cy="586080"/>
                  <a:chOff x="5821200" y="1840320"/>
                  <a:chExt cx="853560" cy="586080"/>
                </a:xfrm>
              </p:grpSpPr>
              <p:sp>
                <p:nvSpPr>
                  <p:cNvPr id="195"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01" name=""/>
            <p:cNvGrpSpPr/>
            <p:nvPr/>
          </p:nvGrpSpPr>
          <p:grpSpPr>
            <a:xfrm>
              <a:off x="5874840" y="1816920"/>
              <a:ext cx="853200" cy="726840"/>
              <a:chOff x="5874840" y="1816920"/>
              <a:chExt cx="853200" cy="726840"/>
            </a:xfrm>
          </p:grpSpPr>
          <p:sp>
            <p:nvSpPr>
              <p:cNvPr id="202"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
              <p:cNvGrpSpPr/>
              <p:nvPr/>
            </p:nvGrpSpPr>
            <p:grpSpPr>
              <a:xfrm>
                <a:off x="5874840" y="1816920"/>
                <a:ext cx="853200" cy="726840"/>
                <a:chOff x="5874840" y="1816920"/>
                <a:chExt cx="853200" cy="726840"/>
              </a:xfrm>
            </p:grpSpPr>
            <p:grpSp>
              <p:nvGrpSpPr>
                <p:cNvPr id="204" name=""/>
                <p:cNvGrpSpPr/>
                <p:nvPr/>
              </p:nvGrpSpPr>
              <p:grpSpPr>
                <a:xfrm>
                  <a:off x="5981400" y="1816920"/>
                  <a:ext cx="640080" cy="726840"/>
                  <a:chOff x="5981400" y="1816920"/>
                  <a:chExt cx="640080" cy="726840"/>
                </a:xfrm>
              </p:grpSpPr>
              <p:sp>
                <p:nvSpPr>
                  <p:cNvPr id="205"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5874840" y="1887120"/>
                  <a:ext cx="853200" cy="586080"/>
                  <a:chOff x="5874840" y="1887120"/>
                  <a:chExt cx="853200" cy="586080"/>
                </a:xfrm>
              </p:grpSpPr>
              <p:sp>
                <p:nvSpPr>
                  <p:cNvPr id="212"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5928120" y="1864080"/>
              <a:ext cx="853200" cy="726840"/>
              <a:chOff x="5928120" y="1864080"/>
              <a:chExt cx="853200" cy="726840"/>
            </a:xfrm>
          </p:grpSpPr>
          <p:sp>
            <p:nvSpPr>
              <p:cNvPr id="219"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5928120" y="1864080"/>
                <a:ext cx="853200" cy="726840"/>
                <a:chOff x="5928120" y="1864080"/>
                <a:chExt cx="853200" cy="726840"/>
              </a:xfrm>
            </p:grpSpPr>
            <p:grpSp>
              <p:nvGrpSpPr>
                <p:cNvPr id="221" name=""/>
                <p:cNvGrpSpPr/>
                <p:nvPr/>
              </p:nvGrpSpPr>
              <p:grpSpPr>
                <a:xfrm>
                  <a:off x="6034680" y="1864080"/>
                  <a:ext cx="640080" cy="726840"/>
                  <a:chOff x="6034680" y="1864080"/>
                  <a:chExt cx="640080" cy="726840"/>
                </a:xfrm>
              </p:grpSpPr>
              <p:sp>
                <p:nvSpPr>
                  <p:cNvPr id="222"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5928120" y="1934280"/>
                  <a:ext cx="853200" cy="586080"/>
                  <a:chOff x="5928120" y="1934280"/>
                  <a:chExt cx="853200" cy="586080"/>
                </a:xfrm>
              </p:grpSpPr>
              <p:sp>
                <p:nvSpPr>
                  <p:cNvPr id="229"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5"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6248520" y="2133720"/>
            <a:ext cx="1066320" cy="914400"/>
            <a:chOff x="6248520" y="2133720"/>
            <a:chExt cx="1066320" cy="914400"/>
          </a:xfrm>
        </p:grpSpPr>
        <p:grpSp>
          <p:nvGrpSpPr>
            <p:cNvPr id="237" name=""/>
            <p:cNvGrpSpPr/>
            <p:nvPr/>
          </p:nvGrpSpPr>
          <p:grpSpPr>
            <a:xfrm>
              <a:off x="6248520" y="2133720"/>
              <a:ext cx="853200" cy="726840"/>
              <a:chOff x="6248520" y="2133720"/>
              <a:chExt cx="853200" cy="726840"/>
            </a:xfrm>
          </p:grpSpPr>
          <p:sp>
            <p:nvSpPr>
              <p:cNvPr id="238"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6248520" y="2133720"/>
                <a:ext cx="853200" cy="726840"/>
                <a:chOff x="6248520" y="2133720"/>
                <a:chExt cx="853200" cy="726840"/>
              </a:xfrm>
            </p:grpSpPr>
            <p:grpSp>
              <p:nvGrpSpPr>
                <p:cNvPr id="240" name=""/>
                <p:cNvGrpSpPr/>
                <p:nvPr/>
              </p:nvGrpSpPr>
              <p:grpSpPr>
                <a:xfrm>
                  <a:off x="6355080" y="2133720"/>
                  <a:ext cx="640080" cy="726840"/>
                  <a:chOff x="6355080" y="2133720"/>
                  <a:chExt cx="640080" cy="726840"/>
                </a:xfrm>
              </p:grpSpPr>
              <p:sp>
                <p:nvSpPr>
                  <p:cNvPr id="241"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 name=""/>
                <p:cNvGrpSpPr/>
                <p:nvPr/>
              </p:nvGrpSpPr>
              <p:grpSpPr>
                <a:xfrm>
                  <a:off x="6248520" y="2203920"/>
                  <a:ext cx="853200" cy="586080"/>
                  <a:chOff x="6248520" y="2203920"/>
                  <a:chExt cx="853200" cy="586080"/>
                </a:xfrm>
              </p:grpSpPr>
              <p:sp>
                <p:nvSpPr>
                  <p:cNvPr id="248"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4" name=""/>
            <p:cNvGrpSpPr/>
            <p:nvPr/>
          </p:nvGrpSpPr>
          <p:grpSpPr>
            <a:xfrm>
              <a:off x="6301800" y="2180520"/>
              <a:ext cx="853200" cy="726840"/>
              <a:chOff x="6301800" y="2180520"/>
              <a:chExt cx="853200" cy="726840"/>
            </a:xfrm>
          </p:grpSpPr>
          <p:sp>
            <p:nvSpPr>
              <p:cNvPr id="255"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6301800" y="2180520"/>
                <a:ext cx="853200" cy="726840"/>
                <a:chOff x="6301800" y="2180520"/>
                <a:chExt cx="853200" cy="726840"/>
              </a:xfrm>
            </p:grpSpPr>
            <p:grpSp>
              <p:nvGrpSpPr>
                <p:cNvPr id="257" name=""/>
                <p:cNvGrpSpPr/>
                <p:nvPr/>
              </p:nvGrpSpPr>
              <p:grpSpPr>
                <a:xfrm>
                  <a:off x="6408360" y="2180520"/>
                  <a:ext cx="640080" cy="726840"/>
                  <a:chOff x="6408360" y="2180520"/>
                  <a:chExt cx="640080" cy="726840"/>
                </a:xfrm>
              </p:grpSpPr>
              <p:sp>
                <p:nvSpPr>
                  <p:cNvPr id="258"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6301800" y="2250720"/>
                  <a:ext cx="853200" cy="586080"/>
                  <a:chOff x="6301800" y="2250720"/>
                  <a:chExt cx="853200" cy="586080"/>
                </a:xfrm>
              </p:grpSpPr>
              <p:sp>
                <p:nvSpPr>
                  <p:cNvPr id="265"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354720" y="2227320"/>
              <a:ext cx="853920" cy="726840"/>
              <a:chOff x="6354720" y="2227320"/>
              <a:chExt cx="853920" cy="726840"/>
            </a:xfrm>
          </p:grpSpPr>
          <p:sp>
            <p:nvSpPr>
              <p:cNvPr id="272"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6354720" y="2227320"/>
                <a:ext cx="853560" cy="726840"/>
                <a:chOff x="6354720" y="2227320"/>
                <a:chExt cx="853560" cy="726840"/>
              </a:xfrm>
            </p:grpSpPr>
            <p:grpSp>
              <p:nvGrpSpPr>
                <p:cNvPr id="274" name=""/>
                <p:cNvGrpSpPr/>
                <p:nvPr/>
              </p:nvGrpSpPr>
              <p:grpSpPr>
                <a:xfrm>
                  <a:off x="6461640" y="2227320"/>
                  <a:ext cx="640080" cy="726840"/>
                  <a:chOff x="6461640" y="2227320"/>
                  <a:chExt cx="640080" cy="726840"/>
                </a:xfrm>
              </p:grpSpPr>
              <p:sp>
                <p:nvSpPr>
                  <p:cNvPr id="275"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354720" y="2297520"/>
                  <a:ext cx="853560" cy="586080"/>
                  <a:chOff x="6354720" y="2297520"/>
                  <a:chExt cx="853560" cy="586080"/>
                </a:xfrm>
              </p:grpSpPr>
              <p:sp>
                <p:nvSpPr>
                  <p:cNvPr id="282"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8" name=""/>
            <p:cNvGrpSpPr/>
            <p:nvPr/>
          </p:nvGrpSpPr>
          <p:grpSpPr>
            <a:xfrm>
              <a:off x="6408360" y="2274120"/>
              <a:ext cx="853200" cy="726840"/>
              <a:chOff x="6408360" y="2274120"/>
              <a:chExt cx="853200" cy="726840"/>
            </a:xfrm>
          </p:grpSpPr>
          <p:sp>
            <p:nvSpPr>
              <p:cNvPr id="289"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6408360" y="2274120"/>
                <a:ext cx="853200" cy="726840"/>
                <a:chOff x="6408360" y="2274120"/>
                <a:chExt cx="853200" cy="726840"/>
              </a:xfrm>
            </p:grpSpPr>
            <p:grpSp>
              <p:nvGrpSpPr>
                <p:cNvPr id="291" name=""/>
                <p:cNvGrpSpPr/>
                <p:nvPr/>
              </p:nvGrpSpPr>
              <p:grpSpPr>
                <a:xfrm>
                  <a:off x="6514920" y="2274120"/>
                  <a:ext cx="640080" cy="726840"/>
                  <a:chOff x="6514920" y="2274120"/>
                  <a:chExt cx="640080" cy="726840"/>
                </a:xfrm>
              </p:grpSpPr>
              <p:sp>
                <p:nvSpPr>
                  <p:cNvPr id="292"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6408360" y="2344320"/>
                  <a:ext cx="853200" cy="586080"/>
                  <a:chOff x="6408360" y="2344320"/>
                  <a:chExt cx="853200" cy="586080"/>
                </a:xfrm>
              </p:grpSpPr>
              <p:sp>
                <p:nvSpPr>
                  <p:cNvPr id="299"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5" name=""/>
            <p:cNvGrpSpPr/>
            <p:nvPr/>
          </p:nvGrpSpPr>
          <p:grpSpPr>
            <a:xfrm>
              <a:off x="6461640" y="2321280"/>
              <a:ext cx="853200" cy="726840"/>
              <a:chOff x="6461640" y="2321280"/>
              <a:chExt cx="853200" cy="726840"/>
            </a:xfrm>
          </p:grpSpPr>
          <p:sp>
            <p:nvSpPr>
              <p:cNvPr id="306"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6461640" y="2321280"/>
                <a:ext cx="853200" cy="726840"/>
                <a:chOff x="6461640" y="2321280"/>
                <a:chExt cx="853200" cy="726840"/>
              </a:xfrm>
            </p:grpSpPr>
            <p:grpSp>
              <p:nvGrpSpPr>
                <p:cNvPr id="308" name=""/>
                <p:cNvGrpSpPr/>
                <p:nvPr/>
              </p:nvGrpSpPr>
              <p:grpSpPr>
                <a:xfrm>
                  <a:off x="6568200" y="2321280"/>
                  <a:ext cx="640080" cy="726840"/>
                  <a:chOff x="6568200" y="2321280"/>
                  <a:chExt cx="640080" cy="726840"/>
                </a:xfrm>
              </p:grpSpPr>
              <p:sp>
                <p:nvSpPr>
                  <p:cNvPr id="309"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 name=""/>
                <p:cNvGrpSpPr/>
                <p:nvPr/>
              </p:nvGrpSpPr>
              <p:grpSpPr>
                <a:xfrm>
                  <a:off x="6461640" y="2391480"/>
                  <a:ext cx="853200" cy="586080"/>
                  <a:chOff x="6461640" y="2391480"/>
                  <a:chExt cx="853200" cy="586080"/>
                </a:xfrm>
              </p:grpSpPr>
              <p:sp>
                <p:nvSpPr>
                  <p:cNvPr id="316"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2"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6781320" y="2590920"/>
            <a:ext cx="1067040" cy="914400"/>
            <a:chOff x="6781320" y="2590920"/>
            <a:chExt cx="1067040" cy="914400"/>
          </a:xfrm>
        </p:grpSpPr>
        <p:grpSp>
          <p:nvGrpSpPr>
            <p:cNvPr id="324" name=""/>
            <p:cNvGrpSpPr/>
            <p:nvPr/>
          </p:nvGrpSpPr>
          <p:grpSpPr>
            <a:xfrm>
              <a:off x="6781320" y="2590920"/>
              <a:ext cx="853920" cy="726840"/>
              <a:chOff x="6781320" y="2590920"/>
              <a:chExt cx="853920" cy="726840"/>
            </a:xfrm>
          </p:grpSpPr>
          <p:sp>
            <p:nvSpPr>
              <p:cNvPr id="325"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 name=""/>
              <p:cNvGrpSpPr/>
              <p:nvPr/>
            </p:nvGrpSpPr>
            <p:grpSpPr>
              <a:xfrm>
                <a:off x="6781320" y="2590920"/>
                <a:ext cx="853560" cy="726840"/>
                <a:chOff x="6781320" y="2590920"/>
                <a:chExt cx="853560" cy="726840"/>
              </a:xfrm>
            </p:grpSpPr>
            <p:grpSp>
              <p:nvGrpSpPr>
                <p:cNvPr id="327" name=""/>
                <p:cNvGrpSpPr/>
                <p:nvPr/>
              </p:nvGrpSpPr>
              <p:grpSpPr>
                <a:xfrm>
                  <a:off x="6888240" y="2590920"/>
                  <a:ext cx="640080" cy="726840"/>
                  <a:chOff x="6888240" y="2590920"/>
                  <a:chExt cx="640080" cy="726840"/>
                </a:xfrm>
              </p:grpSpPr>
              <p:sp>
                <p:nvSpPr>
                  <p:cNvPr id="328"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6781320" y="2661120"/>
                  <a:ext cx="853560" cy="586080"/>
                  <a:chOff x="6781320" y="2661120"/>
                  <a:chExt cx="853560" cy="586080"/>
                </a:xfrm>
              </p:grpSpPr>
              <p:sp>
                <p:nvSpPr>
                  <p:cNvPr id="335"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41" name=""/>
            <p:cNvGrpSpPr/>
            <p:nvPr/>
          </p:nvGrpSpPr>
          <p:grpSpPr>
            <a:xfrm>
              <a:off x="6834600" y="2637720"/>
              <a:ext cx="853920" cy="726840"/>
              <a:chOff x="6834600" y="2637720"/>
              <a:chExt cx="853920" cy="726840"/>
            </a:xfrm>
          </p:grpSpPr>
          <p:sp>
            <p:nvSpPr>
              <p:cNvPr id="342"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
              <p:cNvGrpSpPr/>
              <p:nvPr/>
            </p:nvGrpSpPr>
            <p:grpSpPr>
              <a:xfrm>
                <a:off x="6834600" y="2637720"/>
                <a:ext cx="853560" cy="726840"/>
                <a:chOff x="6834600" y="2637720"/>
                <a:chExt cx="853560" cy="726840"/>
              </a:xfrm>
            </p:grpSpPr>
            <p:grpSp>
              <p:nvGrpSpPr>
                <p:cNvPr id="344" name=""/>
                <p:cNvGrpSpPr/>
                <p:nvPr/>
              </p:nvGrpSpPr>
              <p:grpSpPr>
                <a:xfrm>
                  <a:off x="6941520" y="2637720"/>
                  <a:ext cx="640080" cy="726840"/>
                  <a:chOff x="6941520" y="2637720"/>
                  <a:chExt cx="640080" cy="726840"/>
                </a:xfrm>
              </p:grpSpPr>
              <p:sp>
                <p:nvSpPr>
                  <p:cNvPr id="345"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
                <p:cNvGrpSpPr/>
                <p:nvPr/>
              </p:nvGrpSpPr>
              <p:grpSpPr>
                <a:xfrm>
                  <a:off x="6834600" y="2707920"/>
                  <a:ext cx="853560" cy="586080"/>
                  <a:chOff x="6834600" y="2707920"/>
                  <a:chExt cx="853560" cy="586080"/>
                </a:xfrm>
              </p:grpSpPr>
              <p:sp>
                <p:nvSpPr>
                  <p:cNvPr id="352"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8" name=""/>
            <p:cNvGrpSpPr/>
            <p:nvPr/>
          </p:nvGrpSpPr>
          <p:grpSpPr>
            <a:xfrm>
              <a:off x="6888240" y="2684520"/>
              <a:ext cx="853920" cy="726840"/>
              <a:chOff x="6888240" y="2684520"/>
              <a:chExt cx="853920" cy="726840"/>
            </a:xfrm>
          </p:grpSpPr>
          <p:sp>
            <p:nvSpPr>
              <p:cNvPr id="359"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 name=""/>
              <p:cNvGrpSpPr/>
              <p:nvPr/>
            </p:nvGrpSpPr>
            <p:grpSpPr>
              <a:xfrm>
                <a:off x="6888240" y="2684520"/>
                <a:ext cx="853920" cy="726840"/>
                <a:chOff x="6888240" y="2684520"/>
                <a:chExt cx="853920" cy="726840"/>
              </a:xfrm>
            </p:grpSpPr>
            <p:grpSp>
              <p:nvGrpSpPr>
                <p:cNvPr id="361" name=""/>
                <p:cNvGrpSpPr/>
                <p:nvPr/>
              </p:nvGrpSpPr>
              <p:grpSpPr>
                <a:xfrm>
                  <a:off x="6994800" y="2684520"/>
                  <a:ext cx="640440" cy="726840"/>
                  <a:chOff x="6994800" y="2684520"/>
                  <a:chExt cx="640440" cy="726840"/>
                </a:xfrm>
              </p:grpSpPr>
              <p:sp>
                <p:nvSpPr>
                  <p:cNvPr id="362"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 name=""/>
                <p:cNvGrpSpPr/>
                <p:nvPr/>
              </p:nvGrpSpPr>
              <p:grpSpPr>
                <a:xfrm>
                  <a:off x="6888240" y="2754720"/>
                  <a:ext cx="853920" cy="586080"/>
                  <a:chOff x="6888240" y="2754720"/>
                  <a:chExt cx="853920" cy="586080"/>
                </a:xfrm>
              </p:grpSpPr>
              <p:sp>
                <p:nvSpPr>
                  <p:cNvPr id="369"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5" name=""/>
            <p:cNvGrpSpPr/>
            <p:nvPr/>
          </p:nvGrpSpPr>
          <p:grpSpPr>
            <a:xfrm>
              <a:off x="6941160" y="2731320"/>
              <a:ext cx="853920" cy="726840"/>
              <a:chOff x="6941160" y="2731320"/>
              <a:chExt cx="853920" cy="726840"/>
            </a:xfrm>
          </p:grpSpPr>
          <p:sp>
            <p:nvSpPr>
              <p:cNvPr id="376"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6941160" y="2731320"/>
                <a:ext cx="853560" cy="726840"/>
                <a:chOff x="6941160" y="2731320"/>
                <a:chExt cx="853560" cy="726840"/>
              </a:xfrm>
            </p:grpSpPr>
            <p:grpSp>
              <p:nvGrpSpPr>
                <p:cNvPr id="378" name=""/>
                <p:cNvGrpSpPr/>
                <p:nvPr/>
              </p:nvGrpSpPr>
              <p:grpSpPr>
                <a:xfrm>
                  <a:off x="7048080" y="2731320"/>
                  <a:ext cx="640080" cy="726840"/>
                  <a:chOff x="7048080" y="2731320"/>
                  <a:chExt cx="640080" cy="726840"/>
                </a:xfrm>
              </p:grpSpPr>
              <p:sp>
                <p:nvSpPr>
                  <p:cNvPr id="379"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6941160" y="2801520"/>
                  <a:ext cx="853560" cy="586080"/>
                  <a:chOff x="6941160" y="2801520"/>
                  <a:chExt cx="853560" cy="586080"/>
                </a:xfrm>
              </p:grpSpPr>
              <p:sp>
                <p:nvSpPr>
                  <p:cNvPr id="386"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2" name=""/>
            <p:cNvGrpSpPr/>
            <p:nvPr/>
          </p:nvGrpSpPr>
          <p:grpSpPr>
            <a:xfrm>
              <a:off x="6994440" y="2778480"/>
              <a:ext cx="853920" cy="726840"/>
              <a:chOff x="6994440" y="2778480"/>
              <a:chExt cx="853920" cy="726840"/>
            </a:xfrm>
          </p:grpSpPr>
          <p:sp>
            <p:nvSpPr>
              <p:cNvPr id="393"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4" name=""/>
              <p:cNvGrpSpPr/>
              <p:nvPr/>
            </p:nvGrpSpPr>
            <p:grpSpPr>
              <a:xfrm>
                <a:off x="6994440" y="2778480"/>
                <a:ext cx="853560" cy="726840"/>
                <a:chOff x="6994440" y="2778480"/>
                <a:chExt cx="853560" cy="726840"/>
              </a:xfrm>
            </p:grpSpPr>
            <p:grpSp>
              <p:nvGrpSpPr>
                <p:cNvPr id="395" name=""/>
                <p:cNvGrpSpPr/>
                <p:nvPr/>
              </p:nvGrpSpPr>
              <p:grpSpPr>
                <a:xfrm>
                  <a:off x="7101360" y="2778480"/>
                  <a:ext cx="640080" cy="726840"/>
                  <a:chOff x="7101360" y="2778480"/>
                  <a:chExt cx="640080" cy="726840"/>
                </a:xfrm>
              </p:grpSpPr>
              <p:sp>
                <p:nvSpPr>
                  <p:cNvPr id="396"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6994440" y="2848680"/>
                  <a:ext cx="853560" cy="586080"/>
                  <a:chOff x="6994440" y="2848680"/>
                  <a:chExt cx="853560" cy="586080"/>
                </a:xfrm>
              </p:grpSpPr>
              <p:sp>
                <p:nvSpPr>
                  <p:cNvPr id="403"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9"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11"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2" name=""/>
          <p:cNvGrpSpPr/>
          <p:nvPr/>
        </p:nvGrpSpPr>
        <p:grpSpPr>
          <a:xfrm>
            <a:off x="5410080" y="4343400"/>
            <a:ext cx="533520" cy="457200"/>
            <a:chOff x="5410080" y="4343400"/>
            <a:chExt cx="533520" cy="457200"/>
          </a:xfrm>
        </p:grpSpPr>
        <p:grpSp>
          <p:nvGrpSpPr>
            <p:cNvPr id="413" name=""/>
            <p:cNvGrpSpPr/>
            <p:nvPr/>
          </p:nvGrpSpPr>
          <p:grpSpPr>
            <a:xfrm>
              <a:off x="5410080" y="4343400"/>
              <a:ext cx="426960" cy="363600"/>
              <a:chOff x="5410080" y="4343400"/>
              <a:chExt cx="426960" cy="363600"/>
            </a:xfrm>
          </p:grpSpPr>
          <p:sp>
            <p:nvSpPr>
              <p:cNvPr id="414"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5410080" y="4343400"/>
                <a:ext cx="426960" cy="363600"/>
                <a:chOff x="5410080" y="4343400"/>
                <a:chExt cx="426960" cy="363600"/>
              </a:xfrm>
            </p:grpSpPr>
            <p:grpSp>
              <p:nvGrpSpPr>
                <p:cNvPr id="416" name=""/>
                <p:cNvGrpSpPr/>
                <p:nvPr/>
              </p:nvGrpSpPr>
              <p:grpSpPr>
                <a:xfrm>
                  <a:off x="5463360" y="4343400"/>
                  <a:ext cx="320400" cy="363600"/>
                  <a:chOff x="5463360" y="4343400"/>
                  <a:chExt cx="320400" cy="363600"/>
                </a:xfrm>
              </p:grpSpPr>
              <p:sp>
                <p:nvSpPr>
                  <p:cNvPr id="417"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3" name=""/>
                <p:cNvGrpSpPr/>
                <p:nvPr/>
              </p:nvGrpSpPr>
              <p:grpSpPr>
                <a:xfrm>
                  <a:off x="5410080" y="4378320"/>
                  <a:ext cx="426960" cy="293400"/>
                  <a:chOff x="5410080" y="4378320"/>
                  <a:chExt cx="426960" cy="293400"/>
                </a:xfrm>
              </p:grpSpPr>
              <p:sp>
                <p:nvSpPr>
                  <p:cNvPr id="424"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30" name=""/>
            <p:cNvGrpSpPr/>
            <p:nvPr/>
          </p:nvGrpSpPr>
          <p:grpSpPr>
            <a:xfrm>
              <a:off x="5436720" y="4366800"/>
              <a:ext cx="426960" cy="363600"/>
              <a:chOff x="5436720" y="4366800"/>
              <a:chExt cx="426960" cy="363600"/>
            </a:xfrm>
          </p:grpSpPr>
          <p:sp>
            <p:nvSpPr>
              <p:cNvPr id="431"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 name=""/>
              <p:cNvGrpSpPr/>
              <p:nvPr/>
            </p:nvGrpSpPr>
            <p:grpSpPr>
              <a:xfrm>
                <a:off x="5436720" y="4366800"/>
                <a:ext cx="426960" cy="363600"/>
                <a:chOff x="5436720" y="4366800"/>
                <a:chExt cx="426960" cy="363600"/>
              </a:xfrm>
            </p:grpSpPr>
            <p:grpSp>
              <p:nvGrpSpPr>
                <p:cNvPr id="433" name=""/>
                <p:cNvGrpSpPr/>
                <p:nvPr/>
              </p:nvGrpSpPr>
              <p:grpSpPr>
                <a:xfrm>
                  <a:off x="5490000" y="4366800"/>
                  <a:ext cx="320400" cy="363600"/>
                  <a:chOff x="5490000" y="4366800"/>
                  <a:chExt cx="320400" cy="363600"/>
                </a:xfrm>
              </p:grpSpPr>
              <p:sp>
                <p:nvSpPr>
                  <p:cNvPr id="434"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0" name=""/>
                <p:cNvGrpSpPr/>
                <p:nvPr/>
              </p:nvGrpSpPr>
              <p:grpSpPr>
                <a:xfrm>
                  <a:off x="5436720" y="4401720"/>
                  <a:ext cx="426960" cy="293400"/>
                  <a:chOff x="5436720" y="4401720"/>
                  <a:chExt cx="426960" cy="293400"/>
                </a:xfrm>
              </p:grpSpPr>
              <p:sp>
                <p:nvSpPr>
                  <p:cNvPr id="441"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7" name=""/>
            <p:cNvGrpSpPr/>
            <p:nvPr/>
          </p:nvGrpSpPr>
          <p:grpSpPr>
            <a:xfrm>
              <a:off x="5463360" y="4390200"/>
              <a:ext cx="426960" cy="363600"/>
              <a:chOff x="5463360" y="4390200"/>
              <a:chExt cx="426960" cy="363600"/>
            </a:xfrm>
          </p:grpSpPr>
          <p:sp>
            <p:nvSpPr>
              <p:cNvPr id="448"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9" name=""/>
              <p:cNvGrpSpPr/>
              <p:nvPr/>
            </p:nvGrpSpPr>
            <p:grpSpPr>
              <a:xfrm>
                <a:off x="5463360" y="4390200"/>
                <a:ext cx="426960" cy="363600"/>
                <a:chOff x="5463360" y="4390200"/>
                <a:chExt cx="426960" cy="363600"/>
              </a:xfrm>
            </p:grpSpPr>
            <p:grpSp>
              <p:nvGrpSpPr>
                <p:cNvPr id="450" name=""/>
                <p:cNvGrpSpPr/>
                <p:nvPr/>
              </p:nvGrpSpPr>
              <p:grpSpPr>
                <a:xfrm>
                  <a:off x="5516640" y="4390200"/>
                  <a:ext cx="320400" cy="363600"/>
                  <a:chOff x="5516640" y="4390200"/>
                  <a:chExt cx="320400" cy="363600"/>
                </a:xfrm>
              </p:grpSpPr>
              <p:sp>
                <p:nvSpPr>
                  <p:cNvPr id="451"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7" name=""/>
                <p:cNvGrpSpPr/>
                <p:nvPr/>
              </p:nvGrpSpPr>
              <p:grpSpPr>
                <a:xfrm>
                  <a:off x="5463360" y="4425120"/>
                  <a:ext cx="426960" cy="293400"/>
                  <a:chOff x="5463360" y="4425120"/>
                  <a:chExt cx="426960" cy="293400"/>
                </a:xfrm>
              </p:grpSpPr>
              <p:sp>
                <p:nvSpPr>
                  <p:cNvPr id="458"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4" name=""/>
            <p:cNvGrpSpPr/>
            <p:nvPr/>
          </p:nvGrpSpPr>
          <p:grpSpPr>
            <a:xfrm>
              <a:off x="5490000" y="4413600"/>
              <a:ext cx="426960" cy="363600"/>
              <a:chOff x="5490000" y="4413600"/>
              <a:chExt cx="426960" cy="363600"/>
            </a:xfrm>
          </p:grpSpPr>
          <p:sp>
            <p:nvSpPr>
              <p:cNvPr id="465"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5490000" y="4413600"/>
                <a:ext cx="426960" cy="363600"/>
                <a:chOff x="5490000" y="4413600"/>
                <a:chExt cx="426960" cy="363600"/>
              </a:xfrm>
            </p:grpSpPr>
            <p:grpSp>
              <p:nvGrpSpPr>
                <p:cNvPr id="467" name=""/>
                <p:cNvGrpSpPr/>
                <p:nvPr/>
              </p:nvGrpSpPr>
              <p:grpSpPr>
                <a:xfrm>
                  <a:off x="5543280" y="4413600"/>
                  <a:ext cx="320400" cy="363600"/>
                  <a:chOff x="5543280" y="4413600"/>
                  <a:chExt cx="320400" cy="363600"/>
                </a:xfrm>
              </p:grpSpPr>
              <p:sp>
                <p:nvSpPr>
                  <p:cNvPr id="468"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5490000" y="4448520"/>
                  <a:ext cx="426960" cy="293400"/>
                  <a:chOff x="5490000" y="4448520"/>
                  <a:chExt cx="426960" cy="293400"/>
                </a:xfrm>
              </p:grpSpPr>
              <p:sp>
                <p:nvSpPr>
                  <p:cNvPr id="475"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81" name=""/>
            <p:cNvGrpSpPr/>
            <p:nvPr/>
          </p:nvGrpSpPr>
          <p:grpSpPr>
            <a:xfrm>
              <a:off x="5516640" y="4437000"/>
              <a:ext cx="426960" cy="363600"/>
              <a:chOff x="5516640" y="4437000"/>
              <a:chExt cx="426960" cy="363600"/>
            </a:xfrm>
          </p:grpSpPr>
          <p:sp>
            <p:nvSpPr>
              <p:cNvPr id="482"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 name=""/>
              <p:cNvGrpSpPr/>
              <p:nvPr/>
            </p:nvGrpSpPr>
            <p:grpSpPr>
              <a:xfrm>
                <a:off x="5516640" y="4437000"/>
                <a:ext cx="426960" cy="363600"/>
                <a:chOff x="5516640" y="4437000"/>
                <a:chExt cx="426960" cy="363600"/>
              </a:xfrm>
            </p:grpSpPr>
            <p:grpSp>
              <p:nvGrpSpPr>
                <p:cNvPr id="484" name=""/>
                <p:cNvGrpSpPr/>
                <p:nvPr/>
              </p:nvGrpSpPr>
              <p:grpSpPr>
                <a:xfrm>
                  <a:off x="5569920" y="4437000"/>
                  <a:ext cx="320400" cy="363600"/>
                  <a:chOff x="5569920" y="4437000"/>
                  <a:chExt cx="320400" cy="363600"/>
                </a:xfrm>
              </p:grpSpPr>
              <p:sp>
                <p:nvSpPr>
                  <p:cNvPr id="485"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5516640" y="4471920"/>
                  <a:ext cx="426960" cy="293400"/>
                  <a:chOff x="5516640" y="4471920"/>
                  <a:chExt cx="426960" cy="293400"/>
                </a:xfrm>
              </p:grpSpPr>
              <p:sp>
                <p:nvSpPr>
                  <p:cNvPr id="492"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8"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9" name=""/>
          <p:cNvGrpSpPr/>
          <p:nvPr/>
        </p:nvGrpSpPr>
        <p:grpSpPr>
          <a:xfrm>
            <a:off x="5943600" y="4800600"/>
            <a:ext cx="533520" cy="457200"/>
            <a:chOff x="5943600" y="4800600"/>
            <a:chExt cx="533520" cy="457200"/>
          </a:xfrm>
        </p:grpSpPr>
        <p:grpSp>
          <p:nvGrpSpPr>
            <p:cNvPr id="500" name=""/>
            <p:cNvGrpSpPr/>
            <p:nvPr/>
          </p:nvGrpSpPr>
          <p:grpSpPr>
            <a:xfrm>
              <a:off x="5943600" y="4800600"/>
              <a:ext cx="426960" cy="363600"/>
              <a:chOff x="5943600" y="4800600"/>
              <a:chExt cx="426960" cy="363600"/>
            </a:xfrm>
          </p:grpSpPr>
          <p:sp>
            <p:nvSpPr>
              <p:cNvPr id="501"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5943600" y="4800600"/>
                <a:ext cx="426960" cy="363600"/>
                <a:chOff x="5943600" y="4800600"/>
                <a:chExt cx="426960" cy="363600"/>
              </a:xfrm>
            </p:grpSpPr>
            <p:grpSp>
              <p:nvGrpSpPr>
                <p:cNvPr id="503" name=""/>
                <p:cNvGrpSpPr/>
                <p:nvPr/>
              </p:nvGrpSpPr>
              <p:grpSpPr>
                <a:xfrm>
                  <a:off x="5996880" y="4800600"/>
                  <a:ext cx="320400" cy="363600"/>
                  <a:chOff x="5996880" y="4800600"/>
                  <a:chExt cx="320400" cy="363600"/>
                </a:xfrm>
              </p:grpSpPr>
              <p:sp>
                <p:nvSpPr>
                  <p:cNvPr id="504"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5943600" y="4835520"/>
                  <a:ext cx="426960" cy="293400"/>
                  <a:chOff x="5943600" y="4835520"/>
                  <a:chExt cx="426960" cy="293400"/>
                </a:xfrm>
              </p:grpSpPr>
              <p:sp>
                <p:nvSpPr>
                  <p:cNvPr id="511"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7" name=""/>
            <p:cNvGrpSpPr/>
            <p:nvPr/>
          </p:nvGrpSpPr>
          <p:grpSpPr>
            <a:xfrm>
              <a:off x="5970240" y="4824000"/>
              <a:ext cx="426960" cy="363600"/>
              <a:chOff x="5970240" y="4824000"/>
              <a:chExt cx="426960" cy="363600"/>
            </a:xfrm>
          </p:grpSpPr>
          <p:sp>
            <p:nvSpPr>
              <p:cNvPr id="518"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9" name=""/>
              <p:cNvGrpSpPr/>
              <p:nvPr/>
            </p:nvGrpSpPr>
            <p:grpSpPr>
              <a:xfrm>
                <a:off x="5970240" y="4824000"/>
                <a:ext cx="426960" cy="363600"/>
                <a:chOff x="5970240" y="4824000"/>
                <a:chExt cx="426960" cy="363600"/>
              </a:xfrm>
            </p:grpSpPr>
            <p:grpSp>
              <p:nvGrpSpPr>
                <p:cNvPr id="520" name=""/>
                <p:cNvGrpSpPr/>
                <p:nvPr/>
              </p:nvGrpSpPr>
              <p:grpSpPr>
                <a:xfrm>
                  <a:off x="6023520" y="4824000"/>
                  <a:ext cx="320400" cy="363600"/>
                  <a:chOff x="6023520" y="4824000"/>
                  <a:chExt cx="320400" cy="363600"/>
                </a:xfrm>
              </p:grpSpPr>
              <p:sp>
                <p:nvSpPr>
                  <p:cNvPr id="521"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5970240" y="4858920"/>
                  <a:ext cx="426960" cy="293400"/>
                  <a:chOff x="5970240" y="4858920"/>
                  <a:chExt cx="426960" cy="293400"/>
                </a:xfrm>
              </p:grpSpPr>
              <p:sp>
                <p:nvSpPr>
                  <p:cNvPr id="528"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4" name=""/>
            <p:cNvGrpSpPr/>
            <p:nvPr/>
          </p:nvGrpSpPr>
          <p:grpSpPr>
            <a:xfrm>
              <a:off x="5996880" y="4847400"/>
              <a:ext cx="426960" cy="363600"/>
              <a:chOff x="5996880" y="4847400"/>
              <a:chExt cx="426960" cy="363600"/>
            </a:xfrm>
          </p:grpSpPr>
          <p:sp>
            <p:nvSpPr>
              <p:cNvPr id="535"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 name=""/>
              <p:cNvGrpSpPr/>
              <p:nvPr/>
            </p:nvGrpSpPr>
            <p:grpSpPr>
              <a:xfrm>
                <a:off x="5996880" y="4847400"/>
                <a:ext cx="426960" cy="363600"/>
                <a:chOff x="5996880" y="4847400"/>
                <a:chExt cx="426960" cy="363600"/>
              </a:xfrm>
            </p:grpSpPr>
            <p:grpSp>
              <p:nvGrpSpPr>
                <p:cNvPr id="537" name=""/>
                <p:cNvGrpSpPr/>
                <p:nvPr/>
              </p:nvGrpSpPr>
              <p:grpSpPr>
                <a:xfrm>
                  <a:off x="6050160" y="4847400"/>
                  <a:ext cx="320400" cy="363600"/>
                  <a:chOff x="6050160" y="4847400"/>
                  <a:chExt cx="320400" cy="363600"/>
                </a:xfrm>
              </p:grpSpPr>
              <p:sp>
                <p:nvSpPr>
                  <p:cNvPr id="538"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4" name=""/>
                <p:cNvGrpSpPr/>
                <p:nvPr/>
              </p:nvGrpSpPr>
              <p:grpSpPr>
                <a:xfrm>
                  <a:off x="5996880" y="4882320"/>
                  <a:ext cx="426960" cy="293400"/>
                  <a:chOff x="5996880" y="4882320"/>
                  <a:chExt cx="426960" cy="293400"/>
                </a:xfrm>
              </p:grpSpPr>
              <p:sp>
                <p:nvSpPr>
                  <p:cNvPr id="545"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51" name=""/>
            <p:cNvGrpSpPr/>
            <p:nvPr/>
          </p:nvGrpSpPr>
          <p:grpSpPr>
            <a:xfrm>
              <a:off x="6023520" y="4870800"/>
              <a:ext cx="426960" cy="363600"/>
              <a:chOff x="6023520" y="4870800"/>
              <a:chExt cx="426960" cy="363600"/>
            </a:xfrm>
          </p:grpSpPr>
          <p:sp>
            <p:nvSpPr>
              <p:cNvPr id="552"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
              <p:cNvGrpSpPr/>
              <p:nvPr/>
            </p:nvGrpSpPr>
            <p:grpSpPr>
              <a:xfrm>
                <a:off x="6023520" y="4870800"/>
                <a:ext cx="426960" cy="363600"/>
                <a:chOff x="6023520" y="4870800"/>
                <a:chExt cx="426960" cy="363600"/>
              </a:xfrm>
            </p:grpSpPr>
            <p:grpSp>
              <p:nvGrpSpPr>
                <p:cNvPr id="554" name=""/>
                <p:cNvGrpSpPr/>
                <p:nvPr/>
              </p:nvGrpSpPr>
              <p:grpSpPr>
                <a:xfrm>
                  <a:off x="6076800" y="4870800"/>
                  <a:ext cx="320400" cy="363600"/>
                  <a:chOff x="6076800" y="4870800"/>
                  <a:chExt cx="320400" cy="363600"/>
                </a:xfrm>
              </p:grpSpPr>
              <p:sp>
                <p:nvSpPr>
                  <p:cNvPr id="555"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1" name=""/>
                <p:cNvGrpSpPr/>
                <p:nvPr/>
              </p:nvGrpSpPr>
              <p:grpSpPr>
                <a:xfrm>
                  <a:off x="6023520" y="4905720"/>
                  <a:ext cx="426960" cy="293400"/>
                  <a:chOff x="6023520" y="4905720"/>
                  <a:chExt cx="426960" cy="293400"/>
                </a:xfrm>
              </p:grpSpPr>
              <p:sp>
                <p:nvSpPr>
                  <p:cNvPr id="562"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8" name=""/>
            <p:cNvGrpSpPr/>
            <p:nvPr/>
          </p:nvGrpSpPr>
          <p:grpSpPr>
            <a:xfrm>
              <a:off x="6050160" y="4894200"/>
              <a:ext cx="426960" cy="363600"/>
              <a:chOff x="6050160" y="4894200"/>
              <a:chExt cx="426960" cy="363600"/>
            </a:xfrm>
          </p:grpSpPr>
          <p:sp>
            <p:nvSpPr>
              <p:cNvPr id="569"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 name=""/>
              <p:cNvGrpSpPr/>
              <p:nvPr/>
            </p:nvGrpSpPr>
            <p:grpSpPr>
              <a:xfrm>
                <a:off x="6050160" y="4894200"/>
                <a:ext cx="426960" cy="363600"/>
                <a:chOff x="6050160" y="4894200"/>
                <a:chExt cx="426960" cy="363600"/>
              </a:xfrm>
            </p:grpSpPr>
            <p:grpSp>
              <p:nvGrpSpPr>
                <p:cNvPr id="571" name=""/>
                <p:cNvGrpSpPr/>
                <p:nvPr/>
              </p:nvGrpSpPr>
              <p:grpSpPr>
                <a:xfrm>
                  <a:off x="6103440" y="4894200"/>
                  <a:ext cx="320400" cy="363600"/>
                  <a:chOff x="6103440" y="4894200"/>
                  <a:chExt cx="320400" cy="363600"/>
                </a:xfrm>
              </p:grpSpPr>
              <p:sp>
                <p:nvSpPr>
                  <p:cNvPr id="572"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8" name=""/>
                <p:cNvGrpSpPr/>
                <p:nvPr/>
              </p:nvGrpSpPr>
              <p:grpSpPr>
                <a:xfrm>
                  <a:off x="6050160" y="4929120"/>
                  <a:ext cx="426960" cy="293400"/>
                  <a:chOff x="6050160" y="4929120"/>
                  <a:chExt cx="426960" cy="293400"/>
                </a:xfrm>
              </p:grpSpPr>
              <p:sp>
                <p:nvSpPr>
                  <p:cNvPr id="579"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5"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6" name=""/>
          <p:cNvGrpSpPr/>
          <p:nvPr/>
        </p:nvGrpSpPr>
        <p:grpSpPr>
          <a:xfrm>
            <a:off x="6476760" y="5257800"/>
            <a:ext cx="533520" cy="457200"/>
            <a:chOff x="6476760" y="5257800"/>
            <a:chExt cx="533520" cy="457200"/>
          </a:xfrm>
        </p:grpSpPr>
        <p:grpSp>
          <p:nvGrpSpPr>
            <p:cNvPr id="587" name=""/>
            <p:cNvGrpSpPr/>
            <p:nvPr/>
          </p:nvGrpSpPr>
          <p:grpSpPr>
            <a:xfrm>
              <a:off x="6476760" y="5257800"/>
              <a:ext cx="426960" cy="363600"/>
              <a:chOff x="6476760" y="5257800"/>
              <a:chExt cx="426960" cy="363600"/>
            </a:xfrm>
          </p:grpSpPr>
          <p:sp>
            <p:nvSpPr>
              <p:cNvPr id="588"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9" name=""/>
              <p:cNvGrpSpPr/>
              <p:nvPr/>
            </p:nvGrpSpPr>
            <p:grpSpPr>
              <a:xfrm>
                <a:off x="6476760" y="5257800"/>
                <a:ext cx="426600" cy="363600"/>
                <a:chOff x="6476760" y="5257800"/>
                <a:chExt cx="426600" cy="363600"/>
              </a:xfrm>
            </p:grpSpPr>
            <p:grpSp>
              <p:nvGrpSpPr>
                <p:cNvPr id="590" name=""/>
                <p:cNvGrpSpPr/>
                <p:nvPr/>
              </p:nvGrpSpPr>
              <p:grpSpPr>
                <a:xfrm>
                  <a:off x="6530400" y="5257800"/>
                  <a:ext cx="320040" cy="363600"/>
                  <a:chOff x="6530400" y="5257800"/>
                  <a:chExt cx="320040" cy="363600"/>
                </a:xfrm>
              </p:grpSpPr>
              <p:sp>
                <p:nvSpPr>
                  <p:cNvPr id="591"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7" name=""/>
                <p:cNvGrpSpPr/>
                <p:nvPr/>
              </p:nvGrpSpPr>
              <p:grpSpPr>
                <a:xfrm>
                  <a:off x="6476760" y="5292720"/>
                  <a:ext cx="426600" cy="293400"/>
                  <a:chOff x="6476760" y="5292720"/>
                  <a:chExt cx="426600" cy="293400"/>
                </a:xfrm>
              </p:grpSpPr>
              <p:sp>
                <p:nvSpPr>
                  <p:cNvPr id="598"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4" name=""/>
            <p:cNvGrpSpPr/>
            <p:nvPr/>
          </p:nvGrpSpPr>
          <p:grpSpPr>
            <a:xfrm>
              <a:off x="6503400" y="5281200"/>
              <a:ext cx="426960" cy="363600"/>
              <a:chOff x="6503400" y="5281200"/>
              <a:chExt cx="426960" cy="363600"/>
            </a:xfrm>
          </p:grpSpPr>
          <p:sp>
            <p:nvSpPr>
              <p:cNvPr id="605"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6" name=""/>
              <p:cNvGrpSpPr/>
              <p:nvPr/>
            </p:nvGrpSpPr>
            <p:grpSpPr>
              <a:xfrm>
                <a:off x="6503400" y="5281200"/>
                <a:ext cx="426600" cy="363600"/>
                <a:chOff x="6503400" y="5281200"/>
                <a:chExt cx="426600" cy="363600"/>
              </a:xfrm>
            </p:grpSpPr>
            <p:grpSp>
              <p:nvGrpSpPr>
                <p:cNvPr id="607" name=""/>
                <p:cNvGrpSpPr/>
                <p:nvPr/>
              </p:nvGrpSpPr>
              <p:grpSpPr>
                <a:xfrm>
                  <a:off x="6557040" y="5281200"/>
                  <a:ext cx="320040" cy="363600"/>
                  <a:chOff x="6557040" y="5281200"/>
                  <a:chExt cx="320040" cy="363600"/>
                </a:xfrm>
              </p:grpSpPr>
              <p:sp>
                <p:nvSpPr>
                  <p:cNvPr id="608"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6503400" y="5316120"/>
                  <a:ext cx="426600" cy="293400"/>
                  <a:chOff x="6503400" y="5316120"/>
                  <a:chExt cx="426600" cy="293400"/>
                </a:xfrm>
              </p:grpSpPr>
              <p:sp>
                <p:nvSpPr>
                  <p:cNvPr id="615"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21" name=""/>
            <p:cNvGrpSpPr/>
            <p:nvPr/>
          </p:nvGrpSpPr>
          <p:grpSpPr>
            <a:xfrm>
              <a:off x="6530040" y="5304600"/>
              <a:ext cx="426960" cy="363600"/>
              <a:chOff x="6530040" y="5304600"/>
              <a:chExt cx="426960" cy="363600"/>
            </a:xfrm>
          </p:grpSpPr>
          <p:sp>
            <p:nvSpPr>
              <p:cNvPr id="622"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3" name=""/>
              <p:cNvGrpSpPr/>
              <p:nvPr/>
            </p:nvGrpSpPr>
            <p:grpSpPr>
              <a:xfrm>
                <a:off x="6530040" y="5304600"/>
                <a:ext cx="426600" cy="363600"/>
                <a:chOff x="6530040" y="5304600"/>
                <a:chExt cx="426600" cy="363600"/>
              </a:xfrm>
            </p:grpSpPr>
            <p:grpSp>
              <p:nvGrpSpPr>
                <p:cNvPr id="624" name=""/>
                <p:cNvGrpSpPr/>
                <p:nvPr/>
              </p:nvGrpSpPr>
              <p:grpSpPr>
                <a:xfrm>
                  <a:off x="6583680" y="5304600"/>
                  <a:ext cx="320040" cy="363600"/>
                  <a:chOff x="6583680" y="5304600"/>
                  <a:chExt cx="320040" cy="363600"/>
                </a:xfrm>
              </p:grpSpPr>
              <p:sp>
                <p:nvSpPr>
                  <p:cNvPr id="625"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6530040" y="5339520"/>
                  <a:ext cx="426600" cy="293400"/>
                  <a:chOff x="6530040" y="5339520"/>
                  <a:chExt cx="426600" cy="293400"/>
                </a:xfrm>
              </p:grpSpPr>
              <p:sp>
                <p:nvSpPr>
                  <p:cNvPr id="632"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8" name=""/>
            <p:cNvGrpSpPr/>
            <p:nvPr/>
          </p:nvGrpSpPr>
          <p:grpSpPr>
            <a:xfrm>
              <a:off x="6556680" y="5328000"/>
              <a:ext cx="426960" cy="363600"/>
              <a:chOff x="6556680" y="5328000"/>
              <a:chExt cx="426960" cy="363600"/>
            </a:xfrm>
          </p:grpSpPr>
          <p:sp>
            <p:nvSpPr>
              <p:cNvPr id="639"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0" name=""/>
              <p:cNvGrpSpPr/>
              <p:nvPr/>
            </p:nvGrpSpPr>
            <p:grpSpPr>
              <a:xfrm>
                <a:off x="6556680" y="5328000"/>
                <a:ext cx="426600" cy="363600"/>
                <a:chOff x="6556680" y="5328000"/>
                <a:chExt cx="426600" cy="363600"/>
              </a:xfrm>
            </p:grpSpPr>
            <p:grpSp>
              <p:nvGrpSpPr>
                <p:cNvPr id="641" name=""/>
                <p:cNvGrpSpPr/>
                <p:nvPr/>
              </p:nvGrpSpPr>
              <p:grpSpPr>
                <a:xfrm>
                  <a:off x="6610320" y="5328000"/>
                  <a:ext cx="320040" cy="363600"/>
                  <a:chOff x="6610320" y="5328000"/>
                  <a:chExt cx="320040" cy="363600"/>
                </a:xfrm>
              </p:grpSpPr>
              <p:sp>
                <p:nvSpPr>
                  <p:cNvPr id="642"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8" name=""/>
                <p:cNvGrpSpPr/>
                <p:nvPr/>
              </p:nvGrpSpPr>
              <p:grpSpPr>
                <a:xfrm>
                  <a:off x="6556680" y="5362920"/>
                  <a:ext cx="426600" cy="293400"/>
                  <a:chOff x="6556680" y="5362920"/>
                  <a:chExt cx="426600" cy="293400"/>
                </a:xfrm>
              </p:grpSpPr>
              <p:sp>
                <p:nvSpPr>
                  <p:cNvPr id="649"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5" name=""/>
            <p:cNvGrpSpPr/>
            <p:nvPr/>
          </p:nvGrpSpPr>
          <p:grpSpPr>
            <a:xfrm>
              <a:off x="6583320" y="5351400"/>
              <a:ext cx="426960" cy="363600"/>
              <a:chOff x="6583320" y="5351400"/>
              <a:chExt cx="426960" cy="363600"/>
            </a:xfrm>
          </p:grpSpPr>
          <p:sp>
            <p:nvSpPr>
              <p:cNvPr id="656"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7" name=""/>
              <p:cNvGrpSpPr/>
              <p:nvPr/>
            </p:nvGrpSpPr>
            <p:grpSpPr>
              <a:xfrm>
                <a:off x="6583320" y="5351400"/>
                <a:ext cx="426600" cy="363600"/>
                <a:chOff x="6583320" y="5351400"/>
                <a:chExt cx="426600" cy="363600"/>
              </a:xfrm>
            </p:grpSpPr>
            <p:grpSp>
              <p:nvGrpSpPr>
                <p:cNvPr id="658" name=""/>
                <p:cNvGrpSpPr/>
                <p:nvPr/>
              </p:nvGrpSpPr>
              <p:grpSpPr>
                <a:xfrm>
                  <a:off x="6636960" y="5351400"/>
                  <a:ext cx="320040" cy="363600"/>
                  <a:chOff x="6636960" y="5351400"/>
                  <a:chExt cx="320040" cy="363600"/>
                </a:xfrm>
              </p:grpSpPr>
              <p:sp>
                <p:nvSpPr>
                  <p:cNvPr id="659"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5" name=""/>
                <p:cNvGrpSpPr/>
                <p:nvPr/>
              </p:nvGrpSpPr>
              <p:grpSpPr>
                <a:xfrm>
                  <a:off x="6583320" y="5386320"/>
                  <a:ext cx="426600" cy="293400"/>
                  <a:chOff x="6583320" y="5386320"/>
                  <a:chExt cx="426600" cy="293400"/>
                </a:xfrm>
              </p:grpSpPr>
              <p:sp>
                <p:nvSpPr>
                  <p:cNvPr id="666"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2"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6400800" y="4343400"/>
            <a:ext cx="533520" cy="457200"/>
            <a:chOff x="6400800" y="4343400"/>
            <a:chExt cx="533520" cy="457200"/>
          </a:xfrm>
        </p:grpSpPr>
        <p:grpSp>
          <p:nvGrpSpPr>
            <p:cNvPr id="674" name=""/>
            <p:cNvGrpSpPr/>
            <p:nvPr/>
          </p:nvGrpSpPr>
          <p:grpSpPr>
            <a:xfrm>
              <a:off x="6400800" y="4343400"/>
              <a:ext cx="426960" cy="363600"/>
              <a:chOff x="6400800" y="4343400"/>
              <a:chExt cx="426960" cy="363600"/>
            </a:xfrm>
          </p:grpSpPr>
          <p:sp>
            <p:nvSpPr>
              <p:cNvPr id="675"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6400800" y="4343400"/>
                <a:ext cx="426960" cy="363600"/>
                <a:chOff x="6400800" y="4343400"/>
                <a:chExt cx="426960" cy="363600"/>
              </a:xfrm>
            </p:grpSpPr>
            <p:grpSp>
              <p:nvGrpSpPr>
                <p:cNvPr id="677" name=""/>
                <p:cNvGrpSpPr/>
                <p:nvPr/>
              </p:nvGrpSpPr>
              <p:grpSpPr>
                <a:xfrm>
                  <a:off x="6454080" y="4343400"/>
                  <a:ext cx="320400" cy="363600"/>
                  <a:chOff x="6454080" y="4343400"/>
                  <a:chExt cx="320400" cy="363600"/>
                </a:xfrm>
              </p:grpSpPr>
              <p:sp>
                <p:nvSpPr>
                  <p:cNvPr id="678"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4" name=""/>
                <p:cNvGrpSpPr/>
                <p:nvPr/>
              </p:nvGrpSpPr>
              <p:grpSpPr>
                <a:xfrm>
                  <a:off x="6400800" y="4378320"/>
                  <a:ext cx="426960" cy="293400"/>
                  <a:chOff x="6400800" y="4378320"/>
                  <a:chExt cx="426960" cy="293400"/>
                </a:xfrm>
              </p:grpSpPr>
              <p:sp>
                <p:nvSpPr>
                  <p:cNvPr id="685"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91" name=""/>
            <p:cNvGrpSpPr/>
            <p:nvPr/>
          </p:nvGrpSpPr>
          <p:grpSpPr>
            <a:xfrm>
              <a:off x="6427440" y="4366800"/>
              <a:ext cx="426960" cy="363600"/>
              <a:chOff x="6427440" y="4366800"/>
              <a:chExt cx="426960" cy="363600"/>
            </a:xfrm>
          </p:grpSpPr>
          <p:sp>
            <p:nvSpPr>
              <p:cNvPr id="692"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3" name=""/>
              <p:cNvGrpSpPr/>
              <p:nvPr/>
            </p:nvGrpSpPr>
            <p:grpSpPr>
              <a:xfrm>
                <a:off x="6427440" y="4366800"/>
                <a:ext cx="426960" cy="363600"/>
                <a:chOff x="6427440" y="4366800"/>
                <a:chExt cx="426960" cy="363600"/>
              </a:xfrm>
            </p:grpSpPr>
            <p:grpSp>
              <p:nvGrpSpPr>
                <p:cNvPr id="694" name=""/>
                <p:cNvGrpSpPr/>
                <p:nvPr/>
              </p:nvGrpSpPr>
              <p:grpSpPr>
                <a:xfrm>
                  <a:off x="6480720" y="4366800"/>
                  <a:ext cx="320400" cy="363600"/>
                  <a:chOff x="6480720" y="4366800"/>
                  <a:chExt cx="320400" cy="363600"/>
                </a:xfrm>
              </p:grpSpPr>
              <p:sp>
                <p:nvSpPr>
                  <p:cNvPr id="695"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1" name=""/>
                <p:cNvGrpSpPr/>
                <p:nvPr/>
              </p:nvGrpSpPr>
              <p:grpSpPr>
                <a:xfrm>
                  <a:off x="6427440" y="4401720"/>
                  <a:ext cx="426960" cy="293400"/>
                  <a:chOff x="6427440" y="4401720"/>
                  <a:chExt cx="426960" cy="293400"/>
                </a:xfrm>
              </p:grpSpPr>
              <p:sp>
                <p:nvSpPr>
                  <p:cNvPr id="702"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8" name=""/>
            <p:cNvGrpSpPr/>
            <p:nvPr/>
          </p:nvGrpSpPr>
          <p:grpSpPr>
            <a:xfrm>
              <a:off x="6454080" y="4390200"/>
              <a:ext cx="426960" cy="363600"/>
              <a:chOff x="6454080" y="4390200"/>
              <a:chExt cx="426960" cy="363600"/>
            </a:xfrm>
          </p:grpSpPr>
          <p:sp>
            <p:nvSpPr>
              <p:cNvPr id="709"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0" name=""/>
              <p:cNvGrpSpPr/>
              <p:nvPr/>
            </p:nvGrpSpPr>
            <p:grpSpPr>
              <a:xfrm>
                <a:off x="6454080" y="4390200"/>
                <a:ext cx="426960" cy="363600"/>
                <a:chOff x="6454080" y="4390200"/>
                <a:chExt cx="426960" cy="363600"/>
              </a:xfrm>
            </p:grpSpPr>
            <p:grpSp>
              <p:nvGrpSpPr>
                <p:cNvPr id="711" name=""/>
                <p:cNvGrpSpPr/>
                <p:nvPr/>
              </p:nvGrpSpPr>
              <p:grpSpPr>
                <a:xfrm>
                  <a:off x="6507360" y="4390200"/>
                  <a:ext cx="320400" cy="363600"/>
                  <a:chOff x="6507360" y="4390200"/>
                  <a:chExt cx="320400" cy="363600"/>
                </a:xfrm>
              </p:grpSpPr>
              <p:sp>
                <p:nvSpPr>
                  <p:cNvPr id="712"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8" name=""/>
                <p:cNvGrpSpPr/>
                <p:nvPr/>
              </p:nvGrpSpPr>
              <p:grpSpPr>
                <a:xfrm>
                  <a:off x="6454080" y="4425120"/>
                  <a:ext cx="426960" cy="293400"/>
                  <a:chOff x="6454080" y="4425120"/>
                  <a:chExt cx="426960" cy="293400"/>
                </a:xfrm>
              </p:grpSpPr>
              <p:sp>
                <p:nvSpPr>
                  <p:cNvPr id="719"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5" name=""/>
            <p:cNvGrpSpPr/>
            <p:nvPr/>
          </p:nvGrpSpPr>
          <p:grpSpPr>
            <a:xfrm>
              <a:off x="6480720" y="4413600"/>
              <a:ext cx="426960" cy="363600"/>
              <a:chOff x="6480720" y="4413600"/>
              <a:chExt cx="426960" cy="363600"/>
            </a:xfrm>
          </p:grpSpPr>
          <p:sp>
            <p:nvSpPr>
              <p:cNvPr id="726"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7" name=""/>
              <p:cNvGrpSpPr/>
              <p:nvPr/>
            </p:nvGrpSpPr>
            <p:grpSpPr>
              <a:xfrm>
                <a:off x="6480720" y="4413600"/>
                <a:ext cx="426960" cy="363600"/>
                <a:chOff x="6480720" y="4413600"/>
                <a:chExt cx="426960" cy="363600"/>
              </a:xfrm>
            </p:grpSpPr>
            <p:grpSp>
              <p:nvGrpSpPr>
                <p:cNvPr id="728" name=""/>
                <p:cNvGrpSpPr/>
                <p:nvPr/>
              </p:nvGrpSpPr>
              <p:grpSpPr>
                <a:xfrm>
                  <a:off x="6534000" y="4413600"/>
                  <a:ext cx="320400" cy="363600"/>
                  <a:chOff x="6534000" y="4413600"/>
                  <a:chExt cx="320400" cy="363600"/>
                </a:xfrm>
              </p:grpSpPr>
              <p:sp>
                <p:nvSpPr>
                  <p:cNvPr id="729"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5" name=""/>
                <p:cNvGrpSpPr/>
                <p:nvPr/>
              </p:nvGrpSpPr>
              <p:grpSpPr>
                <a:xfrm>
                  <a:off x="6480720" y="4448520"/>
                  <a:ext cx="426960" cy="293400"/>
                  <a:chOff x="6480720" y="4448520"/>
                  <a:chExt cx="426960" cy="293400"/>
                </a:xfrm>
              </p:grpSpPr>
              <p:sp>
                <p:nvSpPr>
                  <p:cNvPr id="736"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2" name=""/>
            <p:cNvGrpSpPr/>
            <p:nvPr/>
          </p:nvGrpSpPr>
          <p:grpSpPr>
            <a:xfrm>
              <a:off x="6507360" y="4437000"/>
              <a:ext cx="426960" cy="363600"/>
              <a:chOff x="6507360" y="4437000"/>
              <a:chExt cx="426960" cy="363600"/>
            </a:xfrm>
          </p:grpSpPr>
          <p:sp>
            <p:nvSpPr>
              <p:cNvPr id="743"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
              <p:cNvGrpSpPr/>
              <p:nvPr/>
            </p:nvGrpSpPr>
            <p:grpSpPr>
              <a:xfrm>
                <a:off x="6507360" y="4437000"/>
                <a:ext cx="426960" cy="363600"/>
                <a:chOff x="6507360" y="4437000"/>
                <a:chExt cx="426960" cy="363600"/>
              </a:xfrm>
            </p:grpSpPr>
            <p:grpSp>
              <p:nvGrpSpPr>
                <p:cNvPr id="745" name=""/>
                <p:cNvGrpSpPr/>
                <p:nvPr/>
              </p:nvGrpSpPr>
              <p:grpSpPr>
                <a:xfrm>
                  <a:off x="6560640" y="4437000"/>
                  <a:ext cx="320400" cy="363600"/>
                  <a:chOff x="6560640" y="4437000"/>
                  <a:chExt cx="320400" cy="363600"/>
                </a:xfrm>
              </p:grpSpPr>
              <p:sp>
                <p:nvSpPr>
                  <p:cNvPr id="746"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6507360" y="4471920"/>
                  <a:ext cx="426960" cy="293400"/>
                  <a:chOff x="6507360" y="4471920"/>
                  <a:chExt cx="426960" cy="293400"/>
                </a:xfrm>
              </p:grpSpPr>
              <p:sp>
                <p:nvSpPr>
                  <p:cNvPr id="753"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9"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0" name=""/>
          <p:cNvGrpSpPr/>
          <p:nvPr/>
        </p:nvGrpSpPr>
        <p:grpSpPr>
          <a:xfrm>
            <a:off x="6933960" y="4800600"/>
            <a:ext cx="533520" cy="457200"/>
            <a:chOff x="6933960" y="4800600"/>
            <a:chExt cx="533520" cy="457200"/>
          </a:xfrm>
        </p:grpSpPr>
        <p:grpSp>
          <p:nvGrpSpPr>
            <p:cNvPr id="761" name=""/>
            <p:cNvGrpSpPr/>
            <p:nvPr/>
          </p:nvGrpSpPr>
          <p:grpSpPr>
            <a:xfrm>
              <a:off x="6933960" y="4800600"/>
              <a:ext cx="426960" cy="363600"/>
              <a:chOff x="6933960" y="4800600"/>
              <a:chExt cx="426960" cy="363600"/>
            </a:xfrm>
          </p:grpSpPr>
          <p:sp>
            <p:nvSpPr>
              <p:cNvPr id="762"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 name=""/>
              <p:cNvGrpSpPr/>
              <p:nvPr/>
            </p:nvGrpSpPr>
            <p:grpSpPr>
              <a:xfrm>
                <a:off x="6933960" y="4800600"/>
                <a:ext cx="426600" cy="363600"/>
                <a:chOff x="6933960" y="4800600"/>
                <a:chExt cx="426600" cy="363600"/>
              </a:xfrm>
            </p:grpSpPr>
            <p:grpSp>
              <p:nvGrpSpPr>
                <p:cNvPr id="764" name=""/>
                <p:cNvGrpSpPr/>
                <p:nvPr/>
              </p:nvGrpSpPr>
              <p:grpSpPr>
                <a:xfrm>
                  <a:off x="6987600" y="4800600"/>
                  <a:ext cx="320040" cy="363600"/>
                  <a:chOff x="6987600" y="4800600"/>
                  <a:chExt cx="320040" cy="363600"/>
                </a:xfrm>
              </p:grpSpPr>
              <p:sp>
                <p:nvSpPr>
                  <p:cNvPr id="765"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1" name=""/>
                <p:cNvGrpSpPr/>
                <p:nvPr/>
              </p:nvGrpSpPr>
              <p:grpSpPr>
                <a:xfrm>
                  <a:off x="6933960" y="4835520"/>
                  <a:ext cx="426600" cy="293400"/>
                  <a:chOff x="6933960" y="4835520"/>
                  <a:chExt cx="426600" cy="293400"/>
                </a:xfrm>
              </p:grpSpPr>
              <p:sp>
                <p:nvSpPr>
                  <p:cNvPr id="772"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8" name=""/>
            <p:cNvGrpSpPr/>
            <p:nvPr/>
          </p:nvGrpSpPr>
          <p:grpSpPr>
            <a:xfrm>
              <a:off x="6960600" y="4824000"/>
              <a:ext cx="426960" cy="363600"/>
              <a:chOff x="6960600" y="4824000"/>
              <a:chExt cx="426960" cy="363600"/>
            </a:xfrm>
          </p:grpSpPr>
          <p:sp>
            <p:nvSpPr>
              <p:cNvPr id="779"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6960600" y="4824000"/>
                <a:ext cx="426600" cy="363600"/>
                <a:chOff x="6960600" y="4824000"/>
                <a:chExt cx="426600" cy="363600"/>
              </a:xfrm>
            </p:grpSpPr>
            <p:grpSp>
              <p:nvGrpSpPr>
                <p:cNvPr id="781" name=""/>
                <p:cNvGrpSpPr/>
                <p:nvPr/>
              </p:nvGrpSpPr>
              <p:grpSpPr>
                <a:xfrm>
                  <a:off x="7014240" y="4824000"/>
                  <a:ext cx="320040" cy="363600"/>
                  <a:chOff x="7014240" y="4824000"/>
                  <a:chExt cx="320040" cy="363600"/>
                </a:xfrm>
              </p:grpSpPr>
              <p:sp>
                <p:nvSpPr>
                  <p:cNvPr id="782"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960600" y="4858920"/>
                  <a:ext cx="426600" cy="293400"/>
                  <a:chOff x="6960600" y="4858920"/>
                  <a:chExt cx="426600" cy="293400"/>
                </a:xfrm>
              </p:grpSpPr>
              <p:sp>
                <p:nvSpPr>
                  <p:cNvPr id="789"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5" name=""/>
            <p:cNvGrpSpPr/>
            <p:nvPr/>
          </p:nvGrpSpPr>
          <p:grpSpPr>
            <a:xfrm>
              <a:off x="6987240" y="4847400"/>
              <a:ext cx="426960" cy="363600"/>
              <a:chOff x="6987240" y="4847400"/>
              <a:chExt cx="426960" cy="363600"/>
            </a:xfrm>
          </p:grpSpPr>
          <p:sp>
            <p:nvSpPr>
              <p:cNvPr id="796"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 name=""/>
              <p:cNvGrpSpPr/>
              <p:nvPr/>
            </p:nvGrpSpPr>
            <p:grpSpPr>
              <a:xfrm>
                <a:off x="6987240" y="4847400"/>
                <a:ext cx="426600" cy="363600"/>
                <a:chOff x="6987240" y="4847400"/>
                <a:chExt cx="426600" cy="363600"/>
              </a:xfrm>
            </p:grpSpPr>
            <p:grpSp>
              <p:nvGrpSpPr>
                <p:cNvPr id="798" name=""/>
                <p:cNvGrpSpPr/>
                <p:nvPr/>
              </p:nvGrpSpPr>
              <p:grpSpPr>
                <a:xfrm>
                  <a:off x="7040880" y="4847400"/>
                  <a:ext cx="320040" cy="363600"/>
                  <a:chOff x="7040880" y="4847400"/>
                  <a:chExt cx="320040" cy="363600"/>
                </a:xfrm>
              </p:grpSpPr>
              <p:sp>
                <p:nvSpPr>
                  <p:cNvPr id="799"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5" name=""/>
                <p:cNvGrpSpPr/>
                <p:nvPr/>
              </p:nvGrpSpPr>
              <p:grpSpPr>
                <a:xfrm>
                  <a:off x="6987240" y="4882320"/>
                  <a:ext cx="426600" cy="293400"/>
                  <a:chOff x="6987240" y="4882320"/>
                  <a:chExt cx="426600" cy="293400"/>
                </a:xfrm>
              </p:grpSpPr>
              <p:sp>
                <p:nvSpPr>
                  <p:cNvPr id="806"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2" name=""/>
            <p:cNvGrpSpPr/>
            <p:nvPr/>
          </p:nvGrpSpPr>
          <p:grpSpPr>
            <a:xfrm>
              <a:off x="7013880" y="4870800"/>
              <a:ext cx="426960" cy="363600"/>
              <a:chOff x="7013880" y="4870800"/>
              <a:chExt cx="426960" cy="363600"/>
            </a:xfrm>
          </p:grpSpPr>
          <p:sp>
            <p:nvSpPr>
              <p:cNvPr id="813"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4" name=""/>
              <p:cNvGrpSpPr/>
              <p:nvPr/>
            </p:nvGrpSpPr>
            <p:grpSpPr>
              <a:xfrm>
                <a:off x="7013880" y="4870800"/>
                <a:ext cx="426600" cy="363600"/>
                <a:chOff x="7013880" y="4870800"/>
                <a:chExt cx="426600" cy="363600"/>
              </a:xfrm>
            </p:grpSpPr>
            <p:grpSp>
              <p:nvGrpSpPr>
                <p:cNvPr id="815" name=""/>
                <p:cNvGrpSpPr/>
                <p:nvPr/>
              </p:nvGrpSpPr>
              <p:grpSpPr>
                <a:xfrm>
                  <a:off x="7067520" y="4870800"/>
                  <a:ext cx="320040" cy="363600"/>
                  <a:chOff x="7067520" y="4870800"/>
                  <a:chExt cx="320040" cy="363600"/>
                </a:xfrm>
              </p:grpSpPr>
              <p:sp>
                <p:nvSpPr>
                  <p:cNvPr id="816"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7013880" y="4905720"/>
                  <a:ext cx="426600" cy="293400"/>
                  <a:chOff x="7013880" y="4905720"/>
                  <a:chExt cx="426600" cy="293400"/>
                </a:xfrm>
              </p:grpSpPr>
              <p:sp>
                <p:nvSpPr>
                  <p:cNvPr id="823"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9" name=""/>
            <p:cNvGrpSpPr/>
            <p:nvPr/>
          </p:nvGrpSpPr>
          <p:grpSpPr>
            <a:xfrm>
              <a:off x="7040520" y="4894200"/>
              <a:ext cx="426960" cy="363600"/>
              <a:chOff x="7040520" y="4894200"/>
              <a:chExt cx="426960" cy="363600"/>
            </a:xfrm>
          </p:grpSpPr>
          <p:sp>
            <p:nvSpPr>
              <p:cNvPr id="830"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1" name=""/>
              <p:cNvGrpSpPr/>
              <p:nvPr/>
            </p:nvGrpSpPr>
            <p:grpSpPr>
              <a:xfrm>
                <a:off x="7040520" y="4894200"/>
                <a:ext cx="426600" cy="363600"/>
                <a:chOff x="7040520" y="4894200"/>
                <a:chExt cx="426600" cy="363600"/>
              </a:xfrm>
            </p:grpSpPr>
            <p:grpSp>
              <p:nvGrpSpPr>
                <p:cNvPr id="832" name=""/>
                <p:cNvGrpSpPr/>
                <p:nvPr/>
              </p:nvGrpSpPr>
              <p:grpSpPr>
                <a:xfrm>
                  <a:off x="7094160" y="4894200"/>
                  <a:ext cx="320040" cy="363600"/>
                  <a:chOff x="7094160" y="4894200"/>
                  <a:chExt cx="320040" cy="363600"/>
                </a:xfrm>
              </p:grpSpPr>
              <p:sp>
                <p:nvSpPr>
                  <p:cNvPr id="833"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7040520" y="4929120"/>
                  <a:ext cx="426600" cy="293400"/>
                  <a:chOff x="7040520" y="4929120"/>
                  <a:chExt cx="426600" cy="293400"/>
                </a:xfrm>
              </p:grpSpPr>
              <p:sp>
                <p:nvSpPr>
                  <p:cNvPr id="840"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6"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7467480" y="5257800"/>
            <a:ext cx="533520" cy="457200"/>
            <a:chOff x="7467480" y="5257800"/>
            <a:chExt cx="533520" cy="457200"/>
          </a:xfrm>
        </p:grpSpPr>
        <p:grpSp>
          <p:nvGrpSpPr>
            <p:cNvPr id="848" name=""/>
            <p:cNvGrpSpPr/>
            <p:nvPr/>
          </p:nvGrpSpPr>
          <p:grpSpPr>
            <a:xfrm>
              <a:off x="7467480" y="5257800"/>
              <a:ext cx="426960" cy="363600"/>
              <a:chOff x="7467480" y="5257800"/>
              <a:chExt cx="426960" cy="363600"/>
            </a:xfrm>
          </p:grpSpPr>
          <p:sp>
            <p:nvSpPr>
              <p:cNvPr id="849"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0" name=""/>
              <p:cNvGrpSpPr/>
              <p:nvPr/>
            </p:nvGrpSpPr>
            <p:grpSpPr>
              <a:xfrm>
                <a:off x="7467480" y="5257800"/>
                <a:ext cx="426960" cy="363600"/>
                <a:chOff x="7467480" y="5257800"/>
                <a:chExt cx="426960" cy="363600"/>
              </a:xfrm>
            </p:grpSpPr>
            <p:grpSp>
              <p:nvGrpSpPr>
                <p:cNvPr id="851" name=""/>
                <p:cNvGrpSpPr/>
                <p:nvPr/>
              </p:nvGrpSpPr>
              <p:grpSpPr>
                <a:xfrm>
                  <a:off x="7520760" y="5257800"/>
                  <a:ext cx="320400" cy="363600"/>
                  <a:chOff x="7520760" y="5257800"/>
                  <a:chExt cx="320400" cy="363600"/>
                </a:xfrm>
              </p:grpSpPr>
              <p:sp>
                <p:nvSpPr>
                  <p:cNvPr id="852"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7467480" y="5292720"/>
                  <a:ext cx="426960" cy="293400"/>
                  <a:chOff x="7467480" y="5292720"/>
                  <a:chExt cx="426960" cy="293400"/>
                </a:xfrm>
              </p:grpSpPr>
              <p:sp>
                <p:nvSpPr>
                  <p:cNvPr id="859"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5" name=""/>
            <p:cNvGrpSpPr/>
            <p:nvPr/>
          </p:nvGrpSpPr>
          <p:grpSpPr>
            <a:xfrm>
              <a:off x="7494120" y="5281200"/>
              <a:ext cx="426960" cy="363600"/>
              <a:chOff x="7494120" y="5281200"/>
              <a:chExt cx="426960" cy="363600"/>
            </a:xfrm>
          </p:grpSpPr>
          <p:sp>
            <p:nvSpPr>
              <p:cNvPr id="866"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7" name=""/>
              <p:cNvGrpSpPr/>
              <p:nvPr/>
            </p:nvGrpSpPr>
            <p:grpSpPr>
              <a:xfrm>
                <a:off x="7494120" y="5281200"/>
                <a:ext cx="426960" cy="363600"/>
                <a:chOff x="7494120" y="5281200"/>
                <a:chExt cx="426960" cy="363600"/>
              </a:xfrm>
            </p:grpSpPr>
            <p:grpSp>
              <p:nvGrpSpPr>
                <p:cNvPr id="868" name=""/>
                <p:cNvGrpSpPr/>
                <p:nvPr/>
              </p:nvGrpSpPr>
              <p:grpSpPr>
                <a:xfrm>
                  <a:off x="7547400" y="5281200"/>
                  <a:ext cx="320400" cy="363600"/>
                  <a:chOff x="7547400" y="5281200"/>
                  <a:chExt cx="320400" cy="363600"/>
                </a:xfrm>
              </p:grpSpPr>
              <p:sp>
                <p:nvSpPr>
                  <p:cNvPr id="869"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5" name=""/>
                <p:cNvGrpSpPr/>
                <p:nvPr/>
              </p:nvGrpSpPr>
              <p:grpSpPr>
                <a:xfrm>
                  <a:off x="7494120" y="5316120"/>
                  <a:ext cx="426960" cy="293400"/>
                  <a:chOff x="7494120" y="5316120"/>
                  <a:chExt cx="426960" cy="293400"/>
                </a:xfrm>
              </p:grpSpPr>
              <p:sp>
                <p:nvSpPr>
                  <p:cNvPr id="876"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2" name=""/>
            <p:cNvGrpSpPr/>
            <p:nvPr/>
          </p:nvGrpSpPr>
          <p:grpSpPr>
            <a:xfrm>
              <a:off x="7520760" y="5304600"/>
              <a:ext cx="426960" cy="363600"/>
              <a:chOff x="7520760" y="5304600"/>
              <a:chExt cx="426960" cy="363600"/>
            </a:xfrm>
          </p:grpSpPr>
          <p:sp>
            <p:nvSpPr>
              <p:cNvPr id="883"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4" name=""/>
              <p:cNvGrpSpPr/>
              <p:nvPr/>
            </p:nvGrpSpPr>
            <p:grpSpPr>
              <a:xfrm>
                <a:off x="7520760" y="5304600"/>
                <a:ext cx="426960" cy="363600"/>
                <a:chOff x="7520760" y="5304600"/>
                <a:chExt cx="426960" cy="363600"/>
              </a:xfrm>
            </p:grpSpPr>
            <p:grpSp>
              <p:nvGrpSpPr>
                <p:cNvPr id="885" name=""/>
                <p:cNvGrpSpPr/>
                <p:nvPr/>
              </p:nvGrpSpPr>
              <p:grpSpPr>
                <a:xfrm>
                  <a:off x="7574040" y="5304600"/>
                  <a:ext cx="320400" cy="363600"/>
                  <a:chOff x="7574040" y="5304600"/>
                  <a:chExt cx="320400" cy="363600"/>
                </a:xfrm>
              </p:grpSpPr>
              <p:sp>
                <p:nvSpPr>
                  <p:cNvPr id="886"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2" name=""/>
                <p:cNvGrpSpPr/>
                <p:nvPr/>
              </p:nvGrpSpPr>
              <p:grpSpPr>
                <a:xfrm>
                  <a:off x="7520760" y="5339520"/>
                  <a:ext cx="426960" cy="293400"/>
                  <a:chOff x="7520760" y="5339520"/>
                  <a:chExt cx="426960" cy="293400"/>
                </a:xfrm>
              </p:grpSpPr>
              <p:sp>
                <p:nvSpPr>
                  <p:cNvPr id="893"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9" name=""/>
            <p:cNvGrpSpPr/>
            <p:nvPr/>
          </p:nvGrpSpPr>
          <p:grpSpPr>
            <a:xfrm>
              <a:off x="7547400" y="5328000"/>
              <a:ext cx="426960" cy="363600"/>
              <a:chOff x="7547400" y="5328000"/>
              <a:chExt cx="426960" cy="363600"/>
            </a:xfrm>
          </p:grpSpPr>
          <p:sp>
            <p:nvSpPr>
              <p:cNvPr id="900"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1" name=""/>
              <p:cNvGrpSpPr/>
              <p:nvPr/>
            </p:nvGrpSpPr>
            <p:grpSpPr>
              <a:xfrm>
                <a:off x="7547400" y="5328000"/>
                <a:ext cx="426960" cy="363600"/>
                <a:chOff x="7547400" y="5328000"/>
                <a:chExt cx="426960" cy="363600"/>
              </a:xfrm>
            </p:grpSpPr>
            <p:grpSp>
              <p:nvGrpSpPr>
                <p:cNvPr id="902" name=""/>
                <p:cNvGrpSpPr/>
                <p:nvPr/>
              </p:nvGrpSpPr>
              <p:grpSpPr>
                <a:xfrm>
                  <a:off x="7600680" y="5328000"/>
                  <a:ext cx="320400" cy="363600"/>
                  <a:chOff x="7600680" y="5328000"/>
                  <a:chExt cx="320400" cy="363600"/>
                </a:xfrm>
              </p:grpSpPr>
              <p:sp>
                <p:nvSpPr>
                  <p:cNvPr id="903"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9" name=""/>
                <p:cNvGrpSpPr/>
                <p:nvPr/>
              </p:nvGrpSpPr>
              <p:grpSpPr>
                <a:xfrm>
                  <a:off x="7547400" y="5362920"/>
                  <a:ext cx="426960" cy="293400"/>
                  <a:chOff x="7547400" y="5362920"/>
                  <a:chExt cx="426960" cy="293400"/>
                </a:xfrm>
              </p:grpSpPr>
              <p:sp>
                <p:nvSpPr>
                  <p:cNvPr id="910"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6" name=""/>
            <p:cNvGrpSpPr/>
            <p:nvPr/>
          </p:nvGrpSpPr>
          <p:grpSpPr>
            <a:xfrm>
              <a:off x="7574040" y="5351400"/>
              <a:ext cx="426960" cy="363600"/>
              <a:chOff x="7574040" y="5351400"/>
              <a:chExt cx="426960" cy="363600"/>
            </a:xfrm>
          </p:grpSpPr>
          <p:sp>
            <p:nvSpPr>
              <p:cNvPr id="917"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8" name=""/>
              <p:cNvGrpSpPr/>
              <p:nvPr/>
            </p:nvGrpSpPr>
            <p:grpSpPr>
              <a:xfrm>
                <a:off x="7574040" y="5351400"/>
                <a:ext cx="426960" cy="363600"/>
                <a:chOff x="7574040" y="5351400"/>
                <a:chExt cx="426960" cy="363600"/>
              </a:xfrm>
            </p:grpSpPr>
            <p:grpSp>
              <p:nvGrpSpPr>
                <p:cNvPr id="919" name=""/>
                <p:cNvGrpSpPr/>
                <p:nvPr/>
              </p:nvGrpSpPr>
              <p:grpSpPr>
                <a:xfrm>
                  <a:off x="7627320" y="5351400"/>
                  <a:ext cx="320400" cy="363600"/>
                  <a:chOff x="7627320" y="5351400"/>
                  <a:chExt cx="320400" cy="363600"/>
                </a:xfrm>
              </p:grpSpPr>
              <p:sp>
                <p:nvSpPr>
                  <p:cNvPr id="920"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6" name=""/>
                <p:cNvGrpSpPr/>
                <p:nvPr/>
              </p:nvGrpSpPr>
              <p:grpSpPr>
                <a:xfrm>
                  <a:off x="7574040" y="5386320"/>
                  <a:ext cx="426960" cy="293400"/>
                  <a:chOff x="7574040" y="5386320"/>
                  <a:chExt cx="426960" cy="293400"/>
                </a:xfrm>
              </p:grpSpPr>
              <p:sp>
                <p:nvSpPr>
                  <p:cNvPr id="927"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3"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5"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6"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7"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8"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9"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40"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289F5BD5-BB85-4192-9633-5719359EBF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07-01T13:27:54Z</dcterms:modified>
  <cp:revision>362</cp:revision>
  <dc:subject/>
  <dc:title>Constitutional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