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7D49D-DE79-41E5-87CC-38757F973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7CB1B-E600-402A-9F4E-AAB0D3738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9DD2B-3D57-478D-80C3-EF6D1E42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3021F-A05B-4850-B9B3-AE9AAC797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F6D50-23F3-455C-985D-CD232A906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FF5BD-95FD-42AD-9C32-232C6E278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A308E-53E7-472F-A2B5-E5BA9A2C3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174A8-8BB5-4BA9-ADEC-0A5E034D5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BB072-DBF2-43B0-9E0D-8492A8E87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5D654-8590-4184-BF8A-350013846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2F0A4-6158-4DC0-9E93-31839C26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8431-FB17-4285-90BE-9150358F6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5F30-9B3B-4D94-8022-426FC1B4D718}"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BB5C65E5-3EEA-42A8-826A-0AE9A51DD880}" type="datetime12">
              <a:rPr b="0" lang="en-US" sz="1400" spc="-1" strike="noStrike">
                <a:solidFill>
                  <a:srgbClr val="000000"/>
                </a:solidFill>
                <a:latin typeface="Times New Roman"/>
              </a:rPr>
              <a:t>08:42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5F07-508F-4112-9259-6D1853FF5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5D2F096-A134-4DC9-8BAC-F9C4AAEBCAA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7B1C74B-15B6-49E4-A856-CB6ED6BAC7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FC24307-B665-4914-9304-C8A1082B24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A9D3A34-3E1E-4332-989F-49B5C34935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06595D5-9928-403F-8124-40726ACFEC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AA42276-56A3-4423-A6D3-293D0110D0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ECDD10D-219F-49D9-B6BD-1BE849DADE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C919C6F-7F30-46B3-A600-96DE2A612A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2969B961-12B1-4B2F-9398-B549D1D26C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