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BFF71-B4E6-4C56-882A-C0C5A1C99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67B94-90FC-4BF0-8FFF-BEA383F64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80166-22F7-4B94-B6AB-7C07F0F04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5259F-CCF0-477F-81EE-8907B317E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ACFC0-0020-4BA3-B764-066306656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1110F-8B20-4D5B-AC06-B1568614B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FB05C-4597-4C25-BFFA-9215AD641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76829-AC4B-412D-9C02-25F0D258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3959D-8640-4377-BB2F-2477DF29F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040CD-4450-4BF0-A614-04A0F60E8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B2F2A-EB8E-4967-A904-CF86733D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97449-9E6E-4D16-829A-1A0FFC5F9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0CCB6-ED24-461D-82DF-680D035ABAA2}"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D7AD9F56-EE3D-4CF3-B863-EB9B9AE81AF0}" type="datetime12">
              <a:rPr b="0" lang="en-US" sz="1400" spc="-1" strike="noStrike">
                <a:solidFill>
                  <a:srgbClr val="000000"/>
                </a:solidFill>
                <a:latin typeface="Times New Roman"/>
              </a:rPr>
              <a:t>01:00 P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11F7-B899-4BB8-9893-1F52C25BE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4F69233-845E-4561-907B-E4E4DA92447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9365F1B-3ECA-4611-99E2-408B2F707C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5F1D679-55CB-4562-8433-FDF9DE4521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2437FA8-F0F4-46ED-84FB-B87D7D80EE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FB095C28-F3DB-4805-A37A-EBF0A444C2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AE252D4-64B6-4B13-A691-9649E840D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F2D73F8-F5E2-4B4E-8409-040E97F9A8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B3C479A-C5F4-4315-8533-A4BB13B0D8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511C70C3-2EE9-4872-87DD-525F85135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