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574B9-D65F-474F-93DE-D4AD0DB52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EDA60-5ADD-4D2E-967E-2F84EC555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873AD-A44E-453E-9AC8-3847E2463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744B4-908C-40D1-A5A5-C60755EBE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86D84-D9EC-407D-B426-6D388A62C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C8505-D153-48BA-B443-5946B1785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B07CC-77F6-441A-84A0-B4FB956FF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F8CB8-973E-4865-B9A9-B9A1BAE7A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F4023-5C04-4E12-BFFD-F2CF64956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CE747-DD6A-41E4-8305-858280041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84213-2425-4333-967D-690AA2218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2B139-CE1C-4113-81AF-4DE55F489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A0CB-147F-4E45-B4C8-C18FE0351D5C}"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18335AD6-5A33-4282-99F0-7AED8664101C}" type="datetime12">
              <a:rPr b="0" lang="en-US" sz="1400" spc="-1" strike="noStrike">
                <a:solidFill>
                  <a:srgbClr val="000000"/>
                </a:solidFill>
                <a:latin typeface="Times New Roman"/>
              </a:rPr>
              <a:t>04:55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0B63-8261-4ED3-863E-6605905E2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Document Analysis (GD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18F6FC5-96AA-4A2F-8885-06999677C02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eneral Document Analysis (GD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D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ied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50E5834A-E4F9-484E-99A9-B8F0D273DF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GD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BA8EB9C-2505-456A-BAF3-646AD66C41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33EF9F5-917B-481B-8D07-CC505570A5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GD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12987F0-31E1-4E44-BD18-779E1FD705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D5040F9-DACC-4CBE-9C7B-BEA75A387D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2AFC2DC-7353-4739-9155-13785B219E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F322A90C-7193-4D0D-BAFF-B329FCE79EEE}"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24T06:50:06Z</dcterms:modified>
  <cp:revision>366</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