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E136E-437F-4EC4-BFE8-77A312C45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FEC0-139F-45DE-AC24-56DB08D39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EE5ED-3769-4D7C-9EA5-4A1663155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DF941-C694-4DC0-99EB-154210608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726B-3B81-4577-B7EA-4C94C05A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C024B-CA24-4C63-8344-7C121E90F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FB6B3-5FE5-4407-9ADE-95B35FF91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9B30B-DAA9-4F07-9B41-2E6AEAEC9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FBB2-070A-4CFF-AFFA-C6E8F2C56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DBB9-8DC4-41A1-B1E9-F838BA07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1C51-78C0-4812-94DD-715234735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3609-BB50-46CA-87A9-C8F3AA663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DF69-FE7C-4CE6-9933-DC49B7FA18DE}" type="datetime">
              <a:rPr b="0" lang="en-US" sz="1400" spc="-1" strike="noStrike">
                <a:solidFill>
                  <a:srgbClr val="000000"/>
                </a:solidFill>
                <a:latin typeface="Times New Roman"/>
              </a:rPr>
              <a:t>07/31/26</a:t>
            </a:fld>
            <a:r>
              <a:rPr b="0" lang="en-US" sz="1400" spc="-1" strike="noStrike">
                <a:solidFill>
                  <a:srgbClr val="000000"/>
                </a:solidFill>
                <a:latin typeface="Times New Roman"/>
              </a:rPr>
              <a:t> </a:t>
            </a:r>
            <a:fld id="{52B764BE-8F7F-4AD8-A03D-8D371676B26E}" type="datetime12">
              <a:rPr b="0" lang="en-US" sz="1400" spc="-1" strike="noStrike">
                <a:solidFill>
                  <a:srgbClr val="000000"/>
                </a:solidFill>
                <a:latin typeface="Times New Roman"/>
              </a:rPr>
              <a:t>04:5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2105-6343-4AC3-851B-DE81D4434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D0D7479-145A-47B0-987B-C9547018AC0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324E44A-4484-4A33-AEFA-AE71EF7A37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BC4C995-F8B5-4BC1-B75D-506C9F67A5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85BE89D-6E69-4AB3-A048-1235F7F4F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CD9F6CA-747E-479A-834B-AFF920302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B5E7C94-16A6-4F36-944B-359D1CA23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0DF6967-C2F0-4A0B-BBCE-CDDFBEDC2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154527B-5B79-4404-AA8F-0A98D6C9A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5A150E97-C012-4B37-8CDC-4F7D112022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