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CDCE5-4495-4DBE-81FC-5253850BF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18717-9AAC-4AB6-9AE2-9D9F58C2D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F8E04-8DE1-4FB2-81DC-EEF3B7D5B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B3BFD-63C7-4087-A149-120E946FE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80822-0C6E-48DD-A646-FD33EE17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2582-2947-4D6A-8624-0B6E1EC95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367A-9AE9-4264-9DFB-51FC60675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93B4-759B-414D-8FDD-95C552F54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D3A4-9859-43C0-9CD4-A1CE01298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27120-AD1C-4D6A-A240-5B1B86E49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3D6A-B29D-4439-94E4-51652C92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3B8CC-8E1D-4E32-BEC9-097A18397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008B8-FF30-4DB3-9E9E-559401D7ADC5}"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08C4C4A5-4980-4642-A072-26732B5D6B9B}" type="datetime12">
              <a:rPr b="0" lang="en-US" sz="1400" spc="-1" strike="noStrike">
                <a:solidFill>
                  <a:srgbClr val="000000"/>
                </a:solidFill>
                <a:latin typeface="Times New Roman"/>
              </a:rPr>
              <a:t>01:00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2FC7-EA23-49E6-8208-109BF835D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30778F2-597F-4223-8EEB-68F810B6082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DD0F6D9-21A4-45FD-861E-9C88227563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376C732-5ED5-49D1-98FF-CBB2F5FD41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3BFF60A-0D53-46F9-B3E6-4EBD44ADD5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D277EEC-7323-44F7-AFB7-8D3EBB7233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03B3325-B22A-4ABF-9E00-4FF06FDF58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D9014D6-521A-4FB2-8210-A222205AE8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D1CFFF3-776E-406F-83B9-18BACDA37091}"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