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9B946-7753-4CE0-926D-1A1F04B6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2078C-B520-48D9-B4AC-C31C23F5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A0F78-F94D-4622-B335-6C2082FC6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67428-430F-42B3-AFA7-43569D2FC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AB6F5-E11A-4B66-BC94-53917B009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DE08-6AF8-4385-84E8-5D1DC783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EBF2B-7D7F-442B-8F64-16BEFCCA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2332-ACA2-46FD-B14C-EFFE9E755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B105B-BF6D-484C-A44F-9AACAED6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115F-CF53-4C06-8841-92E1D457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A5403-4FED-4314-8A65-4A13B9A7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F022-1FDA-46B3-85FC-02DB429D5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14C8-06E4-46DB-9B57-2FC397313C9C}"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0633AAF0-E81B-44AF-B39A-D3F1FD37D345}" type="datetime12">
              <a:rPr b="0" lang="en-US" sz="1400" spc="-1" strike="noStrike">
                <a:solidFill>
                  <a:srgbClr val="000000"/>
                </a:solidFill>
                <a:latin typeface="Times New Roman"/>
              </a:rPr>
              <a:t>04:5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3D21-30E3-47A5-98F0-A9B8DFB0E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E0CAD71-0064-4ED3-8603-6F460B30431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A0B7B08-F679-44CA-863F-048329068B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07C663A-B192-4C11-859A-8AEC0482F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D86A9FA-90B8-4847-8F5A-10606A82C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EB5F2CB-8E26-49E5-8960-D484E4C25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28E4322-8F9B-45F9-8C17-04EDB1506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88B21A3-F2BA-4C89-B88C-A470C05B6E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85434B6-8262-4819-BE48-A0D076AEE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70F786D5-9F01-4971-A5F1-DF9DE76B3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