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C4656-B00D-4410-8603-7F65850AC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B2B0D-9FE7-407D-A159-A59E804FD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217B6-8A19-455B-ACB2-1D2B85CD99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E6278-7F45-4504-BCF8-DBC425B56A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86DB2-CEBC-44AF-8E67-D9D62E4D0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1CCB2-DED8-47F4-B168-055B097A5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CD783-8C9C-4227-9B17-F6B0C5F47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854A3-898D-4940-9C57-E6E10AB6E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9A321-CF9F-420D-AE53-059A3769F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E8903-B6ED-4B3A-886C-4DB08EBE2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36AF3-602D-437D-9268-D9B53A989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8CA6F-37A0-491B-AC3D-DF788FE0C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25E5-6029-4821-934E-279BE8A5FE98}"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044228CA-5227-4800-B146-2D8EAB9DC106}" type="datetime12">
              <a:rPr b="0" lang="en-US" sz="1400" spc="-1" strike="noStrike">
                <a:solidFill>
                  <a:srgbClr val="000000"/>
                </a:solidFill>
                <a:latin typeface="Times New Roman"/>
              </a:rPr>
              <a:t>01:01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5430F-16E8-4488-A4F3-F02B2B6E7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Transcript Analysis (MT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85A810E-7B87-407B-9810-1EF88F536BD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dical Transcript Analysis (MT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C6B949A-D4C2-405D-AD59-91715A1629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T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A0A2B97-BB31-4FB7-819A-4C329592FE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55200C4F-E66E-410B-8BD3-1CD2CF712C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MT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A22310D-1BFC-4DC9-8659-172C6A77B7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6ACD4EB-11DD-4CE1-9F5A-400E7F221D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62C0005-4C44-4E0F-83BF-ED8419A8A4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44B0B199-017D-4AFF-92F9-F426389C1A45}"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12T22:52:47Z</dcterms:modified>
  <cp:revision>365</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