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8BEDC-0F1E-41B5-87B2-AA8721AD9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A696F-5FDF-4316-9D24-C2D4B3ACE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80382-EBFB-4663-9940-D71D188EA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E0C7A-66FE-452F-9A1C-F642F7C69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ED3E8-C812-48B0-BC4C-37EE30629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FDFDE-1499-4ED7-BD1A-DA672B0C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EEA91-60D7-4F3A-B9FD-5A3EB1C3A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29997-50F7-4E10-8B35-FC6F776A9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AAD45-CB47-40D6-B985-F7D3F1ECB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BBA77-5E89-4EAC-894C-442FC2FB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5E39-2B79-4255-A5E8-E52622DB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AB47-C9CC-4A59-B2CB-DA8A76BB1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A5D3-3A3E-456E-BDD8-9EA1DA2ED205}"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4CE821DC-D542-4E7E-81AC-437064A5BE55}" type="datetime12">
              <a:rPr b="0" lang="en-US" sz="1400" spc="-1" strike="noStrike">
                <a:solidFill>
                  <a:srgbClr val="000000"/>
                </a:solidFill>
                <a:latin typeface="Times New Roman"/>
              </a:rPr>
              <a:t>01:00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55312-0AD6-41CD-BC66-DBB0A050B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EC6C58C-D94E-4781-BCEE-6ED64DAC518D}"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3E069F5-49D2-4031-9ED5-20BAAB0CA97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7CD8FAD-2E60-4F71-9331-3CC01BF21D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9C65088-FBAF-470A-A534-359C7B6B54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4F7FDC0-2A62-4D7D-A628-9A24F340A0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A71F7E4-6BD0-4970-A047-FCE005309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96F4DF1-CDB8-405E-A880-2C785E488D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DC167DD-34E9-41BE-9A41-14573B7B87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2200E9C0-3D7C-4293-9E93-D1023E829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