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E9534E-09AA-4D14-913E-373447BBB8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60020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398844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E4B76A-68EC-43A3-A687-F453537AC6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174A27-DE3B-49E7-BCBD-A2234E9968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396744-9E51-4C61-878C-EACF47B452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600200"/>
            <a:ext cx="77724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E91675-B778-4A90-B3CF-76ECEF0DE9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A13874-74BA-4D03-A27A-0846F81DCB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1FDC69-A6D2-4F80-86E2-2832F8FEBF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B68E97-2B55-4BF6-A35B-75CC195BA2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D25095-4C82-492C-8C17-2339408420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D60893-BE7B-4085-BE12-36DFB4C8D7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4C2CC9-134A-4A10-96C9-8E680F3A6E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398844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FA1415-782C-449A-BB95-196AEFAA54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40080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91BAC-A109-463F-856E-DE365175744E}" type="datetime">
              <a:rPr b="0" lang="en-US" sz="1400" spc="-1" strike="noStrike">
                <a:solidFill>
                  <a:srgbClr val="000000"/>
                </a:solidFill>
                <a:latin typeface="Times New Roman"/>
              </a:rPr>
              <a:t>07/31/26</a:t>
            </a:fld>
            <a:r>
              <a:rPr b="0" lang="en-US" sz="1400" spc="-1" strike="noStrike">
                <a:solidFill>
                  <a:srgbClr val="000000"/>
                </a:solidFill>
                <a:latin typeface="Times New Roman"/>
              </a:rPr>
              <a:t> </a:t>
            </a:r>
            <a:fld id="{FE99E746-DDB3-42CB-92C4-DB7A0E318DA0}" type="datetime12">
              <a:rPr b="0" lang="en-US" sz="1400" spc="-1" strike="noStrike">
                <a:solidFill>
                  <a:srgbClr val="000000"/>
                </a:solidFill>
                <a:latin typeface="Times New Roman"/>
              </a:rPr>
              <a:t>04:56 AM</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A9416-95E4-409E-A54A-62E6F4F527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cassbeth" descr=""/>
          <p:cNvPicPr/>
          <p:nvPr/>
        </p:nvPicPr>
        <p:blipFill>
          <a:blip r:embed="rId2"/>
          <a:stretch/>
        </p:blipFill>
        <p:spPr>
          <a:xfrm>
            <a:off x="152280" y="152280"/>
            <a:ext cx="2286000" cy="784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167652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in  Language Analysis Tool</a:t>
            </a:r>
            <a:br>
              <a:rPr sz="4400"/>
            </a:br>
            <a:r>
              <a:rPr b="0" lang="en-US" sz="4400" spc="-1" strike="noStrike">
                <a:solidFill>
                  <a:srgbClr val="000000"/>
                </a:solidFill>
                <a:latin typeface="Times New Roman"/>
              </a:rPr>
              <a:t>(PLA) Overview</a:t>
            </a:r>
            <a:endParaRPr b="0" lang="en-US" sz="4400" spc="-1" strike="noStrike">
              <a:solidFill>
                <a:srgbClr val="000000"/>
              </a:solidFill>
              <a:latin typeface="Times New Roman"/>
            </a:endParaRPr>
          </a:p>
        </p:txBody>
      </p:sp>
      <p:sp>
        <p:nvSpPr>
          <p:cNvPr id="43" name="PlaceHolder 2"/>
          <p:cNvSpPr>
            <a:spLocks noGrp="1"/>
          </p:cNvSpPr>
          <p:nvPr>
            <p:ph type="subTitle"/>
          </p:nvPr>
        </p:nvSpPr>
        <p:spPr>
          <a:xfrm>
            <a:off x="1295280" y="35053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ww.cassbeth.com/sat</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ctober 2005</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F3366ED9-EAF6-4E47-B166-FA3CE6DDF36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g Picture</a:t>
            </a:r>
            <a:endParaRPr b="0" lang="en-US" sz="4400" spc="-1" strike="noStrike">
              <a:solidFill>
                <a:srgbClr val="000000"/>
              </a:solidFill>
              <a:latin typeface="Times New Roman"/>
            </a:endParaRPr>
          </a:p>
        </p:txBody>
      </p:sp>
      <p:sp>
        <p:nvSpPr>
          <p:cNvPr id="61" name=""/>
          <p:cNvSpPr/>
          <p:nvPr/>
        </p:nvSpPr>
        <p:spPr>
          <a:xfrm>
            <a:off x="2611440" y="1523880"/>
            <a:ext cx="11714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rPr>
              <a:t>1. RULES</a:t>
            </a:r>
            <a:endParaRPr b="0" lang="en-US" sz="1800" spc="-1" strike="noStrike">
              <a:solidFill>
                <a:srgbClr val="000000"/>
              </a:solidFill>
              <a:latin typeface="Times New Roman"/>
            </a:endParaRPr>
          </a:p>
        </p:txBody>
      </p:sp>
      <p:sp>
        <p:nvSpPr>
          <p:cNvPr id="62" name=""/>
          <p:cNvSpPr/>
          <p:nvPr/>
        </p:nvSpPr>
        <p:spPr>
          <a:xfrm>
            <a:off x="389880" y="3048120"/>
            <a:ext cx="1550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2. SERVICES</a:t>
            </a:r>
            <a:endParaRPr b="0" lang="en-US" sz="1800" spc="-1" strike="noStrike">
              <a:solidFill>
                <a:srgbClr val="000000"/>
              </a:solidFill>
              <a:latin typeface="Times New Roman"/>
            </a:endParaRPr>
          </a:p>
        </p:txBody>
      </p:sp>
      <p:sp>
        <p:nvSpPr>
          <p:cNvPr id="63" name=""/>
          <p:cNvSpPr/>
          <p:nvPr/>
        </p:nvSpPr>
        <p:spPr>
          <a:xfrm>
            <a:off x="527760" y="4724280"/>
            <a:ext cx="1820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 TEMPLATES</a:t>
            </a:r>
            <a:endParaRPr b="0" lang="en-US" sz="1800" spc="-1" strike="noStrike">
              <a:solidFill>
                <a:srgbClr val="000000"/>
              </a:solidFill>
              <a:latin typeface="Times New Roman"/>
            </a:endParaRPr>
          </a:p>
        </p:txBody>
      </p:sp>
      <p:grpSp>
        <p:nvGrpSpPr>
          <p:cNvPr id="64" name=""/>
          <p:cNvGrpSpPr/>
          <p:nvPr/>
        </p:nvGrpSpPr>
        <p:grpSpPr>
          <a:xfrm>
            <a:off x="1981080" y="2057400"/>
            <a:ext cx="3047760" cy="2971800"/>
            <a:chOff x="1981080" y="2057400"/>
            <a:chExt cx="3047760" cy="2971800"/>
          </a:xfrm>
        </p:grpSpPr>
        <p:grpSp>
          <p:nvGrpSpPr>
            <p:cNvPr id="65" name=""/>
            <p:cNvGrpSpPr/>
            <p:nvPr/>
          </p:nvGrpSpPr>
          <p:grpSpPr>
            <a:xfrm>
              <a:off x="1981080" y="2057400"/>
              <a:ext cx="2438280" cy="2361960"/>
              <a:chOff x="1981080" y="2057400"/>
              <a:chExt cx="2438280" cy="2361960"/>
            </a:xfrm>
          </p:grpSpPr>
          <p:sp>
            <p:nvSpPr>
              <p:cNvPr id="66" name=""/>
              <p:cNvSpPr/>
              <p:nvPr/>
            </p:nvSpPr>
            <p:spPr>
              <a:xfrm>
                <a:off x="1981080" y="2057400"/>
                <a:ext cx="2438280" cy="236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 name=""/>
              <p:cNvGrpSpPr/>
              <p:nvPr/>
            </p:nvGrpSpPr>
            <p:grpSpPr>
              <a:xfrm>
                <a:off x="1981080" y="2057400"/>
                <a:ext cx="2437920" cy="2361600"/>
                <a:chOff x="1981080" y="2057400"/>
                <a:chExt cx="2437920" cy="2361600"/>
              </a:xfrm>
            </p:grpSpPr>
            <p:grpSp>
              <p:nvGrpSpPr>
                <p:cNvPr id="68" name=""/>
                <p:cNvGrpSpPr/>
                <p:nvPr/>
              </p:nvGrpSpPr>
              <p:grpSpPr>
                <a:xfrm>
                  <a:off x="2285640" y="2057400"/>
                  <a:ext cx="1828800" cy="2361600"/>
                  <a:chOff x="2285640" y="2057400"/>
                  <a:chExt cx="1828800" cy="2361600"/>
                </a:xfrm>
              </p:grpSpPr>
              <p:sp>
                <p:nvSpPr>
                  <p:cNvPr id="69" name=""/>
                  <p:cNvSpPr/>
                  <p:nvPr/>
                </p:nvSpPr>
                <p:spPr>
                  <a:xfrm>
                    <a:off x="228564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65140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01716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38256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74868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11444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 name=""/>
                <p:cNvGrpSpPr/>
                <p:nvPr/>
              </p:nvGrpSpPr>
              <p:grpSpPr>
                <a:xfrm>
                  <a:off x="1981080" y="2286000"/>
                  <a:ext cx="2437920" cy="1904760"/>
                  <a:chOff x="1981080" y="2286000"/>
                  <a:chExt cx="2437920" cy="1904760"/>
                </a:xfrm>
              </p:grpSpPr>
              <p:sp>
                <p:nvSpPr>
                  <p:cNvPr id="76" name=""/>
                  <p:cNvSpPr/>
                  <p:nvPr/>
                </p:nvSpPr>
                <p:spPr>
                  <a:xfrm flipH="1">
                    <a:off x="1981080" y="22860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a:off x="1981080" y="26668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a:off x="1981080" y="30477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a:off x="1981080" y="34286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a:off x="1981080" y="38098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a:off x="1981080" y="41907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2" name=""/>
            <p:cNvGrpSpPr/>
            <p:nvPr/>
          </p:nvGrpSpPr>
          <p:grpSpPr>
            <a:xfrm>
              <a:off x="2133360" y="2209680"/>
              <a:ext cx="2438280" cy="2362320"/>
              <a:chOff x="2133360" y="2209680"/>
              <a:chExt cx="2438280" cy="2362320"/>
            </a:xfrm>
          </p:grpSpPr>
          <p:sp>
            <p:nvSpPr>
              <p:cNvPr id="83" name=""/>
              <p:cNvSpPr/>
              <p:nvPr/>
            </p:nvSpPr>
            <p:spPr>
              <a:xfrm>
                <a:off x="2133360" y="2209680"/>
                <a:ext cx="243828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 name=""/>
              <p:cNvGrpSpPr/>
              <p:nvPr/>
            </p:nvGrpSpPr>
            <p:grpSpPr>
              <a:xfrm>
                <a:off x="2133360" y="2209680"/>
                <a:ext cx="2437920" cy="2361600"/>
                <a:chOff x="2133360" y="2209680"/>
                <a:chExt cx="2437920" cy="2361600"/>
              </a:xfrm>
            </p:grpSpPr>
            <p:grpSp>
              <p:nvGrpSpPr>
                <p:cNvPr id="85" name=""/>
                <p:cNvGrpSpPr/>
                <p:nvPr/>
              </p:nvGrpSpPr>
              <p:grpSpPr>
                <a:xfrm>
                  <a:off x="2437920" y="2209680"/>
                  <a:ext cx="1828800" cy="2361600"/>
                  <a:chOff x="2437920" y="2209680"/>
                  <a:chExt cx="1828800" cy="2361600"/>
                </a:xfrm>
              </p:grpSpPr>
              <p:sp>
                <p:nvSpPr>
                  <p:cNvPr id="86" name=""/>
                  <p:cNvSpPr/>
                  <p:nvPr/>
                </p:nvSpPr>
                <p:spPr>
                  <a:xfrm>
                    <a:off x="243792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80368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316944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353484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90096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426672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 name=""/>
                <p:cNvGrpSpPr/>
                <p:nvPr/>
              </p:nvGrpSpPr>
              <p:grpSpPr>
                <a:xfrm>
                  <a:off x="2133360" y="2438280"/>
                  <a:ext cx="2437920" cy="1904760"/>
                  <a:chOff x="2133360" y="2438280"/>
                  <a:chExt cx="2437920" cy="1904760"/>
                </a:xfrm>
              </p:grpSpPr>
              <p:sp>
                <p:nvSpPr>
                  <p:cNvPr id="93" name=""/>
                  <p:cNvSpPr/>
                  <p:nvPr/>
                </p:nvSpPr>
                <p:spPr>
                  <a:xfrm flipH="1">
                    <a:off x="2133360" y="24382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H="1">
                    <a:off x="2133360" y="28191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H="1">
                    <a:off x="2133360" y="32000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H="1">
                    <a:off x="2133360" y="35809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H="1">
                    <a:off x="2133360" y="39621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H="1">
                    <a:off x="2133360" y="43430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99" name=""/>
            <p:cNvGrpSpPr/>
            <p:nvPr/>
          </p:nvGrpSpPr>
          <p:grpSpPr>
            <a:xfrm>
              <a:off x="2285640" y="2361960"/>
              <a:ext cx="2438640" cy="2362320"/>
              <a:chOff x="2285640" y="2361960"/>
              <a:chExt cx="2438640" cy="2362320"/>
            </a:xfrm>
          </p:grpSpPr>
          <p:sp>
            <p:nvSpPr>
              <p:cNvPr id="100" name=""/>
              <p:cNvSpPr/>
              <p:nvPr/>
            </p:nvSpPr>
            <p:spPr>
              <a:xfrm>
                <a:off x="2285640" y="2361960"/>
                <a:ext cx="243864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 name=""/>
              <p:cNvGrpSpPr/>
              <p:nvPr/>
            </p:nvGrpSpPr>
            <p:grpSpPr>
              <a:xfrm>
                <a:off x="2285640" y="2361960"/>
                <a:ext cx="2437920" cy="2361600"/>
                <a:chOff x="2285640" y="2361960"/>
                <a:chExt cx="2437920" cy="2361600"/>
              </a:xfrm>
            </p:grpSpPr>
            <p:grpSp>
              <p:nvGrpSpPr>
                <p:cNvPr id="102" name=""/>
                <p:cNvGrpSpPr/>
                <p:nvPr/>
              </p:nvGrpSpPr>
              <p:grpSpPr>
                <a:xfrm>
                  <a:off x="2590200" y="2361960"/>
                  <a:ext cx="1828800" cy="2361600"/>
                  <a:chOff x="2590200" y="2361960"/>
                  <a:chExt cx="1828800" cy="2361600"/>
                </a:xfrm>
              </p:grpSpPr>
              <p:sp>
                <p:nvSpPr>
                  <p:cNvPr id="103" name=""/>
                  <p:cNvSpPr/>
                  <p:nvPr/>
                </p:nvSpPr>
                <p:spPr>
                  <a:xfrm>
                    <a:off x="259020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295596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332172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68712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405324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41900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 name=""/>
                <p:cNvGrpSpPr/>
                <p:nvPr/>
              </p:nvGrpSpPr>
              <p:grpSpPr>
                <a:xfrm>
                  <a:off x="2285640" y="2590560"/>
                  <a:ext cx="2437920" cy="1904760"/>
                  <a:chOff x="2285640" y="2590560"/>
                  <a:chExt cx="2437920" cy="1904760"/>
                </a:xfrm>
              </p:grpSpPr>
              <p:sp>
                <p:nvSpPr>
                  <p:cNvPr id="110" name=""/>
                  <p:cNvSpPr/>
                  <p:nvPr/>
                </p:nvSpPr>
                <p:spPr>
                  <a:xfrm flipH="1">
                    <a:off x="2285640" y="25905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2285640" y="29714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H="1">
                    <a:off x="2285640" y="33523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H="1">
                    <a:off x="2285640" y="37332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2285640" y="41144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H="1">
                    <a:off x="2285640" y="44953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16" name=""/>
            <p:cNvGrpSpPr/>
            <p:nvPr/>
          </p:nvGrpSpPr>
          <p:grpSpPr>
            <a:xfrm>
              <a:off x="2438280" y="2514600"/>
              <a:ext cx="2438280" cy="2361960"/>
              <a:chOff x="2438280" y="2514600"/>
              <a:chExt cx="2438280" cy="2361960"/>
            </a:xfrm>
          </p:grpSpPr>
          <p:sp>
            <p:nvSpPr>
              <p:cNvPr id="117" name=""/>
              <p:cNvSpPr/>
              <p:nvPr/>
            </p:nvSpPr>
            <p:spPr>
              <a:xfrm>
                <a:off x="2438280" y="2514600"/>
                <a:ext cx="2438280" cy="236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8" name=""/>
              <p:cNvGrpSpPr/>
              <p:nvPr/>
            </p:nvGrpSpPr>
            <p:grpSpPr>
              <a:xfrm>
                <a:off x="2438280" y="2514600"/>
                <a:ext cx="2437920" cy="2361600"/>
                <a:chOff x="2438280" y="2514600"/>
                <a:chExt cx="2437920" cy="2361600"/>
              </a:xfrm>
            </p:grpSpPr>
            <p:grpSp>
              <p:nvGrpSpPr>
                <p:cNvPr id="119" name=""/>
                <p:cNvGrpSpPr/>
                <p:nvPr/>
              </p:nvGrpSpPr>
              <p:grpSpPr>
                <a:xfrm>
                  <a:off x="2742840" y="2514600"/>
                  <a:ext cx="1828800" cy="2361600"/>
                  <a:chOff x="2742840" y="2514600"/>
                  <a:chExt cx="1828800" cy="2361600"/>
                </a:xfrm>
              </p:grpSpPr>
              <p:sp>
                <p:nvSpPr>
                  <p:cNvPr id="120" name=""/>
                  <p:cNvSpPr/>
                  <p:nvPr/>
                </p:nvSpPr>
                <p:spPr>
                  <a:xfrm>
                    <a:off x="274284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10860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347436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383976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20588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457164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 name=""/>
                <p:cNvGrpSpPr/>
                <p:nvPr/>
              </p:nvGrpSpPr>
              <p:grpSpPr>
                <a:xfrm>
                  <a:off x="2438280" y="2743200"/>
                  <a:ext cx="2437920" cy="1904760"/>
                  <a:chOff x="2438280" y="2743200"/>
                  <a:chExt cx="2437920" cy="1904760"/>
                </a:xfrm>
              </p:grpSpPr>
              <p:sp>
                <p:nvSpPr>
                  <p:cNvPr id="127" name=""/>
                  <p:cNvSpPr/>
                  <p:nvPr/>
                </p:nvSpPr>
                <p:spPr>
                  <a:xfrm flipH="1">
                    <a:off x="2438280" y="27432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2438280" y="31240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2438280" y="35049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H="1">
                    <a:off x="2438280" y="38858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2438280" y="42670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2438280" y="46479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33" name=""/>
            <p:cNvGrpSpPr/>
            <p:nvPr/>
          </p:nvGrpSpPr>
          <p:grpSpPr>
            <a:xfrm>
              <a:off x="2590560" y="2666880"/>
              <a:ext cx="2438280" cy="2362320"/>
              <a:chOff x="2590560" y="2666880"/>
              <a:chExt cx="2438280" cy="2362320"/>
            </a:xfrm>
          </p:grpSpPr>
          <p:sp>
            <p:nvSpPr>
              <p:cNvPr id="134" name=""/>
              <p:cNvSpPr/>
              <p:nvPr/>
            </p:nvSpPr>
            <p:spPr>
              <a:xfrm>
                <a:off x="2590560" y="2666880"/>
                <a:ext cx="243828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5" name=""/>
              <p:cNvGrpSpPr/>
              <p:nvPr/>
            </p:nvGrpSpPr>
            <p:grpSpPr>
              <a:xfrm>
                <a:off x="2590560" y="2666880"/>
                <a:ext cx="2437920" cy="2361600"/>
                <a:chOff x="2590560" y="2666880"/>
                <a:chExt cx="2437920" cy="2361600"/>
              </a:xfrm>
            </p:grpSpPr>
            <p:grpSp>
              <p:nvGrpSpPr>
                <p:cNvPr id="136" name=""/>
                <p:cNvGrpSpPr/>
                <p:nvPr/>
              </p:nvGrpSpPr>
              <p:grpSpPr>
                <a:xfrm>
                  <a:off x="2895120" y="2666880"/>
                  <a:ext cx="1828800" cy="2361600"/>
                  <a:chOff x="2895120" y="2666880"/>
                  <a:chExt cx="1828800" cy="2361600"/>
                </a:xfrm>
              </p:grpSpPr>
              <p:sp>
                <p:nvSpPr>
                  <p:cNvPr id="137" name=""/>
                  <p:cNvSpPr/>
                  <p:nvPr/>
                </p:nvSpPr>
                <p:spPr>
                  <a:xfrm>
                    <a:off x="289512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26088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362664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399204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35816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472392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3" name=""/>
                <p:cNvGrpSpPr/>
                <p:nvPr/>
              </p:nvGrpSpPr>
              <p:grpSpPr>
                <a:xfrm>
                  <a:off x="2590560" y="2895480"/>
                  <a:ext cx="2437920" cy="1904760"/>
                  <a:chOff x="2590560" y="2895480"/>
                  <a:chExt cx="2437920" cy="1904760"/>
                </a:xfrm>
              </p:grpSpPr>
              <p:sp>
                <p:nvSpPr>
                  <p:cNvPr id="144" name=""/>
                  <p:cNvSpPr/>
                  <p:nvPr/>
                </p:nvSpPr>
                <p:spPr>
                  <a:xfrm flipH="1">
                    <a:off x="2590560" y="28954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a:off x="2590560" y="32763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H="1">
                    <a:off x="2590560" y="36572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a:off x="2590560" y="40381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H="1">
                    <a:off x="2590560" y="44193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H="1">
                    <a:off x="2590560" y="48002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150" name=""/>
            <p:cNvSpPr/>
            <p:nvPr/>
          </p:nvSpPr>
          <p:spPr>
            <a:xfrm>
              <a:off x="1981080" y="4419360"/>
              <a:ext cx="60948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1" name=""/>
          <p:cNvGrpSpPr/>
          <p:nvPr/>
        </p:nvGrpSpPr>
        <p:grpSpPr>
          <a:xfrm>
            <a:off x="5715000" y="1676520"/>
            <a:ext cx="1066320" cy="914400"/>
            <a:chOff x="5715000" y="1676520"/>
            <a:chExt cx="1066320" cy="914400"/>
          </a:xfrm>
        </p:grpSpPr>
        <p:grpSp>
          <p:nvGrpSpPr>
            <p:cNvPr id="152" name=""/>
            <p:cNvGrpSpPr/>
            <p:nvPr/>
          </p:nvGrpSpPr>
          <p:grpSpPr>
            <a:xfrm>
              <a:off x="5715000" y="1676520"/>
              <a:ext cx="853200" cy="726840"/>
              <a:chOff x="5715000" y="1676520"/>
              <a:chExt cx="853200" cy="726840"/>
            </a:xfrm>
          </p:grpSpPr>
          <p:sp>
            <p:nvSpPr>
              <p:cNvPr id="153" name=""/>
              <p:cNvSpPr/>
              <p:nvPr/>
            </p:nvSpPr>
            <p:spPr>
              <a:xfrm>
                <a:off x="5715000" y="16765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4" name=""/>
              <p:cNvGrpSpPr/>
              <p:nvPr/>
            </p:nvGrpSpPr>
            <p:grpSpPr>
              <a:xfrm>
                <a:off x="5715000" y="1676520"/>
                <a:ext cx="853200" cy="726840"/>
                <a:chOff x="5715000" y="1676520"/>
                <a:chExt cx="853200" cy="726840"/>
              </a:xfrm>
            </p:grpSpPr>
            <p:grpSp>
              <p:nvGrpSpPr>
                <p:cNvPr id="155" name=""/>
                <p:cNvGrpSpPr/>
                <p:nvPr/>
              </p:nvGrpSpPr>
              <p:grpSpPr>
                <a:xfrm>
                  <a:off x="5821560" y="1676520"/>
                  <a:ext cx="640080" cy="726840"/>
                  <a:chOff x="5821560" y="1676520"/>
                  <a:chExt cx="640080" cy="726840"/>
                </a:xfrm>
              </p:grpSpPr>
              <p:sp>
                <p:nvSpPr>
                  <p:cNvPr id="156" name=""/>
                  <p:cNvSpPr/>
                  <p:nvPr/>
                </p:nvSpPr>
                <p:spPr>
                  <a:xfrm>
                    <a:off x="582156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594936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07752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620568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33384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46164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2" name=""/>
                <p:cNvGrpSpPr/>
                <p:nvPr/>
              </p:nvGrpSpPr>
              <p:grpSpPr>
                <a:xfrm>
                  <a:off x="5715000" y="1746720"/>
                  <a:ext cx="853200" cy="586080"/>
                  <a:chOff x="5715000" y="1746720"/>
                  <a:chExt cx="853200" cy="586080"/>
                </a:xfrm>
              </p:grpSpPr>
              <p:sp>
                <p:nvSpPr>
                  <p:cNvPr id="163" name=""/>
                  <p:cNvSpPr/>
                  <p:nvPr/>
                </p:nvSpPr>
                <p:spPr>
                  <a:xfrm flipH="1">
                    <a:off x="5715000" y="1746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a:off x="5715000" y="1863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H="1">
                    <a:off x="5715000" y="19810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H="1">
                    <a:off x="5715000" y="20984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H="1">
                    <a:off x="5715000" y="2215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H="1">
                    <a:off x="5715000" y="2332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69" name=""/>
            <p:cNvGrpSpPr/>
            <p:nvPr/>
          </p:nvGrpSpPr>
          <p:grpSpPr>
            <a:xfrm>
              <a:off x="5768280" y="1723320"/>
              <a:ext cx="853200" cy="726840"/>
              <a:chOff x="5768280" y="1723320"/>
              <a:chExt cx="853200" cy="726840"/>
            </a:xfrm>
          </p:grpSpPr>
          <p:sp>
            <p:nvSpPr>
              <p:cNvPr id="170" name=""/>
              <p:cNvSpPr/>
              <p:nvPr/>
            </p:nvSpPr>
            <p:spPr>
              <a:xfrm>
                <a:off x="5768280" y="17233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768280" y="1723320"/>
                <a:ext cx="853200" cy="726840"/>
                <a:chOff x="5768280" y="1723320"/>
                <a:chExt cx="853200" cy="726840"/>
              </a:xfrm>
            </p:grpSpPr>
            <p:grpSp>
              <p:nvGrpSpPr>
                <p:cNvPr id="172" name=""/>
                <p:cNvGrpSpPr/>
                <p:nvPr/>
              </p:nvGrpSpPr>
              <p:grpSpPr>
                <a:xfrm>
                  <a:off x="5874840" y="1723320"/>
                  <a:ext cx="640080" cy="726840"/>
                  <a:chOff x="5874840" y="1723320"/>
                  <a:chExt cx="640080" cy="726840"/>
                </a:xfrm>
              </p:grpSpPr>
              <p:sp>
                <p:nvSpPr>
                  <p:cNvPr id="173" name=""/>
                  <p:cNvSpPr/>
                  <p:nvPr/>
                </p:nvSpPr>
                <p:spPr>
                  <a:xfrm>
                    <a:off x="587484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600264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13080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5896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638712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651492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9" name=""/>
                <p:cNvGrpSpPr/>
                <p:nvPr/>
              </p:nvGrpSpPr>
              <p:grpSpPr>
                <a:xfrm>
                  <a:off x="5768280" y="1793520"/>
                  <a:ext cx="853200" cy="586080"/>
                  <a:chOff x="5768280" y="1793520"/>
                  <a:chExt cx="853200" cy="586080"/>
                </a:xfrm>
              </p:grpSpPr>
              <p:sp>
                <p:nvSpPr>
                  <p:cNvPr id="180" name=""/>
                  <p:cNvSpPr/>
                  <p:nvPr/>
                </p:nvSpPr>
                <p:spPr>
                  <a:xfrm flipH="1">
                    <a:off x="5768280" y="17935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a:off x="5768280" y="19105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a:off x="5768280" y="20278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H="1">
                    <a:off x="5768280" y="21452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H="1">
                    <a:off x="5768280" y="22626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H="1">
                    <a:off x="5768280" y="23796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86" name=""/>
            <p:cNvGrpSpPr/>
            <p:nvPr/>
          </p:nvGrpSpPr>
          <p:grpSpPr>
            <a:xfrm>
              <a:off x="5821200" y="1770120"/>
              <a:ext cx="853920" cy="726840"/>
              <a:chOff x="5821200" y="1770120"/>
              <a:chExt cx="853920" cy="726840"/>
            </a:xfrm>
          </p:grpSpPr>
          <p:sp>
            <p:nvSpPr>
              <p:cNvPr id="187" name=""/>
              <p:cNvSpPr/>
              <p:nvPr/>
            </p:nvSpPr>
            <p:spPr>
              <a:xfrm>
                <a:off x="5821560" y="17701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8" name=""/>
              <p:cNvGrpSpPr/>
              <p:nvPr/>
            </p:nvGrpSpPr>
            <p:grpSpPr>
              <a:xfrm>
                <a:off x="5821200" y="1770120"/>
                <a:ext cx="853560" cy="726840"/>
                <a:chOff x="5821200" y="1770120"/>
                <a:chExt cx="853560" cy="726840"/>
              </a:xfrm>
            </p:grpSpPr>
            <p:grpSp>
              <p:nvGrpSpPr>
                <p:cNvPr id="189" name=""/>
                <p:cNvGrpSpPr/>
                <p:nvPr/>
              </p:nvGrpSpPr>
              <p:grpSpPr>
                <a:xfrm>
                  <a:off x="5928120" y="1770120"/>
                  <a:ext cx="640080" cy="726840"/>
                  <a:chOff x="5928120" y="1770120"/>
                  <a:chExt cx="640080" cy="726840"/>
                </a:xfrm>
              </p:grpSpPr>
              <p:sp>
                <p:nvSpPr>
                  <p:cNvPr id="190" name=""/>
                  <p:cNvSpPr/>
                  <p:nvPr/>
                </p:nvSpPr>
                <p:spPr>
                  <a:xfrm>
                    <a:off x="592812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05592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18408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631224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644040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656820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6" name=""/>
                <p:cNvGrpSpPr/>
                <p:nvPr/>
              </p:nvGrpSpPr>
              <p:grpSpPr>
                <a:xfrm>
                  <a:off x="5821200" y="1840320"/>
                  <a:ext cx="853560" cy="586080"/>
                  <a:chOff x="5821200" y="1840320"/>
                  <a:chExt cx="853560" cy="586080"/>
                </a:xfrm>
              </p:grpSpPr>
              <p:sp>
                <p:nvSpPr>
                  <p:cNvPr id="197" name=""/>
                  <p:cNvSpPr/>
                  <p:nvPr/>
                </p:nvSpPr>
                <p:spPr>
                  <a:xfrm flipH="1">
                    <a:off x="5821200" y="18403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a:off x="5821200" y="19573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flipH="1">
                    <a:off x="5821200" y="2074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H="1">
                    <a:off x="5821200" y="21920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flipH="1">
                    <a:off x="5821200" y="2309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flipH="1">
                    <a:off x="5821200" y="2426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03" name=""/>
            <p:cNvGrpSpPr/>
            <p:nvPr/>
          </p:nvGrpSpPr>
          <p:grpSpPr>
            <a:xfrm>
              <a:off x="5874840" y="1816920"/>
              <a:ext cx="853200" cy="726840"/>
              <a:chOff x="5874840" y="1816920"/>
              <a:chExt cx="853200" cy="726840"/>
            </a:xfrm>
          </p:grpSpPr>
          <p:sp>
            <p:nvSpPr>
              <p:cNvPr id="204" name=""/>
              <p:cNvSpPr/>
              <p:nvPr/>
            </p:nvSpPr>
            <p:spPr>
              <a:xfrm>
                <a:off x="5874840" y="18169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5" name=""/>
              <p:cNvGrpSpPr/>
              <p:nvPr/>
            </p:nvGrpSpPr>
            <p:grpSpPr>
              <a:xfrm>
                <a:off x="5874840" y="1816920"/>
                <a:ext cx="853200" cy="726840"/>
                <a:chOff x="5874840" y="1816920"/>
                <a:chExt cx="853200" cy="726840"/>
              </a:xfrm>
            </p:grpSpPr>
            <p:grpSp>
              <p:nvGrpSpPr>
                <p:cNvPr id="206" name=""/>
                <p:cNvGrpSpPr/>
                <p:nvPr/>
              </p:nvGrpSpPr>
              <p:grpSpPr>
                <a:xfrm>
                  <a:off x="5981400" y="1816920"/>
                  <a:ext cx="640080" cy="726840"/>
                  <a:chOff x="5981400" y="1816920"/>
                  <a:chExt cx="640080" cy="726840"/>
                </a:xfrm>
              </p:grpSpPr>
              <p:sp>
                <p:nvSpPr>
                  <p:cNvPr id="207" name=""/>
                  <p:cNvSpPr/>
                  <p:nvPr/>
                </p:nvSpPr>
                <p:spPr>
                  <a:xfrm>
                    <a:off x="598140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10920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623736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636552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649368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662148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3" name=""/>
                <p:cNvGrpSpPr/>
                <p:nvPr/>
              </p:nvGrpSpPr>
              <p:grpSpPr>
                <a:xfrm>
                  <a:off x="5874840" y="1887120"/>
                  <a:ext cx="853200" cy="586080"/>
                  <a:chOff x="5874840" y="1887120"/>
                  <a:chExt cx="853200" cy="586080"/>
                </a:xfrm>
              </p:grpSpPr>
              <p:sp>
                <p:nvSpPr>
                  <p:cNvPr id="214" name=""/>
                  <p:cNvSpPr/>
                  <p:nvPr/>
                </p:nvSpPr>
                <p:spPr>
                  <a:xfrm flipH="1">
                    <a:off x="5874840" y="18871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H="1">
                    <a:off x="5874840" y="20041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H="1">
                    <a:off x="5874840" y="2121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flipH="1">
                    <a:off x="5874840" y="22388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flipH="1">
                    <a:off x="5874840" y="2356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flipH="1">
                    <a:off x="5874840" y="2473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20" name=""/>
            <p:cNvGrpSpPr/>
            <p:nvPr/>
          </p:nvGrpSpPr>
          <p:grpSpPr>
            <a:xfrm>
              <a:off x="5928120" y="1864080"/>
              <a:ext cx="853200" cy="726840"/>
              <a:chOff x="5928120" y="1864080"/>
              <a:chExt cx="853200" cy="726840"/>
            </a:xfrm>
          </p:grpSpPr>
          <p:sp>
            <p:nvSpPr>
              <p:cNvPr id="221" name=""/>
              <p:cNvSpPr/>
              <p:nvPr/>
            </p:nvSpPr>
            <p:spPr>
              <a:xfrm>
                <a:off x="5928120" y="186408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2" name=""/>
              <p:cNvGrpSpPr/>
              <p:nvPr/>
            </p:nvGrpSpPr>
            <p:grpSpPr>
              <a:xfrm>
                <a:off x="5928120" y="1864080"/>
                <a:ext cx="853200" cy="726840"/>
                <a:chOff x="5928120" y="1864080"/>
                <a:chExt cx="853200" cy="726840"/>
              </a:xfrm>
            </p:grpSpPr>
            <p:grpSp>
              <p:nvGrpSpPr>
                <p:cNvPr id="223" name=""/>
                <p:cNvGrpSpPr/>
                <p:nvPr/>
              </p:nvGrpSpPr>
              <p:grpSpPr>
                <a:xfrm>
                  <a:off x="6034680" y="1864080"/>
                  <a:ext cx="640080" cy="726840"/>
                  <a:chOff x="6034680" y="1864080"/>
                  <a:chExt cx="640080" cy="726840"/>
                </a:xfrm>
              </p:grpSpPr>
              <p:sp>
                <p:nvSpPr>
                  <p:cNvPr id="224" name=""/>
                  <p:cNvSpPr/>
                  <p:nvPr/>
                </p:nvSpPr>
                <p:spPr>
                  <a:xfrm>
                    <a:off x="603468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16248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629064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641880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654696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667476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0" name=""/>
                <p:cNvGrpSpPr/>
                <p:nvPr/>
              </p:nvGrpSpPr>
              <p:grpSpPr>
                <a:xfrm>
                  <a:off x="5928120" y="1934280"/>
                  <a:ext cx="853200" cy="586080"/>
                  <a:chOff x="5928120" y="1934280"/>
                  <a:chExt cx="853200" cy="586080"/>
                </a:xfrm>
              </p:grpSpPr>
              <p:sp>
                <p:nvSpPr>
                  <p:cNvPr id="231" name=""/>
                  <p:cNvSpPr/>
                  <p:nvPr/>
                </p:nvSpPr>
                <p:spPr>
                  <a:xfrm flipH="1">
                    <a:off x="5928120" y="1934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H="1">
                    <a:off x="5928120" y="2051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flipH="1">
                    <a:off x="5928120" y="21686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5928120" y="2286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5928120" y="24033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flipH="1">
                    <a:off x="5928120" y="25203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237" name=""/>
            <p:cNvSpPr/>
            <p:nvPr/>
          </p:nvSpPr>
          <p:spPr>
            <a:xfrm>
              <a:off x="5715000" y="24033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8" name=""/>
          <p:cNvGrpSpPr/>
          <p:nvPr/>
        </p:nvGrpSpPr>
        <p:grpSpPr>
          <a:xfrm>
            <a:off x="6248520" y="2133720"/>
            <a:ext cx="1066320" cy="914400"/>
            <a:chOff x="6248520" y="2133720"/>
            <a:chExt cx="1066320" cy="914400"/>
          </a:xfrm>
        </p:grpSpPr>
        <p:grpSp>
          <p:nvGrpSpPr>
            <p:cNvPr id="239" name=""/>
            <p:cNvGrpSpPr/>
            <p:nvPr/>
          </p:nvGrpSpPr>
          <p:grpSpPr>
            <a:xfrm>
              <a:off x="6248520" y="2133720"/>
              <a:ext cx="853200" cy="726840"/>
              <a:chOff x="6248520" y="2133720"/>
              <a:chExt cx="853200" cy="726840"/>
            </a:xfrm>
          </p:grpSpPr>
          <p:sp>
            <p:nvSpPr>
              <p:cNvPr id="240" name=""/>
              <p:cNvSpPr/>
              <p:nvPr/>
            </p:nvSpPr>
            <p:spPr>
              <a:xfrm>
                <a:off x="6248520" y="21337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1" name=""/>
              <p:cNvGrpSpPr/>
              <p:nvPr/>
            </p:nvGrpSpPr>
            <p:grpSpPr>
              <a:xfrm>
                <a:off x="6248520" y="2133720"/>
                <a:ext cx="853200" cy="726840"/>
                <a:chOff x="6248520" y="2133720"/>
                <a:chExt cx="853200" cy="726840"/>
              </a:xfrm>
            </p:grpSpPr>
            <p:grpSp>
              <p:nvGrpSpPr>
                <p:cNvPr id="242" name=""/>
                <p:cNvGrpSpPr/>
                <p:nvPr/>
              </p:nvGrpSpPr>
              <p:grpSpPr>
                <a:xfrm>
                  <a:off x="6355080" y="2133720"/>
                  <a:ext cx="640080" cy="726840"/>
                  <a:chOff x="6355080" y="2133720"/>
                  <a:chExt cx="640080" cy="726840"/>
                </a:xfrm>
              </p:grpSpPr>
              <p:sp>
                <p:nvSpPr>
                  <p:cNvPr id="243" name=""/>
                  <p:cNvSpPr/>
                  <p:nvPr/>
                </p:nvSpPr>
                <p:spPr>
                  <a:xfrm>
                    <a:off x="635508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48288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61104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73920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686736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99516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9" name=""/>
                <p:cNvGrpSpPr/>
                <p:nvPr/>
              </p:nvGrpSpPr>
              <p:grpSpPr>
                <a:xfrm>
                  <a:off x="6248520" y="2203920"/>
                  <a:ext cx="853200" cy="586080"/>
                  <a:chOff x="6248520" y="2203920"/>
                  <a:chExt cx="853200" cy="586080"/>
                </a:xfrm>
              </p:grpSpPr>
              <p:sp>
                <p:nvSpPr>
                  <p:cNvPr id="250" name=""/>
                  <p:cNvSpPr/>
                  <p:nvPr/>
                </p:nvSpPr>
                <p:spPr>
                  <a:xfrm flipH="1">
                    <a:off x="6248520" y="22039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H="1">
                    <a:off x="6248520" y="23209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H="1">
                    <a:off x="6248520" y="2438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a:off x="6248520" y="25556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H="1">
                    <a:off x="6248520" y="2673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H="1">
                    <a:off x="6248520" y="2790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56" name=""/>
            <p:cNvGrpSpPr/>
            <p:nvPr/>
          </p:nvGrpSpPr>
          <p:grpSpPr>
            <a:xfrm>
              <a:off x="6301800" y="2180520"/>
              <a:ext cx="853200" cy="726840"/>
              <a:chOff x="6301800" y="2180520"/>
              <a:chExt cx="853200" cy="726840"/>
            </a:xfrm>
          </p:grpSpPr>
          <p:sp>
            <p:nvSpPr>
              <p:cNvPr id="257" name=""/>
              <p:cNvSpPr/>
              <p:nvPr/>
            </p:nvSpPr>
            <p:spPr>
              <a:xfrm>
                <a:off x="6301800" y="21805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8" name=""/>
              <p:cNvGrpSpPr/>
              <p:nvPr/>
            </p:nvGrpSpPr>
            <p:grpSpPr>
              <a:xfrm>
                <a:off x="6301800" y="2180520"/>
                <a:ext cx="853200" cy="726840"/>
                <a:chOff x="6301800" y="2180520"/>
                <a:chExt cx="853200" cy="726840"/>
              </a:xfrm>
            </p:grpSpPr>
            <p:grpSp>
              <p:nvGrpSpPr>
                <p:cNvPr id="259" name=""/>
                <p:cNvGrpSpPr/>
                <p:nvPr/>
              </p:nvGrpSpPr>
              <p:grpSpPr>
                <a:xfrm>
                  <a:off x="6408360" y="2180520"/>
                  <a:ext cx="640080" cy="726840"/>
                  <a:chOff x="6408360" y="2180520"/>
                  <a:chExt cx="640080" cy="726840"/>
                </a:xfrm>
              </p:grpSpPr>
              <p:sp>
                <p:nvSpPr>
                  <p:cNvPr id="260" name=""/>
                  <p:cNvSpPr/>
                  <p:nvPr/>
                </p:nvSpPr>
                <p:spPr>
                  <a:xfrm>
                    <a:off x="640836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653616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666432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679248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692064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04844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6" name=""/>
                <p:cNvGrpSpPr/>
                <p:nvPr/>
              </p:nvGrpSpPr>
              <p:grpSpPr>
                <a:xfrm>
                  <a:off x="6301800" y="2250720"/>
                  <a:ext cx="853200" cy="586080"/>
                  <a:chOff x="6301800" y="2250720"/>
                  <a:chExt cx="853200" cy="586080"/>
                </a:xfrm>
              </p:grpSpPr>
              <p:sp>
                <p:nvSpPr>
                  <p:cNvPr id="267" name=""/>
                  <p:cNvSpPr/>
                  <p:nvPr/>
                </p:nvSpPr>
                <p:spPr>
                  <a:xfrm flipH="1">
                    <a:off x="6301800" y="2250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6301800" y="2367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H="1">
                    <a:off x="6301800" y="24850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6301800" y="26024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flipH="1">
                    <a:off x="6301800" y="2719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flipH="1">
                    <a:off x="6301800" y="2836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73" name=""/>
            <p:cNvGrpSpPr/>
            <p:nvPr/>
          </p:nvGrpSpPr>
          <p:grpSpPr>
            <a:xfrm>
              <a:off x="6354720" y="2227320"/>
              <a:ext cx="853920" cy="726840"/>
              <a:chOff x="6354720" y="2227320"/>
              <a:chExt cx="853920" cy="726840"/>
            </a:xfrm>
          </p:grpSpPr>
          <p:sp>
            <p:nvSpPr>
              <p:cNvPr id="274" name=""/>
              <p:cNvSpPr/>
              <p:nvPr/>
            </p:nvSpPr>
            <p:spPr>
              <a:xfrm>
                <a:off x="6355080" y="22273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5" name=""/>
              <p:cNvGrpSpPr/>
              <p:nvPr/>
            </p:nvGrpSpPr>
            <p:grpSpPr>
              <a:xfrm>
                <a:off x="6354720" y="2227320"/>
                <a:ext cx="853560" cy="726840"/>
                <a:chOff x="6354720" y="2227320"/>
                <a:chExt cx="853560" cy="726840"/>
              </a:xfrm>
            </p:grpSpPr>
            <p:grpSp>
              <p:nvGrpSpPr>
                <p:cNvPr id="276" name=""/>
                <p:cNvGrpSpPr/>
                <p:nvPr/>
              </p:nvGrpSpPr>
              <p:grpSpPr>
                <a:xfrm>
                  <a:off x="6461640" y="2227320"/>
                  <a:ext cx="640080" cy="726840"/>
                  <a:chOff x="6461640" y="2227320"/>
                  <a:chExt cx="640080" cy="726840"/>
                </a:xfrm>
              </p:grpSpPr>
              <p:sp>
                <p:nvSpPr>
                  <p:cNvPr id="277" name=""/>
                  <p:cNvSpPr/>
                  <p:nvPr/>
                </p:nvSpPr>
                <p:spPr>
                  <a:xfrm>
                    <a:off x="646164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58944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671760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84576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697392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710172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3" name=""/>
                <p:cNvGrpSpPr/>
                <p:nvPr/>
              </p:nvGrpSpPr>
              <p:grpSpPr>
                <a:xfrm>
                  <a:off x="6354720" y="2297520"/>
                  <a:ext cx="853560" cy="586080"/>
                  <a:chOff x="6354720" y="2297520"/>
                  <a:chExt cx="853560" cy="586080"/>
                </a:xfrm>
              </p:grpSpPr>
              <p:sp>
                <p:nvSpPr>
                  <p:cNvPr id="284" name=""/>
                  <p:cNvSpPr/>
                  <p:nvPr/>
                </p:nvSpPr>
                <p:spPr>
                  <a:xfrm flipH="1">
                    <a:off x="6354720" y="2297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a:off x="6354720" y="2414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6354720" y="25318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flipH="1">
                    <a:off x="6354720" y="26492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a:off x="6354720" y="2766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flipH="1">
                    <a:off x="6354720" y="2883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90" name=""/>
            <p:cNvGrpSpPr/>
            <p:nvPr/>
          </p:nvGrpSpPr>
          <p:grpSpPr>
            <a:xfrm>
              <a:off x="6408360" y="2274120"/>
              <a:ext cx="853200" cy="726840"/>
              <a:chOff x="6408360" y="2274120"/>
              <a:chExt cx="853200" cy="726840"/>
            </a:xfrm>
          </p:grpSpPr>
          <p:sp>
            <p:nvSpPr>
              <p:cNvPr id="291" name=""/>
              <p:cNvSpPr/>
              <p:nvPr/>
            </p:nvSpPr>
            <p:spPr>
              <a:xfrm>
                <a:off x="6408360" y="22741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2" name=""/>
              <p:cNvGrpSpPr/>
              <p:nvPr/>
            </p:nvGrpSpPr>
            <p:grpSpPr>
              <a:xfrm>
                <a:off x="6408360" y="2274120"/>
                <a:ext cx="853200" cy="726840"/>
                <a:chOff x="6408360" y="2274120"/>
                <a:chExt cx="853200" cy="726840"/>
              </a:xfrm>
            </p:grpSpPr>
            <p:grpSp>
              <p:nvGrpSpPr>
                <p:cNvPr id="293" name=""/>
                <p:cNvGrpSpPr/>
                <p:nvPr/>
              </p:nvGrpSpPr>
              <p:grpSpPr>
                <a:xfrm>
                  <a:off x="6514920" y="2274120"/>
                  <a:ext cx="640080" cy="726840"/>
                  <a:chOff x="6514920" y="2274120"/>
                  <a:chExt cx="640080" cy="726840"/>
                </a:xfrm>
              </p:grpSpPr>
              <p:sp>
                <p:nvSpPr>
                  <p:cNvPr id="294" name=""/>
                  <p:cNvSpPr/>
                  <p:nvPr/>
                </p:nvSpPr>
                <p:spPr>
                  <a:xfrm>
                    <a:off x="651492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64272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77088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689904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702720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715500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0" name=""/>
                <p:cNvGrpSpPr/>
                <p:nvPr/>
              </p:nvGrpSpPr>
              <p:grpSpPr>
                <a:xfrm>
                  <a:off x="6408360" y="2344320"/>
                  <a:ext cx="853200" cy="586080"/>
                  <a:chOff x="6408360" y="2344320"/>
                  <a:chExt cx="853200" cy="586080"/>
                </a:xfrm>
              </p:grpSpPr>
              <p:sp>
                <p:nvSpPr>
                  <p:cNvPr id="301" name=""/>
                  <p:cNvSpPr/>
                  <p:nvPr/>
                </p:nvSpPr>
                <p:spPr>
                  <a:xfrm flipH="1">
                    <a:off x="6408360" y="23443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H="1">
                    <a:off x="6408360" y="24613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H="1">
                    <a:off x="6408360" y="25786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408360" y="26960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408360" y="28134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flipH="1">
                    <a:off x="6408360" y="29304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07" name=""/>
            <p:cNvGrpSpPr/>
            <p:nvPr/>
          </p:nvGrpSpPr>
          <p:grpSpPr>
            <a:xfrm>
              <a:off x="6461640" y="2321280"/>
              <a:ext cx="853200" cy="726840"/>
              <a:chOff x="6461640" y="2321280"/>
              <a:chExt cx="853200" cy="726840"/>
            </a:xfrm>
          </p:grpSpPr>
          <p:sp>
            <p:nvSpPr>
              <p:cNvPr id="308" name=""/>
              <p:cNvSpPr/>
              <p:nvPr/>
            </p:nvSpPr>
            <p:spPr>
              <a:xfrm>
                <a:off x="6461640" y="232128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6461640" y="2321280"/>
                <a:ext cx="853200" cy="726840"/>
                <a:chOff x="6461640" y="2321280"/>
                <a:chExt cx="853200" cy="726840"/>
              </a:xfrm>
            </p:grpSpPr>
            <p:grpSp>
              <p:nvGrpSpPr>
                <p:cNvPr id="310" name=""/>
                <p:cNvGrpSpPr/>
                <p:nvPr/>
              </p:nvGrpSpPr>
              <p:grpSpPr>
                <a:xfrm>
                  <a:off x="6568200" y="2321280"/>
                  <a:ext cx="640080" cy="726840"/>
                  <a:chOff x="6568200" y="2321280"/>
                  <a:chExt cx="640080" cy="726840"/>
                </a:xfrm>
              </p:grpSpPr>
              <p:sp>
                <p:nvSpPr>
                  <p:cNvPr id="311" name=""/>
                  <p:cNvSpPr/>
                  <p:nvPr/>
                </p:nvSpPr>
                <p:spPr>
                  <a:xfrm>
                    <a:off x="656820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69600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682416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5232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708048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720828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7" name=""/>
                <p:cNvGrpSpPr/>
                <p:nvPr/>
              </p:nvGrpSpPr>
              <p:grpSpPr>
                <a:xfrm>
                  <a:off x="6461640" y="2391480"/>
                  <a:ext cx="853200" cy="586080"/>
                  <a:chOff x="6461640" y="2391480"/>
                  <a:chExt cx="853200" cy="586080"/>
                </a:xfrm>
              </p:grpSpPr>
              <p:sp>
                <p:nvSpPr>
                  <p:cNvPr id="318" name=""/>
                  <p:cNvSpPr/>
                  <p:nvPr/>
                </p:nvSpPr>
                <p:spPr>
                  <a:xfrm flipH="1">
                    <a:off x="6461640" y="2391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flipH="1">
                    <a:off x="6461640" y="2508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flipH="1">
                    <a:off x="6461640" y="26258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a:off x="6461640" y="2743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6461640" y="28605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6461640" y="29775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324" name=""/>
            <p:cNvSpPr/>
            <p:nvPr/>
          </p:nvSpPr>
          <p:spPr>
            <a:xfrm>
              <a:off x="6248520" y="28605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5" name=""/>
          <p:cNvGrpSpPr/>
          <p:nvPr/>
        </p:nvGrpSpPr>
        <p:grpSpPr>
          <a:xfrm>
            <a:off x="6781320" y="2590920"/>
            <a:ext cx="1067040" cy="914400"/>
            <a:chOff x="6781320" y="2590920"/>
            <a:chExt cx="1067040" cy="914400"/>
          </a:xfrm>
        </p:grpSpPr>
        <p:grpSp>
          <p:nvGrpSpPr>
            <p:cNvPr id="326" name=""/>
            <p:cNvGrpSpPr/>
            <p:nvPr/>
          </p:nvGrpSpPr>
          <p:grpSpPr>
            <a:xfrm>
              <a:off x="6781320" y="2590920"/>
              <a:ext cx="853920" cy="726840"/>
              <a:chOff x="6781320" y="2590920"/>
              <a:chExt cx="853920" cy="726840"/>
            </a:xfrm>
          </p:grpSpPr>
          <p:sp>
            <p:nvSpPr>
              <p:cNvPr id="327" name=""/>
              <p:cNvSpPr/>
              <p:nvPr/>
            </p:nvSpPr>
            <p:spPr>
              <a:xfrm>
                <a:off x="6781680" y="25909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8" name=""/>
              <p:cNvGrpSpPr/>
              <p:nvPr/>
            </p:nvGrpSpPr>
            <p:grpSpPr>
              <a:xfrm>
                <a:off x="6781320" y="2590920"/>
                <a:ext cx="853560" cy="726840"/>
                <a:chOff x="6781320" y="2590920"/>
                <a:chExt cx="853560" cy="726840"/>
              </a:xfrm>
            </p:grpSpPr>
            <p:grpSp>
              <p:nvGrpSpPr>
                <p:cNvPr id="329" name=""/>
                <p:cNvGrpSpPr/>
                <p:nvPr/>
              </p:nvGrpSpPr>
              <p:grpSpPr>
                <a:xfrm>
                  <a:off x="6888240" y="2590920"/>
                  <a:ext cx="640080" cy="726840"/>
                  <a:chOff x="6888240" y="2590920"/>
                  <a:chExt cx="640080" cy="726840"/>
                </a:xfrm>
              </p:grpSpPr>
              <p:sp>
                <p:nvSpPr>
                  <p:cNvPr id="330" name=""/>
                  <p:cNvSpPr/>
                  <p:nvPr/>
                </p:nvSpPr>
                <p:spPr>
                  <a:xfrm>
                    <a:off x="688824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701604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714420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727236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740052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752832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6" name=""/>
                <p:cNvGrpSpPr/>
                <p:nvPr/>
              </p:nvGrpSpPr>
              <p:grpSpPr>
                <a:xfrm>
                  <a:off x="6781320" y="2661120"/>
                  <a:ext cx="853560" cy="586080"/>
                  <a:chOff x="6781320" y="2661120"/>
                  <a:chExt cx="853560" cy="586080"/>
                </a:xfrm>
              </p:grpSpPr>
              <p:sp>
                <p:nvSpPr>
                  <p:cNvPr id="337" name=""/>
                  <p:cNvSpPr/>
                  <p:nvPr/>
                </p:nvSpPr>
                <p:spPr>
                  <a:xfrm flipH="1">
                    <a:off x="6781320" y="26611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6781320" y="27781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6781320" y="28954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flipH="1">
                    <a:off x="6781320" y="30128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flipH="1">
                    <a:off x="6781320" y="31302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flipH="1">
                    <a:off x="6781320" y="32472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43" name=""/>
            <p:cNvGrpSpPr/>
            <p:nvPr/>
          </p:nvGrpSpPr>
          <p:grpSpPr>
            <a:xfrm>
              <a:off x="6834600" y="2637720"/>
              <a:ext cx="853920" cy="726840"/>
              <a:chOff x="6834600" y="2637720"/>
              <a:chExt cx="853920" cy="726840"/>
            </a:xfrm>
          </p:grpSpPr>
          <p:sp>
            <p:nvSpPr>
              <p:cNvPr id="344" name=""/>
              <p:cNvSpPr/>
              <p:nvPr/>
            </p:nvSpPr>
            <p:spPr>
              <a:xfrm>
                <a:off x="6834960" y="26377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5" name=""/>
              <p:cNvGrpSpPr/>
              <p:nvPr/>
            </p:nvGrpSpPr>
            <p:grpSpPr>
              <a:xfrm>
                <a:off x="6834600" y="2637720"/>
                <a:ext cx="853560" cy="726840"/>
                <a:chOff x="6834600" y="2637720"/>
                <a:chExt cx="853560" cy="726840"/>
              </a:xfrm>
            </p:grpSpPr>
            <p:grpSp>
              <p:nvGrpSpPr>
                <p:cNvPr id="346" name=""/>
                <p:cNvGrpSpPr/>
                <p:nvPr/>
              </p:nvGrpSpPr>
              <p:grpSpPr>
                <a:xfrm>
                  <a:off x="6941520" y="2637720"/>
                  <a:ext cx="640080" cy="726840"/>
                  <a:chOff x="6941520" y="2637720"/>
                  <a:chExt cx="640080" cy="726840"/>
                </a:xfrm>
              </p:grpSpPr>
              <p:sp>
                <p:nvSpPr>
                  <p:cNvPr id="347" name=""/>
                  <p:cNvSpPr/>
                  <p:nvPr/>
                </p:nvSpPr>
                <p:spPr>
                  <a:xfrm>
                    <a:off x="694152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706932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719748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732564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745380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758160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3" name=""/>
                <p:cNvGrpSpPr/>
                <p:nvPr/>
              </p:nvGrpSpPr>
              <p:grpSpPr>
                <a:xfrm>
                  <a:off x="6834600" y="2707920"/>
                  <a:ext cx="853560" cy="586080"/>
                  <a:chOff x="6834600" y="2707920"/>
                  <a:chExt cx="853560" cy="586080"/>
                </a:xfrm>
              </p:grpSpPr>
              <p:sp>
                <p:nvSpPr>
                  <p:cNvPr id="354" name=""/>
                  <p:cNvSpPr/>
                  <p:nvPr/>
                </p:nvSpPr>
                <p:spPr>
                  <a:xfrm flipH="1">
                    <a:off x="6834600" y="27079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flipH="1">
                    <a:off x="6834600" y="28249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flipH="1">
                    <a:off x="6834600" y="29422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flipH="1">
                    <a:off x="6834600" y="30596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flipH="1">
                    <a:off x="6834600" y="31770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834600" y="32940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60" name=""/>
            <p:cNvGrpSpPr/>
            <p:nvPr/>
          </p:nvGrpSpPr>
          <p:grpSpPr>
            <a:xfrm>
              <a:off x="6888240" y="2684520"/>
              <a:ext cx="853920" cy="726840"/>
              <a:chOff x="6888240" y="2684520"/>
              <a:chExt cx="853920" cy="726840"/>
            </a:xfrm>
          </p:grpSpPr>
          <p:sp>
            <p:nvSpPr>
              <p:cNvPr id="361" name=""/>
              <p:cNvSpPr/>
              <p:nvPr/>
            </p:nvSpPr>
            <p:spPr>
              <a:xfrm>
                <a:off x="6888240" y="2684520"/>
                <a:ext cx="85392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2" name=""/>
              <p:cNvGrpSpPr/>
              <p:nvPr/>
            </p:nvGrpSpPr>
            <p:grpSpPr>
              <a:xfrm>
                <a:off x="6888240" y="2684520"/>
                <a:ext cx="853920" cy="726840"/>
                <a:chOff x="6888240" y="2684520"/>
                <a:chExt cx="853920" cy="726840"/>
              </a:xfrm>
            </p:grpSpPr>
            <p:grpSp>
              <p:nvGrpSpPr>
                <p:cNvPr id="363" name=""/>
                <p:cNvGrpSpPr/>
                <p:nvPr/>
              </p:nvGrpSpPr>
              <p:grpSpPr>
                <a:xfrm>
                  <a:off x="6994800" y="2684520"/>
                  <a:ext cx="640440" cy="726840"/>
                  <a:chOff x="6994800" y="2684520"/>
                  <a:chExt cx="640440" cy="726840"/>
                </a:xfrm>
              </p:grpSpPr>
              <p:sp>
                <p:nvSpPr>
                  <p:cNvPr id="364" name=""/>
                  <p:cNvSpPr/>
                  <p:nvPr/>
                </p:nvSpPr>
                <p:spPr>
                  <a:xfrm>
                    <a:off x="699480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712296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725076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737892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750708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763524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70" name=""/>
                <p:cNvGrpSpPr/>
                <p:nvPr/>
              </p:nvGrpSpPr>
              <p:grpSpPr>
                <a:xfrm>
                  <a:off x="6888240" y="2754720"/>
                  <a:ext cx="853920" cy="586080"/>
                  <a:chOff x="6888240" y="2754720"/>
                  <a:chExt cx="853920" cy="586080"/>
                </a:xfrm>
              </p:grpSpPr>
              <p:sp>
                <p:nvSpPr>
                  <p:cNvPr id="371" name=""/>
                  <p:cNvSpPr/>
                  <p:nvPr/>
                </p:nvSpPr>
                <p:spPr>
                  <a:xfrm flipH="1">
                    <a:off x="6888240" y="275472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6888240" y="287172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6888240" y="298908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888240" y="310644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888240" y="322380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flipH="1">
                    <a:off x="6888240" y="334080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77" name=""/>
            <p:cNvGrpSpPr/>
            <p:nvPr/>
          </p:nvGrpSpPr>
          <p:grpSpPr>
            <a:xfrm>
              <a:off x="6941160" y="2731320"/>
              <a:ext cx="853920" cy="726840"/>
              <a:chOff x="6941160" y="2731320"/>
              <a:chExt cx="853920" cy="726840"/>
            </a:xfrm>
          </p:grpSpPr>
          <p:sp>
            <p:nvSpPr>
              <p:cNvPr id="378" name=""/>
              <p:cNvSpPr/>
              <p:nvPr/>
            </p:nvSpPr>
            <p:spPr>
              <a:xfrm>
                <a:off x="6941520" y="27313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9" name=""/>
              <p:cNvGrpSpPr/>
              <p:nvPr/>
            </p:nvGrpSpPr>
            <p:grpSpPr>
              <a:xfrm>
                <a:off x="6941160" y="2731320"/>
                <a:ext cx="853560" cy="726840"/>
                <a:chOff x="6941160" y="2731320"/>
                <a:chExt cx="853560" cy="726840"/>
              </a:xfrm>
            </p:grpSpPr>
            <p:grpSp>
              <p:nvGrpSpPr>
                <p:cNvPr id="380" name=""/>
                <p:cNvGrpSpPr/>
                <p:nvPr/>
              </p:nvGrpSpPr>
              <p:grpSpPr>
                <a:xfrm>
                  <a:off x="7048080" y="2731320"/>
                  <a:ext cx="640080" cy="726840"/>
                  <a:chOff x="7048080" y="2731320"/>
                  <a:chExt cx="640080" cy="726840"/>
                </a:xfrm>
              </p:grpSpPr>
              <p:sp>
                <p:nvSpPr>
                  <p:cNvPr id="381" name=""/>
                  <p:cNvSpPr/>
                  <p:nvPr/>
                </p:nvSpPr>
                <p:spPr>
                  <a:xfrm>
                    <a:off x="704808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717588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730404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43220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756036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768816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6941160" y="2801520"/>
                  <a:ext cx="853560" cy="586080"/>
                  <a:chOff x="6941160" y="2801520"/>
                  <a:chExt cx="853560" cy="586080"/>
                </a:xfrm>
              </p:grpSpPr>
              <p:sp>
                <p:nvSpPr>
                  <p:cNvPr id="388" name=""/>
                  <p:cNvSpPr/>
                  <p:nvPr/>
                </p:nvSpPr>
                <p:spPr>
                  <a:xfrm flipH="1">
                    <a:off x="6941160" y="2801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flipH="1">
                    <a:off x="6941160" y="2918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flipH="1">
                    <a:off x="6941160" y="30358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a:off x="6941160" y="31532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6941160" y="3270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a:off x="6941160" y="3387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94" name=""/>
            <p:cNvGrpSpPr/>
            <p:nvPr/>
          </p:nvGrpSpPr>
          <p:grpSpPr>
            <a:xfrm>
              <a:off x="6994440" y="2778480"/>
              <a:ext cx="853920" cy="726840"/>
              <a:chOff x="6994440" y="2778480"/>
              <a:chExt cx="853920" cy="726840"/>
            </a:xfrm>
          </p:grpSpPr>
          <p:sp>
            <p:nvSpPr>
              <p:cNvPr id="395" name=""/>
              <p:cNvSpPr/>
              <p:nvPr/>
            </p:nvSpPr>
            <p:spPr>
              <a:xfrm>
                <a:off x="6994800" y="277848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6" name=""/>
              <p:cNvGrpSpPr/>
              <p:nvPr/>
            </p:nvGrpSpPr>
            <p:grpSpPr>
              <a:xfrm>
                <a:off x="6994440" y="2778480"/>
                <a:ext cx="853560" cy="726840"/>
                <a:chOff x="6994440" y="2778480"/>
                <a:chExt cx="853560" cy="726840"/>
              </a:xfrm>
            </p:grpSpPr>
            <p:grpSp>
              <p:nvGrpSpPr>
                <p:cNvPr id="397" name=""/>
                <p:cNvGrpSpPr/>
                <p:nvPr/>
              </p:nvGrpSpPr>
              <p:grpSpPr>
                <a:xfrm>
                  <a:off x="7101360" y="2778480"/>
                  <a:ext cx="640080" cy="726840"/>
                  <a:chOff x="7101360" y="2778480"/>
                  <a:chExt cx="640080" cy="726840"/>
                </a:xfrm>
              </p:grpSpPr>
              <p:sp>
                <p:nvSpPr>
                  <p:cNvPr id="398" name=""/>
                  <p:cNvSpPr/>
                  <p:nvPr/>
                </p:nvSpPr>
                <p:spPr>
                  <a:xfrm>
                    <a:off x="710136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722916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735732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748548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761364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774144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4" name=""/>
                <p:cNvGrpSpPr/>
                <p:nvPr/>
              </p:nvGrpSpPr>
              <p:grpSpPr>
                <a:xfrm>
                  <a:off x="6994440" y="2848680"/>
                  <a:ext cx="853560" cy="586080"/>
                  <a:chOff x="6994440" y="2848680"/>
                  <a:chExt cx="853560" cy="586080"/>
                </a:xfrm>
              </p:grpSpPr>
              <p:sp>
                <p:nvSpPr>
                  <p:cNvPr id="405" name=""/>
                  <p:cNvSpPr/>
                  <p:nvPr/>
                </p:nvSpPr>
                <p:spPr>
                  <a:xfrm flipH="1">
                    <a:off x="6994440" y="2848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H="1">
                    <a:off x="6994440" y="2965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flipH="1">
                    <a:off x="6994440" y="30830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6994440" y="3200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6994440" y="331776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flipH="1">
                    <a:off x="6994440" y="343476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411" name=""/>
            <p:cNvSpPr/>
            <p:nvPr/>
          </p:nvSpPr>
          <p:spPr>
            <a:xfrm>
              <a:off x="6781680" y="33177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2" name=""/>
          <p:cNvSpPr/>
          <p:nvPr/>
        </p:nvSpPr>
        <p:spPr>
          <a:xfrm>
            <a:off x="5641560" y="5918040"/>
            <a:ext cx="3333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6. PRECISE LANGUAGE INDUSTRIES</a:t>
            </a:r>
            <a:endParaRPr b="0" lang="en-US" sz="1400" spc="-1" strike="noStrike">
              <a:solidFill>
                <a:srgbClr val="000000"/>
              </a:solidFill>
              <a:latin typeface="Times New Roman"/>
            </a:endParaRPr>
          </a:p>
        </p:txBody>
      </p:sp>
      <p:sp>
        <p:nvSpPr>
          <p:cNvPr id="413" name=""/>
          <p:cNvSpPr/>
          <p:nvPr/>
        </p:nvSpPr>
        <p:spPr>
          <a:xfrm>
            <a:off x="6097680" y="3657600"/>
            <a:ext cx="151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5. DOMAINS</a:t>
            </a:r>
            <a:endParaRPr b="0" lang="en-US" sz="1800" spc="-1" strike="noStrike">
              <a:solidFill>
                <a:srgbClr val="000000"/>
              </a:solidFill>
              <a:latin typeface="Times New Roman"/>
            </a:endParaRPr>
          </a:p>
        </p:txBody>
      </p:sp>
      <p:grpSp>
        <p:nvGrpSpPr>
          <p:cNvPr id="414" name=""/>
          <p:cNvGrpSpPr/>
          <p:nvPr/>
        </p:nvGrpSpPr>
        <p:grpSpPr>
          <a:xfrm>
            <a:off x="5410080" y="4343400"/>
            <a:ext cx="533520" cy="457200"/>
            <a:chOff x="5410080" y="4343400"/>
            <a:chExt cx="533520" cy="457200"/>
          </a:xfrm>
        </p:grpSpPr>
        <p:grpSp>
          <p:nvGrpSpPr>
            <p:cNvPr id="415" name=""/>
            <p:cNvGrpSpPr/>
            <p:nvPr/>
          </p:nvGrpSpPr>
          <p:grpSpPr>
            <a:xfrm>
              <a:off x="5410080" y="4343400"/>
              <a:ext cx="426960" cy="363600"/>
              <a:chOff x="5410080" y="4343400"/>
              <a:chExt cx="426960" cy="363600"/>
            </a:xfrm>
          </p:grpSpPr>
          <p:sp>
            <p:nvSpPr>
              <p:cNvPr id="416" name=""/>
              <p:cNvSpPr/>
              <p:nvPr/>
            </p:nvSpPr>
            <p:spPr>
              <a:xfrm>
                <a:off x="5410080" y="4343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7" name=""/>
              <p:cNvGrpSpPr/>
              <p:nvPr/>
            </p:nvGrpSpPr>
            <p:grpSpPr>
              <a:xfrm>
                <a:off x="5410080" y="4343400"/>
                <a:ext cx="426960" cy="363600"/>
                <a:chOff x="5410080" y="4343400"/>
                <a:chExt cx="426960" cy="363600"/>
              </a:xfrm>
            </p:grpSpPr>
            <p:grpSp>
              <p:nvGrpSpPr>
                <p:cNvPr id="418" name=""/>
                <p:cNvGrpSpPr/>
                <p:nvPr/>
              </p:nvGrpSpPr>
              <p:grpSpPr>
                <a:xfrm>
                  <a:off x="5463360" y="4343400"/>
                  <a:ext cx="320400" cy="363600"/>
                  <a:chOff x="5463360" y="4343400"/>
                  <a:chExt cx="320400" cy="363600"/>
                </a:xfrm>
              </p:grpSpPr>
              <p:sp>
                <p:nvSpPr>
                  <p:cNvPr id="419" name=""/>
                  <p:cNvSpPr/>
                  <p:nvPr/>
                </p:nvSpPr>
                <p:spPr>
                  <a:xfrm>
                    <a:off x="54633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552744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559152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565560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57196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57837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5" name=""/>
                <p:cNvGrpSpPr/>
                <p:nvPr/>
              </p:nvGrpSpPr>
              <p:grpSpPr>
                <a:xfrm>
                  <a:off x="5410080" y="4378320"/>
                  <a:ext cx="426960" cy="293400"/>
                  <a:chOff x="5410080" y="4378320"/>
                  <a:chExt cx="426960" cy="293400"/>
                </a:xfrm>
              </p:grpSpPr>
              <p:sp>
                <p:nvSpPr>
                  <p:cNvPr id="426" name=""/>
                  <p:cNvSpPr/>
                  <p:nvPr/>
                </p:nvSpPr>
                <p:spPr>
                  <a:xfrm flipH="1">
                    <a:off x="5410080" y="4378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H="1">
                    <a:off x="5410080" y="4437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a:off x="5410080" y="4495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5410080" y="4554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410080" y="4613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5410080" y="467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32" name=""/>
            <p:cNvGrpSpPr/>
            <p:nvPr/>
          </p:nvGrpSpPr>
          <p:grpSpPr>
            <a:xfrm>
              <a:off x="5436720" y="4366800"/>
              <a:ext cx="426960" cy="363600"/>
              <a:chOff x="5436720" y="4366800"/>
              <a:chExt cx="426960" cy="363600"/>
            </a:xfrm>
          </p:grpSpPr>
          <p:sp>
            <p:nvSpPr>
              <p:cNvPr id="433" name=""/>
              <p:cNvSpPr/>
              <p:nvPr/>
            </p:nvSpPr>
            <p:spPr>
              <a:xfrm>
                <a:off x="5436720" y="4366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4" name=""/>
              <p:cNvGrpSpPr/>
              <p:nvPr/>
            </p:nvGrpSpPr>
            <p:grpSpPr>
              <a:xfrm>
                <a:off x="5436720" y="4366800"/>
                <a:ext cx="426960" cy="363600"/>
                <a:chOff x="5436720" y="4366800"/>
                <a:chExt cx="426960" cy="363600"/>
              </a:xfrm>
            </p:grpSpPr>
            <p:grpSp>
              <p:nvGrpSpPr>
                <p:cNvPr id="435" name=""/>
                <p:cNvGrpSpPr/>
                <p:nvPr/>
              </p:nvGrpSpPr>
              <p:grpSpPr>
                <a:xfrm>
                  <a:off x="5490000" y="4366800"/>
                  <a:ext cx="320400" cy="363600"/>
                  <a:chOff x="5490000" y="4366800"/>
                  <a:chExt cx="320400" cy="363600"/>
                </a:xfrm>
              </p:grpSpPr>
              <p:sp>
                <p:nvSpPr>
                  <p:cNvPr id="436" name=""/>
                  <p:cNvSpPr/>
                  <p:nvPr/>
                </p:nvSpPr>
                <p:spPr>
                  <a:xfrm>
                    <a:off x="54900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555408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561816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568224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57463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58104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42" name=""/>
                <p:cNvGrpSpPr/>
                <p:nvPr/>
              </p:nvGrpSpPr>
              <p:grpSpPr>
                <a:xfrm>
                  <a:off x="5436720" y="4401720"/>
                  <a:ext cx="426960" cy="293400"/>
                  <a:chOff x="5436720" y="4401720"/>
                  <a:chExt cx="426960" cy="293400"/>
                </a:xfrm>
              </p:grpSpPr>
              <p:sp>
                <p:nvSpPr>
                  <p:cNvPr id="443" name=""/>
                  <p:cNvSpPr/>
                  <p:nvPr/>
                </p:nvSpPr>
                <p:spPr>
                  <a:xfrm flipH="1">
                    <a:off x="5436720" y="440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5436720" y="4460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5436720" y="4519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5436720" y="4577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flipH="1">
                    <a:off x="5436720" y="4636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flipH="1">
                    <a:off x="5436720" y="469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49" name=""/>
            <p:cNvGrpSpPr/>
            <p:nvPr/>
          </p:nvGrpSpPr>
          <p:grpSpPr>
            <a:xfrm>
              <a:off x="5463360" y="4390200"/>
              <a:ext cx="426960" cy="363600"/>
              <a:chOff x="5463360" y="4390200"/>
              <a:chExt cx="426960" cy="363600"/>
            </a:xfrm>
          </p:grpSpPr>
          <p:sp>
            <p:nvSpPr>
              <p:cNvPr id="450" name=""/>
              <p:cNvSpPr/>
              <p:nvPr/>
            </p:nvSpPr>
            <p:spPr>
              <a:xfrm>
                <a:off x="5463360" y="4390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1" name=""/>
              <p:cNvGrpSpPr/>
              <p:nvPr/>
            </p:nvGrpSpPr>
            <p:grpSpPr>
              <a:xfrm>
                <a:off x="5463360" y="4390200"/>
                <a:ext cx="426960" cy="363600"/>
                <a:chOff x="5463360" y="4390200"/>
                <a:chExt cx="426960" cy="363600"/>
              </a:xfrm>
            </p:grpSpPr>
            <p:grpSp>
              <p:nvGrpSpPr>
                <p:cNvPr id="452" name=""/>
                <p:cNvGrpSpPr/>
                <p:nvPr/>
              </p:nvGrpSpPr>
              <p:grpSpPr>
                <a:xfrm>
                  <a:off x="5516640" y="4390200"/>
                  <a:ext cx="320400" cy="363600"/>
                  <a:chOff x="5516640" y="4390200"/>
                  <a:chExt cx="320400" cy="363600"/>
                </a:xfrm>
              </p:grpSpPr>
              <p:sp>
                <p:nvSpPr>
                  <p:cNvPr id="453" name=""/>
                  <p:cNvSpPr/>
                  <p:nvPr/>
                </p:nvSpPr>
                <p:spPr>
                  <a:xfrm>
                    <a:off x="55166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558072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564480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570888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57729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58370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59" name=""/>
                <p:cNvGrpSpPr/>
                <p:nvPr/>
              </p:nvGrpSpPr>
              <p:grpSpPr>
                <a:xfrm>
                  <a:off x="5463360" y="4425120"/>
                  <a:ext cx="426960" cy="293400"/>
                  <a:chOff x="5463360" y="4425120"/>
                  <a:chExt cx="426960" cy="293400"/>
                </a:xfrm>
              </p:grpSpPr>
              <p:sp>
                <p:nvSpPr>
                  <p:cNvPr id="460" name=""/>
                  <p:cNvSpPr/>
                  <p:nvPr/>
                </p:nvSpPr>
                <p:spPr>
                  <a:xfrm flipH="1">
                    <a:off x="5463360" y="442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5463360" y="4483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463360" y="4542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a:off x="5463360" y="4601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a:off x="5463360" y="4659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a:off x="5463360" y="471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66" name=""/>
            <p:cNvGrpSpPr/>
            <p:nvPr/>
          </p:nvGrpSpPr>
          <p:grpSpPr>
            <a:xfrm>
              <a:off x="5490000" y="4413600"/>
              <a:ext cx="426960" cy="363600"/>
              <a:chOff x="5490000" y="4413600"/>
              <a:chExt cx="426960" cy="363600"/>
            </a:xfrm>
          </p:grpSpPr>
          <p:sp>
            <p:nvSpPr>
              <p:cNvPr id="467" name=""/>
              <p:cNvSpPr/>
              <p:nvPr/>
            </p:nvSpPr>
            <p:spPr>
              <a:xfrm>
                <a:off x="5490000" y="4413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8" name=""/>
              <p:cNvGrpSpPr/>
              <p:nvPr/>
            </p:nvGrpSpPr>
            <p:grpSpPr>
              <a:xfrm>
                <a:off x="5490000" y="4413600"/>
                <a:ext cx="426960" cy="363600"/>
                <a:chOff x="5490000" y="4413600"/>
                <a:chExt cx="426960" cy="363600"/>
              </a:xfrm>
            </p:grpSpPr>
            <p:grpSp>
              <p:nvGrpSpPr>
                <p:cNvPr id="469" name=""/>
                <p:cNvGrpSpPr/>
                <p:nvPr/>
              </p:nvGrpSpPr>
              <p:grpSpPr>
                <a:xfrm>
                  <a:off x="5543280" y="4413600"/>
                  <a:ext cx="320400" cy="363600"/>
                  <a:chOff x="5543280" y="4413600"/>
                  <a:chExt cx="320400" cy="363600"/>
                </a:xfrm>
              </p:grpSpPr>
              <p:sp>
                <p:nvSpPr>
                  <p:cNvPr id="470" name=""/>
                  <p:cNvSpPr/>
                  <p:nvPr/>
                </p:nvSpPr>
                <p:spPr>
                  <a:xfrm>
                    <a:off x="55432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560736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567144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573552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57996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58636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6" name=""/>
                <p:cNvGrpSpPr/>
                <p:nvPr/>
              </p:nvGrpSpPr>
              <p:grpSpPr>
                <a:xfrm>
                  <a:off x="5490000" y="4448520"/>
                  <a:ext cx="426960" cy="293400"/>
                  <a:chOff x="5490000" y="4448520"/>
                  <a:chExt cx="426960" cy="293400"/>
                </a:xfrm>
              </p:grpSpPr>
              <p:sp>
                <p:nvSpPr>
                  <p:cNvPr id="477" name=""/>
                  <p:cNvSpPr/>
                  <p:nvPr/>
                </p:nvSpPr>
                <p:spPr>
                  <a:xfrm flipH="1">
                    <a:off x="5490000" y="444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flipH="1">
                    <a:off x="5490000" y="4507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flipH="1">
                    <a:off x="5490000" y="4565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flipH="1">
                    <a:off x="5490000" y="4624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flipH="1">
                    <a:off x="5490000" y="4683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flipH="1">
                    <a:off x="5490000" y="474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83" name=""/>
            <p:cNvGrpSpPr/>
            <p:nvPr/>
          </p:nvGrpSpPr>
          <p:grpSpPr>
            <a:xfrm>
              <a:off x="5516640" y="4437000"/>
              <a:ext cx="426960" cy="363600"/>
              <a:chOff x="5516640" y="4437000"/>
              <a:chExt cx="426960" cy="363600"/>
            </a:xfrm>
          </p:grpSpPr>
          <p:sp>
            <p:nvSpPr>
              <p:cNvPr id="484" name=""/>
              <p:cNvSpPr/>
              <p:nvPr/>
            </p:nvSpPr>
            <p:spPr>
              <a:xfrm>
                <a:off x="5516640" y="4437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5" name=""/>
              <p:cNvGrpSpPr/>
              <p:nvPr/>
            </p:nvGrpSpPr>
            <p:grpSpPr>
              <a:xfrm>
                <a:off x="5516640" y="4437000"/>
                <a:ext cx="426960" cy="363600"/>
                <a:chOff x="5516640" y="4437000"/>
                <a:chExt cx="426960" cy="363600"/>
              </a:xfrm>
            </p:grpSpPr>
            <p:grpSp>
              <p:nvGrpSpPr>
                <p:cNvPr id="486" name=""/>
                <p:cNvGrpSpPr/>
                <p:nvPr/>
              </p:nvGrpSpPr>
              <p:grpSpPr>
                <a:xfrm>
                  <a:off x="5569920" y="4437000"/>
                  <a:ext cx="320400" cy="363600"/>
                  <a:chOff x="5569920" y="4437000"/>
                  <a:chExt cx="320400" cy="363600"/>
                </a:xfrm>
              </p:grpSpPr>
              <p:sp>
                <p:nvSpPr>
                  <p:cNvPr id="487" name=""/>
                  <p:cNvSpPr/>
                  <p:nvPr/>
                </p:nvSpPr>
                <p:spPr>
                  <a:xfrm>
                    <a:off x="55699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563400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569808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576216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58262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58903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3" name=""/>
                <p:cNvGrpSpPr/>
                <p:nvPr/>
              </p:nvGrpSpPr>
              <p:grpSpPr>
                <a:xfrm>
                  <a:off x="5516640" y="4471920"/>
                  <a:ext cx="426960" cy="293400"/>
                  <a:chOff x="5516640" y="4471920"/>
                  <a:chExt cx="426960" cy="293400"/>
                </a:xfrm>
              </p:grpSpPr>
              <p:sp>
                <p:nvSpPr>
                  <p:cNvPr id="494" name=""/>
                  <p:cNvSpPr/>
                  <p:nvPr/>
                </p:nvSpPr>
                <p:spPr>
                  <a:xfrm flipH="1">
                    <a:off x="5516640" y="447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flipH="1">
                    <a:off x="5516640" y="4530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flipH="1">
                    <a:off x="5516640" y="4589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flipH="1">
                    <a:off x="5516640" y="4647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flipH="1">
                    <a:off x="5516640" y="4706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flipH="1">
                    <a:off x="5516640" y="4765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500" name=""/>
            <p:cNvSpPr/>
            <p:nvPr/>
          </p:nvSpPr>
          <p:spPr>
            <a:xfrm>
              <a:off x="5410080" y="47070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1" name=""/>
          <p:cNvGrpSpPr/>
          <p:nvPr/>
        </p:nvGrpSpPr>
        <p:grpSpPr>
          <a:xfrm>
            <a:off x="5943600" y="4800600"/>
            <a:ext cx="533520" cy="457200"/>
            <a:chOff x="5943600" y="4800600"/>
            <a:chExt cx="533520" cy="457200"/>
          </a:xfrm>
        </p:grpSpPr>
        <p:grpSp>
          <p:nvGrpSpPr>
            <p:cNvPr id="502" name=""/>
            <p:cNvGrpSpPr/>
            <p:nvPr/>
          </p:nvGrpSpPr>
          <p:grpSpPr>
            <a:xfrm>
              <a:off x="5943600" y="4800600"/>
              <a:ext cx="426960" cy="363600"/>
              <a:chOff x="5943600" y="4800600"/>
              <a:chExt cx="426960" cy="363600"/>
            </a:xfrm>
          </p:grpSpPr>
          <p:sp>
            <p:nvSpPr>
              <p:cNvPr id="503" name=""/>
              <p:cNvSpPr/>
              <p:nvPr/>
            </p:nvSpPr>
            <p:spPr>
              <a:xfrm>
                <a:off x="5943600" y="4800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4" name=""/>
              <p:cNvGrpSpPr/>
              <p:nvPr/>
            </p:nvGrpSpPr>
            <p:grpSpPr>
              <a:xfrm>
                <a:off x="5943600" y="4800600"/>
                <a:ext cx="426960" cy="363600"/>
                <a:chOff x="5943600" y="4800600"/>
                <a:chExt cx="426960" cy="363600"/>
              </a:xfrm>
            </p:grpSpPr>
            <p:grpSp>
              <p:nvGrpSpPr>
                <p:cNvPr id="505" name=""/>
                <p:cNvGrpSpPr/>
                <p:nvPr/>
              </p:nvGrpSpPr>
              <p:grpSpPr>
                <a:xfrm>
                  <a:off x="5996880" y="4800600"/>
                  <a:ext cx="320400" cy="363600"/>
                  <a:chOff x="5996880" y="4800600"/>
                  <a:chExt cx="320400" cy="363600"/>
                </a:xfrm>
              </p:grpSpPr>
              <p:sp>
                <p:nvSpPr>
                  <p:cNvPr id="506" name=""/>
                  <p:cNvSpPr/>
                  <p:nvPr/>
                </p:nvSpPr>
                <p:spPr>
                  <a:xfrm>
                    <a:off x="59968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606096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612504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618912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62532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63172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12" name=""/>
                <p:cNvGrpSpPr/>
                <p:nvPr/>
              </p:nvGrpSpPr>
              <p:grpSpPr>
                <a:xfrm>
                  <a:off x="5943600" y="4835520"/>
                  <a:ext cx="426960" cy="293400"/>
                  <a:chOff x="5943600" y="4835520"/>
                  <a:chExt cx="426960" cy="293400"/>
                </a:xfrm>
              </p:grpSpPr>
              <p:sp>
                <p:nvSpPr>
                  <p:cNvPr id="513" name=""/>
                  <p:cNvSpPr/>
                  <p:nvPr/>
                </p:nvSpPr>
                <p:spPr>
                  <a:xfrm flipH="1">
                    <a:off x="5943600" y="4835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5943600" y="4894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5943600" y="4952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flipH="1">
                    <a:off x="5943600" y="5011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flipH="1">
                    <a:off x="5943600" y="5070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flipH="1">
                    <a:off x="5943600" y="5128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19" name=""/>
            <p:cNvGrpSpPr/>
            <p:nvPr/>
          </p:nvGrpSpPr>
          <p:grpSpPr>
            <a:xfrm>
              <a:off x="5970240" y="4824000"/>
              <a:ext cx="426960" cy="363600"/>
              <a:chOff x="5970240" y="4824000"/>
              <a:chExt cx="426960" cy="363600"/>
            </a:xfrm>
          </p:grpSpPr>
          <p:sp>
            <p:nvSpPr>
              <p:cNvPr id="520" name=""/>
              <p:cNvSpPr/>
              <p:nvPr/>
            </p:nvSpPr>
            <p:spPr>
              <a:xfrm>
                <a:off x="5970240" y="4824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1" name=""/>
              <p:cNvGrpSpPr/>
              <p:nvPr/>
            </p:nvGrpSpPr>
            <p:grpSpPr>
              <a:xfrm>
                <a:off x="5970240" y="4824000"/>
                <a:ext cx="426960" cy="363600"/>
                <a:chOff x="5970240" y="4824000"/>
                <a:chExt cx="426960" cy="363600"/>
              </a:xfrm>
            </p:grpSpPr>
            <p:grpSp>
              <p:nvGrpSpPr>
                <p:cNvPr id="522" name=""/>
                <p:cNvGrpSpPr/>
                <p:nvPr/>
              </p:nvGrpSpPr>
              <p:grpSpPr>
                <a:xfrm>
                  <a:off x="6023520" y="4824000"/>
                  <a:ext cx="320400" cy="363600"/>
                  <a:chOff x="6023520" y="4824000"/>
                  <a:chExt cx="320400" cy="363600"/>
                </a:xfrm>
              </p:grpSpPr>
              <p:sp>
                <p:nvSpPr>
                  <p:cNvPr id="523" name=""/>
                  <p:cNvSpPr/>
                  <p:nvPr/>
                </p:nvSpPr>
                <p:spPr>
                  <a:xfrm>
                    <a:off x="60235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608760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615168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621576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62798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63439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9" name=""/>
                <p:cNvGrpSpPr/>
                <p:nvPr/>
              </p:nvGrpSpPr>
              <p:grpSpPr>
                <a:xfrm>
                  <a:off x="5970240" y="4858920"/>
                  <a:ext cx="426960" cy="293400"/>
                  <a:chOff x="5970240" y="4858920"/>
                  <a:chExt cx="426960" cy="293400"/>
                </a:xfrm>
              </p:grpSpPr>
              <p:sp>
                <p:nvSpPr>
                  <p:cNvPr id="530" name=""/>
                  <p:cNvSpPr/>
                  <p:nvPr/>
                </p:nvSpPr>
                <p:spPr>
                  <a:xfrm flipH="1">
                    <a:off x="5970240" y="4858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flipH="1">
                    <a:off x="5970240" y="4917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H="1">
                    <a:off x="5970240" y="4976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flipH="1">
                    <a:off x="5970240" y="5034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flipH="1">
                    <a:off x="5970240" y="5093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flipH="1">
                    <a:off x="5970240" y="5152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36" name=""/>
            <p:cNvGrpSpPr/>
            <p:nvPr/>
          </p:nvGrpSpPr>
          <p:grpSpPr>
            <a:xfrm>
              <a:off x="5996880" y="4847400"/>
              <a:ext cx="426960" cy="363600"/>
              <a:chOff x="5996880" y="4847400"/>
              <a:chExt cx="426960" cy="363600"/>
            </a:xfrm>
          </p:grpSpPr>
          <p:sp>
            <p:nvSpPr>
              <p:cNvPr id="537" name=""/>
              <p:cNvSpPr/>
              <p:nvPr/>
            </p:nvSpPr>
            <p:spPr>
              <a:xfrm>
                <a:off x="5996880" y="4847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8" name=""/>
              <p:cNvGrpSpPr/>
              <p:nvPr/>
            </p:nvGrpSpPr>
            <p:grpSpPr>
              <a:xfrm>
                <a:off x="5996880" y="4847400"/>
                <a:ext cx="426960" cy="363600"/>
                <a:chOff x="5996880" y="4847400"/>
                <a:chExt cx="426960" cy="363600"/>
              </a:xfrm>
            </p:grpSpPr>
            <p:grpSp>
              <p:nvGrpSpPr>
                <p:cNvPr id="539" name=""/>
                <p:cNvGrpSpPr/>
                <p:nvPr/>
              </p:nvGrpSpPr>
              <p:grpSpPr>
                <a:xfrm>
                  <a:off x="6050160" y="4847400"/>
                  <a:ext cx="320400" cy="363600"/>
                  <a:chOff x="6050160" y="4847400"/>
                  <a:chExt cx="320400" cy="363600"/>
                </a:xfrm>
              </p:grpSpPr>
              <p:sp>
                <p:nvSpPr>
                  <p:cNvPr id="540" name=""/>
                  <p:cNvSpPr/>
                  <p:nvPr/>
                </p:nvSpPr>
                <p:spPr>
                  <a:xfrm>
                    <a:off x="60501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611424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617832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624240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63064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63705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46" name=""/>
                <p:cNvGrpSpPr/>
                <p:nvPr/>
              </p:nvGrpSpPr>
              <p:grpSpPr>
                <a:xfrm>
                  <a:off x="5996880" y="4882320"/>
                  <a:ext cx="426960" cy="293400"/>
                  <a:chOff x="5996880" y="4882320"/>
                  <a:chExt cx="426960" cy="293400"/>
                </a:xfrm>
              </p:grpSpPr>
              <p:sp>
                <p:nvSpPr>
                  <p:cNvPr id="547" name=""/>
                  <p:cNvSpPr/>
                  <p:nvPr/>
                </p:nvSpPr>
                <p:spPr>
                  <a:xfrm flipH="1">
                    <a:off x="5996880" y="4882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a:off x="5996880" y="4941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flipH="1">
                    <a:off x="5996880" y="4999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flipH="1">
                    <a:off x="5996880" y="5058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a:off x="5996880" y="5117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flipH="1">
                    <a:off x="5996880" y="5175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53" name=""/>
            <p:cNvGrpSpPr/>
            <p:nvPr/>
          </p:nvGrpSpPr>
          <p:grpSpPr>
            <a:xfrm>
              <a:off x="6023520" y="4870800"/>
              <a:ext cx="426960" cy="363600"/>
              <a:chOff x="6023520" y="4870800"/>
              <a:chExt cx="426960" cy="363600"/>
            </a:xfrm>
          </p:grpSpPr>
          <p:sp>
            <p:nvSpPr>
              <p:cNvPr id="554" name=""/>
              <p:cNvSpPr/>
              <p:nvPr/>
            </p:nvSpPr>
            <p:spPr>
              <a:xfrm>
                <a:off x="6023520" y="4870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5" name=""/>
              <p:cNvGrpSpPr/>
              <p:nvPr/>
            </p:nvGrpSpPr>
            <p:grpSpPr>
              <a:xfrm>
                <a:off x="6023520" y="4870800"/>
                <a:ext cx="426960" cy="363600"/>
                <a:chOff x="6023520" y="4870800"/>
                <a:chExt cx="426960" cy="363600"/>
              </a:xfrm>
            </p:grpSpPr>
            <p:grpSp>
              <p:nvGrpSpPr>
                <p:cNvPr id="556" name=""/>
                <p:cNvGrpSpPr/>
                <p:nvPr/>
              </p:nvGrpSpPr>
              <p:grpSpPr>
                <a:xfrm>
                  <a:off x="6076800" y="4870800"/>
                  <a:ext cx="320400" cy="363600"/>
                  <a:chOff x="6076800" y="4870800"/>
                  <a:chExt cx="320400" cy="363600"/>
                </a:xfrm>
              </p:grpSpPr>
              <p:sp>
                <p:nvSpPr>
                  <p:cNvPr id="557" name=""/>
                  <p:cNvSpPr/>
                  <p:nvPr/>
                </p:nvSpPr>
                <p:spPr>
                  <a:xfrm>
                    <a:off x="60768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614088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620496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26904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63331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63972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63" name=""/>
                <p:cNvGrpSpPr/>
                <p:nvPr/>
              </p:nvGrpSpPr>
              <p:grpSpPr>
                <a:xfrm>
                  <a:off x="6023520" y="4905720"/>
                  <a:ext cx="426960" cy="293400"/>
                  <a:chOff x="6023520" y="4905720"/>
                  <a:chExt cx="426960" cy="293400"/>
                </a:xfrm>
              </p:grpSpPr>
              <p:sp>
                <p:nvSpPr>
                  <p:cNvPr id="564" name=""/>
                  <p:cNvSpPr/>
                  <p:nvPr/>
                </p:nvSpPr>
                <p:spPr>
                  <a:xfrm flipH="1">
                    <a:off x="6023520" y="4905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flipH="1">
                    <a:off x="6023520" y="4964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flipH="1">
                    <a:off x="6023520" y="5023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flipH="1">
                    <a:off x="6023520" y="5081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flipH="1">
                    <a:off x="6023520" y="5140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flipH="1">
                    <a:off x="6023520" y="5199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70" name=""/>
            <p:cNvGrpSpPr/>
            <p:nvPr/>
          </p:nvGrpSpPr>
          <p:grpSpPr>
            <a:xfrm>
              <a:off x="6050160" y="4894200"/>
              <a:ext cx="426960" cy="363600"/>
              <a:chOff x="6050160" y="4894200"/>
              <a:chExt cx="426960" cy="363600"/>
            </a:xfrm>
          </p:grpSpPr>
          <p:sp>
            <p:nvSpPr>
              <p:cNvPr id="571" name=""/>
              <p:cNvSpPr/>
              <p:nvPr/>
            </p:nvSpPr>
            <p:spPr>
              <a:xfrm>
                <a:off x="6050160" y="4894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2" name=""/>
              <p:cNvGrpSpPr/>
              <p:nvPr/>
            </p:nvGrpSpPr>
            <p:grpSpPr>
              <a:xfrm>
                <a:off x="6050160" y="4894200"/>
                <a:ext cx="426960" cy="363600"/>
                <a:chOff x="6050160" y="4894200"/>
                <a:chExt cx="426960" cy="363600"/>
              </a:xfrm>
            </p:grpSpPr>
            <p:grpSp>
              <p:nvGrpSpPr>
                <p:cNvPr id="573" name=""/>
                <p:cNvGrpSpPr/>
                <p:nvPr/>
              </p:nvGrpSpPr>
              <p:grpSpPr>
                <a:xfrm>
                  <a:off x="6103440" y="4894200"/>
                  <a:ext cx="320400" cy="363600"/>
                  <a:chOff x="6103440" y="4894200"/>
                  <a:chExt cx="320400" cy="363600"/>
                </a:xfrm>
              </p:grpSpPr>
              <p:sp>
                <p:nvSpPr>
                  <p:cNvPr id="574" name=""/>
                  <p:cNvSpPr/>
                  <p:nvPr/>
                </p:nvSpPr>
                <p:spPr>
                  <a:xfrm>
                    <a:off x="61034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616752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623160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629568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63597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4238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80" name=""/>
                <p:cNvGrpSpPr/>
                <p:nvPr/>
              </p:nvGrpSpPr>
              <p:grpSpPr>
                <a:xfrm>
                  <a:off x="6050160" y="4929120"/>
                  <a:ext cx="426960" cy="293400"/>
                  <a:chOff x="6050160" y="4929120"/>
                  <a:chExt cx="426960" cy="293400"/>
                </a:xfrm>
              </p:grpSpPr>
              <p:sp>
                <p:nvSpPr>
                  <p:cNvPr id="581" name=""/>
                  <p:cNvSpPr/>
                  <p:nvPr/>
                </p:nvSpPr>
                <p:spPr>
                  <a:xfrm flipH="1">
                    <a:off x="6050160" y="4929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flipH="1">
                    <a:off x="6050160" y="4987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flipH="1">
                    <a:off x="6050160" y="5046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flipH="1">
                    <a:off x="6050160" y="5105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flipH="1">
                    <a:off x="6050160" y="5163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flipH="1">
                    <a:off x="6050160" y="5222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587" name=""/>
            <p:cNvSpPr/>
            <p:nvPr/>
          </p:nvSpPr>
          <p:spPr>
            <a:xfrm>
              <a:off x="5943600" y="51642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88" name=""/>
          <p:cNvGrpSpPr/>
          <p:nvPr/>
        </p:nvGrpSpPr>
        <p:grpSpPr>
          <a:xfrm>
            <a:off x="6476760" y="5257800"/>
            <a:ext cx="533520" cy="457200"/>
            <a:chOff x="6476760" y="5257800"/>
            <a:chExt cx="533520" cy="457200"/>
          </a:xfrm>
        </p:grpSpPr>
        <p:grpSp>
          <p:nvGrpSpPr>
            <p:cNvPr id="589" name=""/>
            <p:cNvGrpSpPr/>
            <p:nvPr/>
          </p:nvGrpSpPr>
          <p:grpSpPr>
            <a:xfrm>
              <a:off x="6476760" y="5257800"/>
              <a:ext cx="426960" cy="363600"/>
              <a:chOff x="6476760" y="5257800"/>
              <a:chExt cx="426960" cy="363600"/>
            </a:xfrm>
          </p:grpSpPr>
          <p:sp>
            <p:nvSpPr>
              <p:cNvPr id="590" name=""/>
              <p:cNvSpPr/>
              <p:nvPr/>
            </p:nvSpPr>
            <p:spPr>
              <a:xfrm>
                <a:off x="6477120" y="52578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91" name=""/>
              <p:cNvGrpSpPr/>
              <p:nvPr/>
            </p:nvGrpSpPr>
            <p:grpSpPr>
              <a:xfrm>
                <a:off x="6476760" y="5257800"/>
                <a:ext cx="426600" cy="363600"/>
                <a:chOff x="6476760" y="5257800"/>
                <a:chExt cx="426600" cy="363600"/>
              </a:xfrm>
            </p:grpSpPr>
            <p:grpSp>
              <p:nvGrpSpPr>
                <p:cNvPr id="592" name=""/>
                <p:cNvGrpSpPr/>
                <p:nvPr/>
              </p:nvGrpSpPr>
              <p:grpSpPr>
                <a:xfrm>
                  <a:off x="6530400" y="5257800"/>
                  <a:ext cx="320040" cy="363600"/>
                  <a:chOff x="6530400" y="5257800"/>
                  <a:chExt cx="320040" cy="363600"/>
                </a:xfrm>
              </p:grpSpPr>
              <p:sp>
                <p:nvSpPr>
                  <p:cNvPr id="593" name=""/>
                  <p:cNvSpPr/>
                  <p:nvPr/>
                </p:nvSpPr>
                <p:spPr>
                  <a:xfrm>
                    <a:off x="65304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65944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66582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67222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67863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85044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99" name=""/>
                <p:cNvGrpSpPr/>
                <p:nvPr/>
              </p:nvGrpSpPr>
              <p:grpSpPr>
                <a:xfrm>
                  <a:off x="6476760" y="5292720"/>
                  <a:ext cx="426600" cy="293400"/>
                  <a:chOff x="6476760" y="5292720"/>
                  <a:chExt cx="426600" cy="293400"/>
                </a:xfrm>
              </p:grpSpPr>
              <p:sp>
                <p:nvSpPr>
                  <p:cNvPr id="600" name=""/>
                  <p:cNvSpPr/>
                  <p:nvPr/>
                </p:nvSpPr>
                <p:spPr>
                  <a:xfrm flipH="1">
                    <a:off x="6476760" y="5292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flipH="1">
                    <a:off x="6476760" y="53514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flipH="1">
                    <a:off x="6476760" y="54100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flipH="1">
                    <a:off x="6476760" y="54687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H="1">
                    <a:off x="6476760" y="55274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flipH="1">
                    <a:off x="6476760" y="5586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06" name=""/>
            <p:cNvGrpSpPr/>
            <p:nvPr/>
          </p:nvGrpSpPr>
          <p:grpSpPr>
            <a:xfrm>
              <a:off x="6503400" y="5281200"/>
              <a:ext cx="426960" cy="363600"/>
              <a:chOff x="6503400" y="5281200"/>
              <a:chExt cx="426960" cy="363600"/>
            </a:xfrm>
          </p:grpSpPr>
          <p:sp>
            <p:nvSpPr>
              <p:cNvPr id="607" name=""/>
              <p:cNvSpPr/>
              <p:nvPr/>
            </p:nvSpPr>
            <p:spPr>
              <a:xfrm>
                <a:off x="6503760" y="52812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8" name=""/>
              <p:cNvGrpSpPr/>
              <p:nvPr/>
            </p:nvGrpSpPr>
            <p:grpSpPr>
              <a:xfrm>
                <a:off x="6503400" y="5281200"/>
                <a:ext cx="426600" cy="363600"/>
                <a:chOff x="6503400" y="5281200"/>
                <a:chExt cx="426600" cy="363600"/>
              </a:xfrm>
            </p:grpSpPr>
            <p:grpSp>
              <p:nvGrpSpPr>
                <p:cNvPr id="609" name=""/>
                <p:cNvGrpSpPr/>
                <p:nvPr/>
              </p:nvGrpSpPr>
              <p:grpSpPr>
                <a:xfrm>
                  <a:off x="6557040" y="5281200"/>
                  <a:ext cx="320040" cy="363600"/>
                  <a:chOff x="6557040" y="5281200"/>
                  <a:chExt cx="320040" cy="363600"/>
                </a:xfrm>
              </p:grpSpPr>
              <p:sp>
                <p:nvSpPr>
                  <p:cNvPr id="610" name=""/>
                  <p:cNvSpPr/>
                  <p:nvPr/>
                </p:nvSpPr>
                <p:spPr>
                  <a:xfrm>
                    <a:off x="65570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66211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66848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67489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68130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687708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6" name=""/>
                <p:cNvGrpSpPr/>
                <p:nvPr/>
              </p:nvGrpSpPr>
              <p:grpSpPr>
                <a:xfrm>
                  <a:off x="6503400" y="5316120"/>
                  <a:ext cx="426600" cy="293400"/>
                  <a:chOff x="6503400" y="5316120"/>
                  <a:chExt cx="426600" cy="293400"/>
                </a:xfrm>
              </p:grpSpPr>
              <p:sp>
                <p:nvSpPr>
                  <p:cNvPr id="617" name=""/>
                  <p:cNvSpPr/>
                  <p:nvPr/>
                </p:nvSpPr>
                <p:spPr>
                  <a:xfrm flipH="1">
                    <a:off x="6503400" y="5316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flipH="1">
                    <a:off x="6503400" y="53748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flipH="1">
                    <a:off x="6503400" y="54334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flipH="1">
                    <a:off x="6503400" y="54921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flipH="1">
                    <a:off x="6503400" y="55508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flipH="1">
                    <a:off x="6503400" y="5609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23" name=""/>
            <p:cNvGrpSpPr/>
            <p:nvPr/>
          </p:nvGrpSpPr>
          <p:grpSpPr>
            <a:xfrm>
              <a:off x="6530040" y="5304600"/>
              <a:ext cx="426960" cy="363600"/>
              <a:chOff x="6530040" y="5304600"/>
              <a:chExt cx="426960" cy="363600"/>
            </a:xfrm>
          </p:grpSpPr>
          <p:sp>
            <p:nvSpPr>
              <p:cNvPr id="624" name=""/>
              <p:cNvSpPr/>
              <p:nvPr/>
            </p:nvSpPr>
            <p:spPr>
              <a:xfrm>
                <a:off x="6530400" y="53046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5" name=""/>
              <p:cNvGrpSpPr/>
              <p:nvPr/>
            </p:nvGrpSpPr>
            <p:grpSpPr>
              <a:xfrm>
                <a:off x="6530040" y="5304600"/>
                <a:ext cx="426600" cy="363600"/>
                <a:chOff x="6530040" y="5304600"/>
                <a:chExt cx="426600" cy="363600"/>
              </a:xfrm>
            </p:grpSpPr>
            <p:grpSp>
              <p:nvGrpSpPr>
                <p:cNvPr id="626" name=""/>
                <p:cNvGrpSpPr/>
                <p:nvPr/>
              </p:nvGrpSpPr>
              <p:grpSpPr>
                <a:xfrm>
                  <a:off x="6583680" y="5304600"/>
                  <a:ext cx="320040" cy="363600"/>
                  <a:chOff x="6583680" y="5304600"/>
                  <a:chExt cx="320040" cy="363600"/>
                </a:xfrm>
              </p:grpSpPr>
              <p:sp>
                <p:nvSpPr>
                  <p:cNvPr id="627" name=""/>
                  <p:cNvSpPr/>
                  <p:nvPr/>
                </p:nvSpPr>
                <p:spPr>
                  <a:xfrm>
                    <a:off x="65836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66477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67114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67755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8396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690372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33" name=""/>
                <p:cNvGrpSpPr/>
                <p:nvPr/>
              </p:nvGrpSpPr>
              <p:grpSpPr>
                <a:xfrm>
                  <a:off x="6530040" y="5339520"/>
                  <a:ext cx="426600" cy="293400"/>
                  <a:chOff x="6530040" y="5339520"/>
                  <a:chExt cx="426600" cy="293400"/>
                </a:xfrm>
              </p:grpSpPr>
              <p:sp>
                <p:nvSpPr>
                  <p:cNvPr id="634" name=""/>
                  <p:cNvSpPr/>
                  <p:nvPr/>
                </p:nvSpPr>
                <p:spPr>
                  <a:xfrm flipH="1">
                    <a:off x="6530040" y="5339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flipH="1">
                    <a:off x="6530040" y="53982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flipH="1">
                    <a:off x="6530040" y="54568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flipH="1">
                    <a:off x="6530040" y="55155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flipH="1">
                    <a:off x="6530040" y="55742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flipH="1">
                    <a:off x="6530040" y="5632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40" name=""/>
            <p:cNvGrpSpPr/>
            <p:nvPr/>
          </p:nvGrpSpPr>
          <p:grpSpPr>
            <a:xfrm>
              <a:off x="6556680" y="5328000"/>
              <a:ext cx="426960" cy="363600"/>
              <a:chOff x="6556680" y="5328000"/>
              <a:chExt cx="426960" cy="363600"/>
            </a:xfrm>
          </p:grpSpPr>
          <p:sp>
            <p:nvSpPr>
              <p:cNvPr id="641" name=""/>
              <p:cNvSpPr/>
              <p:nvPr/>
            </p:nvSpPr>
            <p:spPr>
              <a:xfrm>
                <a:off x="6557040" y="53280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2" name=""/>
              <p:cNvGrpSpPr/>
              <p:nvPr/>
            </p:nvGrpSpPr>
            <p:grpSpPr>
              <a:xfrm>
                <a:off x="6556680" y="5328000"/>
                <a:ext cx="426600" cy="363600"/>
                <a:chOff x="6556680" y="5328000"/>
                <a:chExt cx="426600" cy="363600"/>
              </a:xfrm>
            </p:grpSpPr>
            <p:grpSp>
              <p:nvGrpSpPr>
                <p:cNvPr id="643" name=""/>
                <p:cNvGrpSpPr/>
                <p:nvPr/>
              </p:nvGrpSpPr>
              <p:grpSpPr>
                <a:xfrm>
                  <a:off x="6610320" y="5328000"/>
                  <a:ext cx="320040" cy="363600"/>
                  <a:chOff x="6610320" y="5328000"/>
                  <a:chExt cx="320040" cy="363600"/>
                </a:xfrm>
              </p:grpSpPr>
              <p:sp>
                <p:nvSpPr>
                  <p:cNvPr id="644" name=""/>
                  <p:cNvSpPr/>
                  <p:nvPr/>
                </p:nvSpPr>
                <p:spPr>
                  <a:xfrm>
                    <a:off x="66103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6744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381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68022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68662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693036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50" name=""/>
                <p:cNvGrpSpPr/>
                <p:nvPr/>
              </p:nvGrpSpPr>
              <p:grpSpPr>
                <a:xfrm>
                  <a:off x="6556680" y="5362920"/>
                  <a:ext cx="426600" cy="293400"/>
                  <a:chOff x="6556680" y="5362920"/>
                  <a:chExt cx="426600" cy="293400"/>
                </a:xfrm>
              </p:grpSpPr>
              <p:sp>
                <p:nvSpPr>
                  <p:cNvPr id="651" name=""/>
                  <p:cNvSpPr/>
                  <p:nvPr/>
                </p:nvSpPr>
                <p:spPr>
                  <a:xfrm flipH="1">
                    <a:off x="6556680" y="5362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flipH="1">
                    <a:off x="6556680" y="54216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flipH="1">
                    <a:off x="6556680" y="54802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flipH="1">
                    <a:off x="6556680" y="55389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6556680" y="55976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6556680" y="5656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57" name=""/>
            <p:cNvGrpSpPr/>
            <p:nvPr/>
          </p:nvGrpSpPr>
          <p:grpSpPr>
            <a:xfrm>
              <a:off x="6583320" y="5351400"/>
              <a:ext cx="426960" cy="363600"/>
              <a:chOff x="6583320" y="5351400"/>
              <a:chExt cx="426960" cy="363600"/>
            </a:xfrm>
          </p:grpSpPr>
          <p:sp>
            <p:nvSpPr>
              <p:cNvPr id="658" name=""/>
              <p:cNvSpPr/>
              <p:nvPr/>
            </p:nvSpPr>
            <p:spPr>
              <a:xfrm>
                <a:off x="6583680" y="53514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9" name=""/>
              <p:cNvGrpSpPr/>
              <p:nvPr/>
            </p:nvGrpSpPr>
            <p:grpSpPr>
              <a:xfrm>
                <a:off x="6583320" y="5351400"/>
                <a:ext cx="426600" cy="363600"/>
                <a:chOff x="6583320" y="5351400"/>
                <a:chExt cx="426600" cy="363600"/>
              </a:xfrm>
            </p:grpSpPr>
            <p:grpSp>
              <p:nvGrpSpPr>
                <p:cNvPr id="660" name=""/>
                <p:cNvGrpSpPr/>
                <p:nvPr/>
              </p:nvGrpSpPr>
              <p:grpSpPr>
                <a:xfrm>
                  <a:off x="6636960" y="5351400"/>
                  <a:ext cx="320040" cy="363600"/>
                  <a:chOff x="6636960" y="5351400"/>
                  <a:chExt cx="320040" cy="363600"/>
                </a:xfrm>
              </p:grpSpPr>
              <p:sp>
                <p:nvSpPr>
                  <p:cNvPr id="661" name=""/>
                  <p:cNvSpPr/>
                  <p:nvPr/>
                </p:nvSpPr>
                <p:spPr>
                  <a:xfrm>
                    <a:off x="66369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67010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67647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68288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68929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695700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67" name=""/>
                <p:cNvGrpSpPr/>
                <p:nvPr/>
              </p:nvGrpSpPr>
              <p:grpSpPr>
                <a:xfrm>
                  <a:off x="6583320" y="5386320"/>
                  <a:ext cx="426600" cy="293400"/>
                  <a:chOff x="6583320" y="5386320"/>
                  <a:chExt cx="426600" cy="293400"/>
                </a:xfrm>
              </p:grpSpPr>
              <p:sp>
                <p:nvSpPr>
                  <p:cNvPr id="668" name=""/>
                  <p:cNvSpPr/>
                  <p:nvPr/>
                </p:nvSpPr>
                <p:spPr>
                  <a:xfrm flipH="1">
                    <a:off x="6583320" y="5386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flipH="1">
                    <a:off x="6583320" y="54450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flipH="1">
                    <a:off x="6583320" y="55036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flipH="1">
                    <a:off x="6583320" y="55623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flipH="1">
                    <a:off x="6583320" y="56210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flipH="1">
                    <a:off x="6583320" y="5679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674" name=""/>
            <p:cNvSpPr/>
            <p:nvPr/>
          </p:nvSpPr>
          <p:spPr>
            <a:xfrm>
              <a:off x="6477120" y="56214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75" name=""/>
          <p:cNvGrpSpPr/>
          <p:nvPr/>
        </p:nvGrpSpPr>
        <p:grpSpPr>
          <a:xfrm>
            <a:off x="6400800" y="4343400"/>
            <a:ext cx="533520" cy="457200"/>
            <a:chOff x="6400800" y="4343400"/>
            <a:chExt cx="533520" cy="457200"/>
          </a:xfrm>
        </p:grpSpPr>
        <p:grpSp>
          <p:nvGrpSpPr>
            <p:cNvPr id="676" name=""/>
            <p:cNvGrpSpPr/>
            <p:nvPr/>
          </p:nvGrpSpPr>
          <p:grpSpPr>
            <a:xfrm>
              <a:off x="6400800" y="4343400"/>
              <a:ext cx="426960" cy="363600"/>
              <a:chOff x="6400800" y="4343400"/>
              <a:chExt cx="426960" cy="363600"/>
            </a:xfrm>
          </p:grpSpPr>
          <p:sp>
            <p:nvSpPr>
              <p:cNvPr id="677" name=""/>
              <p:cNvSpPr/>
              <p:nvPr/>
            </p:nvSpPr>
            <p:spPr>
              <a:xfrm>
                <a:off x="6400800" y="4343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8" name=""/>
              <p:cNvGrpSpPr/>
              <p:nvPr/>
            </p:nvGrpSpPr>
            <p:grpSpPr>
              <a:xfrm>
                <a:off x="6400800" y="4343400"/>
                <a:ext cx="426960" cy="363600"/>
                <a:chOff x="6400800" y="4343400"/>
                <a:chExt cx="426960" cy="363600"/>
              </a:xfrm>
            </p:grpSpPr>
            <p:grpSp>
              <p:nvGrpSpPr>
                <p:cNvPr id="679" name=""/>
                <p:cNvGrpSpPr/>
                <p:nvPr/>
              </p:nvGrpSpPr>
              <p:grpSpPr>
                <a:xfrm>
                  <a:off x="6454080" y="4343400"/>
                  <a:ext cx="320400" cy="363600"/>
                  <a:chOff x="6454080" y="4343400"/>
                  <a:chExt cx="320400" cy="363600"/>
                </a:xfrm>
              </p:grpSpPr>
              <p:sp>
                <p:nvSpPr>
                  <p:cNvPr id="680" name=""/>
                  <p:cNvSpPr/>
                  <p:nvPr/>
                </p:nvSpPr>
                <p:spPr>
                  <a:xfrm>
                    <a:off x="64540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65181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58224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664632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671040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67744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86" name=""/>
                <p:cNvGrpSpPr/>
                <p:nvPr/>
              </p:nvGrpSpPr>
              <p:grpSpPr>
                <a:xfrm>
                  <a:off x="6400800" y="4378320"/>
                  <a:ext cx="426960" cy="293400"/>
                  <a:chOff x="6400800" y="4378320"/>
                  <a:chExt cx="426960" cy="293400"/>
                </a:xfrm>
              </p:grpSpPr>
              <p:sp>
                <p:nvSpPr>
                  <p:cNvPr id="687" name=""/>
                  <p:cNvSpPr/>
                  <p:nvPr/>
                </p:nvSpPr>
                <p:spPr>
                  <a:xfrm flipH="1">
                    <a:off x="6400800" y="4378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6400800" y="4437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6400800" y="4495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6400800" y="4554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6400800" y="4613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6400800" y="467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93" name=""/>
            <p:cNvGrpSpPr/>
            <p:nvPr/>
          </p:nvGrpSpPr>
          <p:grpSpPr>
            <a:xfrm>
              <a:off x="6427440" y="4366800"/>
              <a:ext cx="426960" cy="363600"/>
              <a:chOff x="6427440" y="4366800"/>
              <a:chExt cx="426960" cy="363600"/>
            </a:xfrm>
          </p:grpSpPr>
          <p:sp>
            <p:nvSpPr>
              <p:cNvPr id="694" name=""/>
              <p:cNvSpPr/>
              <p:nvPr/>
            </p:nvSpPr>
            <p:spPr>
              <a:xfrm>
                <a:off x="6427440" y="4366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5" name=""/>
              <p:cNvGrpSpPr/>
              <p:nvPr/>
            </p:nvGrpSpPr>
            <p:grpSpPr>
              <a:xfrm>
                <a:off x="6427440" y="4366800"/>
                <a:ext cx="426960" cy="363600"/>
                <a:chOff x="6427440" y="4366800"/>
                <a:chExt cx="426960" cy="363600"/>
              </a:xfrm>
            </p:grpSpPr>
            <p:grpSp>
              <p:nvGrpSpPr>
                <p:cNvPr id="696" name=""/>
                <p:cNvGrpSpPr/>
                <p:nvPr/>
              </p:nvGrpSpPr>
              <p:grpSpPr>
                <a:xfrm>
                  <a:off x="6480720" y="4366800"/>
                  <a:ext cx="320400" cy="363600"/>
                  <a:chOff x="6480720" y="4366800"/>
                  <a:chExt cx="320400" cy="363600"/>
                </a:xfrm>
              </p:grpSpPr>
              <p:sp>
                <p:nvSpPr>
                  <p:cNvPr id="697" name=""/>
                  <p:cNvSpPr/>
                  <p:nvPr/>
                </p:nvSpPr>
                <p:spPr>
                  <a:xfrm>
                    <a:off x="64807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65448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660888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67296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673704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68011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3" name=""/>
                <p:cNvGrpSpPr/>
                <p:nvPr/>
              </p:nvGrpSpPr>
              <p:grpSpPr>
                <a:xfrm>
                  <a:off x="6427440" y="4401720"/>
                  <a:ext cx="426960" cy="293400"/>
                  <a:chOff x="6427440" y="4401720"/>
                  <a:chExt cx="426960" cy="293400"/>
                </a:xfrm>
              </p:grpSpPr>
              <p:sp>
                <p:nvSpPr>
                  <p:cNvPr id="704" name=""/>
                  <p:cNvSpPr/>
                  <p:nvPr/>
                </p:nvSpPr>
                <p:spPr>
                  <a:xfrm flipH="1">
                    <a:off x="6427440" y="440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flipH="1">
                    <a:off x="6427440" y="4460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6427440" y="4519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6427440" y="4577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6427440" y="4636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flipH="1">
                    <a:off x="6427440" y="469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10" name=""/>
            <p:cNvGrpSpPr/>
            <p:nvPr/>
          </p:nvGrpSpPr>
          <p:grpSpPr>
            <a:xfrm>
              <a:off x="6454080" y="4390200"/>
              <a:ext cx="426960" cy="363600"/>
              <a:chOff x="6454080" y="4390200"/>
              <a:chExt cx="426960" cy="363600"/>
            </a:xfrm>
          </p:grpSpPr>
          <p:sp>
            <p:nvSpPr>
              <p:cNvPr id="711" name=""/>
              <p:cNvSpPr/>
              <p:nvPr/>
            </p:nvSpPr>
            <p:spPr>
              <a:xfrm>
                <a:off x="6454080" y="4390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2" name=""/>
              <p:cNvGrpSpPr/>
              <p:nvPr/>
            </p:nvGrpSpPr>
            <p:grpSpPr>
              <a:xfrm>
                <a:off x="6454080" y="4390200"/>
                <a:ext cx="426960" cy="363600"/>
                <a:chOff x="6454080" y="4390200"/>
                <a:chExt cx="426960" cy="363600"/>
              </a:xfrm>
            </p:grpSpPr>
            <p:grpSp>
              <p:nvGrpSpPr>
                <p:cNvPr id="713" name=""/>
                <p:cNvGrpSpPr/>
                <p:nvPr/>
              </p:nvGrpSpPr>
              <p:grpSpPr>
                <a:xfrm>
                  <a:off x="6507360" y="4390200"/>
                  <a:ext cx="320400" cy="363600"/>
                  <a:chOff x="6507360" y="4390200"/>
                  <a:chExt cx="320400" cy="363600"/>
                </a:xfrm>
              </p:grpSpPr>
              <p:sp>
                <p:nvSpPr>
                  <p:cNvPr id="714" name=""/>
                  <p:cNvSpPr/>
                  <p:nvPr/>
                </p:nvSpPr>
                <p:spPr>
                  <a:xfrm>
                    <a:off x="65073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65714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63552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69960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6368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8277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20" name=""/>
                <p:cNvGrpSpPr/>
                <p:nvPr/>
              </p:nvGrpSpPr>
              <p:grpSpPr>
                <a:xfrm>
                  <a:off x="6454080" y="4425120"/>
                  <a:ext cx="426960" cy="293400"/>
                  <a:chOff x="6454080" y="4425120"/>
                  <a:chExt cx="426960" cy="293400"/>
                </a:xfrm>
              </p:grpSpPr>
              <p:sp>
                <p:nvSpPr>
                  <p:cNvPr id="721" name=""/>
                  <p:cNvSpPr/>
                  <p:nvPr/>
                </p:nvSpPr>
                <p:spPr>
                  <a:xfrm flipH="1">
                    <a:off x="6454080" y="442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H="1">
                    <a:off x="6454080" y="4483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flipH="1">
                    <a:off x="6454080" y="4542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flipH="1">
                    <a:off x="6454080" y="4601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6454080" y="4659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6454080" y="471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27" name=""/>
            <p:cNvGrpSpPr/>
            <p:nvPr/>
          </p:nvGrpSpPr>
          <p:grpSpPr>
            <a:xfrm>
              <a:off x="6480720" y="4413600"/>
              <a:ext cx="426960" cy="363600"/>
              <a:chOff x="6480720" y="4413600"/>
              <a:chExt cx="426960" cy="363600"/>
            </a:xfrm>
          </p:grpSpPr>
          <p:sp>
            <p:nvSpPr>
              <p:cNvPr id="728" name=""/>
              <p:cNvSpPr/>
              <p:nvPr/>
            </p:nvSpPr>
            <p:spPr>
              <a:xfrm>
                <a:off x="6480720" y="4413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9" name=""/>
              <p:cNvGrpSpPr/>
              <p:nvPr/>
            </p:nvGrpSpPr>
            <p:grpSpPr>
              <a:xfrm>
                <a:off x="6480720" y="4413600"/>
                <a:ext cx="426960" cy="363600"/>
                <a:chOff x="6480720" y="4413600"/>
                <a:chExt cx="426960" cy="363600"/>
              </a:xfrm>
            </p:grpSpPr>
            <p:grpSp>
              <p:nvGrpSpPr>
                <p:cNvPr id="730" name=""/>
                <p:cNvGrpSpPr/>
                <p:nvPr/>
              </p:nvGrpSpPr>
              <p:grpSpPr>
                <a:xfrm>
                  <a:off x="6534000" y="4413600"/>
                  <a:ext cx="320400" cy="363600"/>
                  <a:chOff x="6534000" y="4413600"/>
                  <a:chExt cx="320400" cy="363600"/>
                </a:xfrm>
              </p:grpSpPr>
              <p:sp>
                <p:nvSpPr>
                  <p:cNvPr id="731" name=""/>
                  <p:cNvSpPr/>
                  <p:nvPr/>
                </p:nvSpPr>
                <p:spPr>
                  <a:xfrm>
                    <a:off x="65340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65980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666216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672624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9032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68544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37" name=""/>
                <p:cNvGrpSpPr/>
                <p:nvPr/>
              </p:nvGrpSpPr>
              <p:grpSpPr>
                <a:xfrm>
                  <a:off x="6480720" y="4448520"/>
                  <a:ext cx="426960" cy="293400"/>
                  <a:chOff x="6480720" y="4448520"/>
                  <a:chExt cx="426960" cy="293400"/>
                </a:xfrm>
              </p:grpSpPr>
              <p:sp>
                <p:nvSpPr>
                  <p:cNvPr id="738" name=""/>
                  <p:cNvSpPr/>
                  <p:nvPr/>
                </p:nvSpPr>
                <p:spPr>
                  <a:xfrm flipH="1">
                    <a:off x="6480720" y="444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flipH="1">
                    <a:off x="6480720" y="4507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flipH="1">
                    <a:off x="6480720" y="4565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flipH="1">
                    <a:off x="6480720" y="4624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flipH="1">
                    <a:off x="6480720" y="4683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flipH="1">
                    <a:off x="6480720" y="474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44" name=""/>
            <p:cNvGrpSpPr/>
            <p:nvPr/>
          </p:nvGrpSpPr>
          <p:grpSpPr>
            <a:xfrm>
              <a:off x="6507360" y="4437000"/>
              <a:ext cx="426960" cy="363600"/>
              <a:chOff x="6507360" y="4437000"/>
              <a:chExt cx="426960" cy="363600"/>
            </a:xfrm>
          </p:grpSpPr>
          <p:sp>
            <p:nvSpPr>
              <p:cNvPr id="745" name=""/>
              <p:cNvSpPr/>
              <p:nvPr/>
            </p:nvSpPr>
            <p:spPr>
              <a:xfrm>
                <a:off x="6507360" y="4437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6" name=""/>
              <p:cNvGrpSpPr/>
              <p:nvPr/>
            </p:nvGrpSpPr>
            <p:grpSpPr>
              <a:xfrm>
                <a:off x="6507360" y="4437000"/>
                <a:ext cx="426960" cy="363600"/>
                <a:chOff x="6507360" y="4437000"/>
                <a:chExt cx="426960" cy="363600"/>
              </a:xfrm>
            </p:grpSpPr>
            <p:grpSp>
              <p:nvGrpSpPr>
                <p:cNvPr id="747" name=""/>
                <p:cNvGrpSpPr/>
                <p:nvPr/>
              </p:nvGrpSpPr>
              <p:grpSpPr>
                <a:xfrm>
                  <a:off x="6560640" y="4437000"/>
                  <a:ext cx="320400" cy="363600"/>
                  <a:chOff x="6560640" y="4437000"/>
                  <a:chExt cx="320400" cy="363600"/>
                </a:xfrm>
              </p:grpSpPr>
              <p:sp>
                <p:nvSpPr>
                  <p:cNvPr id="748" name=""/>
                  <p:cNvSpPr/>
                  <p:nvPr/>
                </p:nvSpPr>
                <p:spPr>
                  <a:xfrm>
                    <a:off x="65606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66247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68880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675288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681696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68810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4" name=""/>
                <p:cNvGrpSpPr/>
                <p:nvPr/>
              </p:nvGrpSpPr>
              <p:grpSpPr>
                <a:xfrm>
                  <a:off x="6507360" y="4471920"/>
                  <a:ext cx="426960" cy="293400"/>
                  <a:chOff x="6507360" y="4471920"/>
                  <a:chExt cx="426960" cy="293400"/>
                </a:xfrm>
              </p:grpSpPr>
              <p:sp>
                <p:nvSpPr>
                  <p:cNvPr id="755" name=""/>
                  <p:cNvSpPr/>
                  <p:nvPr/>
                </p:nvSpPr>
                <p:spPr>
                  <a:xfrm flipH="1">
                    <a:off x="6507360" y="447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H="1">
                    <a:off x="6507360" y="4530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6507360" y="4589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6507360" y="4647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6507360" y="4706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6507360" y="4765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761" name=""/>
            <p:cNvSpPr/>
            <p:nvPr/>
          </p:nvSpPr>
          <p:spPr>
            <a:xfrm>
              <a:off x="6400800" y="47070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2" name=""/>
          <p:cNvGrpSpPr/>
          <p:nvPr/>
        </p:nvGrpSpPr>
        <p:grpSpPr>
          <a:xfrm>
            <a:off x="6933960" y="4800600"/>
            <a:ext cx="533520" cy="457200"/>
            <a:chOff x="6933960" y="4800600"/>
            <a:chExt cx="533520" cy="457200"/>
          </a:xfrm>
        </p:grpSpPr>
        <p:grpSp>
          <p:nvGrpSpPr>
            <p:cNvPr id="763" name=""/>
            <p:cNvGrpSpPr/>
            <p:nvPr/>
          </p:nvGrpSpPr>
          <p:grpSpPr>
            <a:xfrm>
              <a:off x="6933960" y="4800600"/>
              <a:ext cx="426960" cy="363600"/>
              <a:chOff x="6933960" y="4800600"/>
              <a:chExt cx="426960" cy="363600"/>
            </a:xfrm>
          </p:grpSpPr>
          <p:sp>
            <p:nvSpPr>
              <p:cNvPr id="764" name=""/>
              <p:cNvSpPr/>
              <p:nvPr/>
            </p:nvSpPr>
            <p:spPr>
              <a:xfrm>
                <a:off x="6934320" y="48006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5" name=""/>
              <p:cNvGrpSpPr/>
              <p:nvPr/>
            </p:nvGrpSpPr>
            <p:grpSpPr>
              <a:xfrm>
                <a:off x="6933960" y="4800600"/>
                <a:ext cx="426600" cy="363600"/>
                <a:chOff x="6933960" y="4800600"/>
                <a:chExt cx="426600" cy="363600"/>
              </a:xfrm>
            </p:grpSpPr>
            <p:grpSp>
              <p:nvGrpSpPr>
                <p:cNvPr id="766" name=""/>
                <p:cNvGrpSpPr/>
                <p:nvPr/>
              </p:nvGrpSpPr>
              <p:grpSpPr>
                <a:xfrm>
                  <a:off x="6987600" y="4800600"/>
                  <a:ext cx="320040" cy="363600"/>
                  <a:chOff x="6987600" y="4800600"/>
                  <a:chExt cx="320040" cy="363600"/>
                </a:xfrm>
              </p:grpSpPr>
              <p:sp>
                <p:nvSpPr>
                  <p:cNvPr id="767" name=""/>
                  <p:cNvSpPr/>
                  <p:nvPr/>
                </p:nvSpPr>
                <p:spPr>
                  <a:xfrm>
                    <a:off x="69876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70516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71154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71794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724356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730764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73" name=""/>
                <p:cNvGrpSpPr/>
                <p:nvPr/>
              </p:nvGrpSpPr>
              <p:grpSpPr>
                <a:xfrm>
                  <a:off x="6933960" y="4835520"/>
                  <a:ext cx="426600" cy="293400"/>
                  <a:chOff x="6933960" y="4835520"/>
                  <a:chExt cx="426600" cy="293400"/>
                </a:xfrm>
              </p:grpSpPr>
              <p:sp>
                <p:nvSpPr>
                  <p:cNvPr id="774" name=""/>
                  <p:cNvSpPr/>
                  <p:nvPr/>
                </p:nvSpPr>
                <p:spPr>
                  <a:xfrm flipH="1">
                    <a:off x="6933960" y="4835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flipH="1">
                    <a:off x="6933960" y="48942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6933960" y="49528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6933960" y="50115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6933960" y="50702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H="1">
                    <a:off x="6933960" y="5128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80" name=""/>
            <p:cNvGrpSpPr/>
            <p:nvPr/>
          </p:nvGrpSpPr>
          <p:grpSpPr>
            <a:xfrm>
              <a:off x="6960600" y="4824000"/>
              <a:ext cx="426960" cy="363600"/>
              <a:chOff x="6960600" y="4824000"/>
              <a:chExt cx="426960" cy="363600"/>
            </a:xfrm>
          </p:grpSpPr>
          <p:sp>
            <p:nvSpPr>
              <p:cNvPr id="781" name=""/>
              <p:cNvSpPr/>
              <p:nvPr/>
            </p:nvSpPr>
            <p:spPr>
              <a:xfrm>
                <a:off x="6960960" y="48240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2" name=""/>
              <p:cNvGrpSpPr/>
              <p:nvPr/>
            </p:nvGrpSpPr>
            <p:grpSpPr>
              <a:xfrm>
                <a:off x="6960600" y="4824000"/>
                <a:ext cx="426600" cy="363600"/>
                <a:chOff x="6960600" y="4824000"/>
                <a:chExt cx="426600" cy="363600"/>
              </a:xfrm>
            </p:grpSpPr>
            <p:grpSp>
              <p:nvGrpSpPr>
                <p:cNvPr id="783" name=""/>
                <p:cNvGrpSpPr/>
                <p:nvPr/>
              </p:nvGrpSpPr>
              <p:grpSpPr>
                <a:xfrm>
                  <a:off x="7014240" y="4824000"/>
                  <a:ext cx="320040" cy="363600"/>
                  <a:chOff x="7014240" y="4824000"/>
                  <a:chExt cx="320040" cy="363600"/>
                </a:xfrm>
              </p:grpSpPr>
              <p:sp>
                <p:nvSpPr>
                  <p:cNvPr id="784" name=""/>
                  <p:cNvSpPr/>
                  <p:nvPr/>
                </p:nvSpPr>
                <p:spPr>
                  <a:xfrm>
                    <a:off x="70142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70783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71420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72061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727020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733428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90" name=""/>
                <p:cNvGrpSpPr/>
                <p:nvPr/>
              </p:nvGrpSpPr>
              <p:grpSpPr>
                <a:xfrm>
                  <a:off x="6960600" y="4858920"/>
                  <a:ext cx="426600" cy="293400"/>
                  <a:chOff x="6960600" y="4858920"/>
                  <a:chExt cx="426600" cy="293400"/>
                </a:xfrm>
              </p:grpSpPr>
              <p:sp>
                <p:nvSpPr>
                  <p:cNvPr id="791" name=""/>
                  <p:cNvSpPr/>
                  <p:nvPr/>
                </p:nvSpPr>
                <p:spPr>
                  <a:xfrm flipH="1">
                    <a:off x="6960600" y="4858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flipH="1">
                    <a:off x="6960600" y="49176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flipH="1">
                    <a:off x="6960600" y="49762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flipH="1">
                    <a:off x="6960600" y="50349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a:off x="6960600" y="50936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a:off x="6960600" y="5152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97" name=""/>
            <p:cNvGrpSpPr/>
            <p:nvPr/>
          </p:nvGrpSpPr>
          <p:grpSpPr>
            <a:xfrm>
              <a:off x="6987240" y="4847400"/>
              <a:ext cx="426960" cy="363600"/>
              <a:chOff x="6987240" y="4847400"/>
              <a:chExt cx="426960" cy="363600"/>
            </a:xfrm>
          </p:grpSpPr>
          <p:sp>
            <p:nvSpPr>
              <p:cNvPr id="798" name=""/>
              <p:cNvSpPr/>
              <p:nvPr/>
            </p:nvSpPr>
            <p:spPr>
              <a:xfrm>
                <a:off x="6987600" y="48474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9" name=""/>
              <p:cNvGrpSpPr/>
              <p:nvPr/>
            </p:nvGrpSpPr>
            <p:grpSpPr>
              <a:xfrm>
                <a:off x="6987240" y="4847400"/>
                <a:ext cx="426600" cy="363600"/>
                <a:chOff x="6987240" y="4847400"/>
                <a:chExt cx="426600" cy="363600"/>
              </a:xfrm>
            </p:grpSpPr>
            <p:grpSp>
              <p:nvGrpSpPr>
                <p:cNvPr id="800" name=""/>
                <p:cNvGrpSpPr/>
                <p:nvPr/>
              </p:nvGrpSpPr>
              <p:grpSpPr>
                <a:xfrm>
                  <a:off x="7040880" y="4847400"/>
                  <a:ext cx="320040" cy="363600"/>
                  <a:chOff x="7040880" y="4847400"/>
                  <a:chExt cx="320040" cy="363600"/>
                </a:xfrm>
              </p:grpSpPr>
              <p:sp>
                <p:nvSpPr>
                  <p:cNvPr id="801" name=""/>
                  <p:cNvSpPr/>
                  <p:nvPr/>
                </p:nvSpPr>
                <p:spPr>
                  <a:xfrm>
                    <a:off x="70408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71049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71686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72327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729684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736092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07" name=""/>
                <p:cNvGrpSpPr/>
                <p:nvPr/>
              </p:nvGrpSpPr>
              <p:grpSpPr>
                <a:xfrm>
                  <a:off x="6987240" y="4882320"/>
                  <a:ext cx="426600" cy="293400"/>
                  <a:chOff x="6987240" y="4882320"/>
                  <a:chExt cx="426600" cy="293400"/>
                </a:xfrm>
              </p:grpSpPr>
              <p:sp>
                <p:nvSpPr>
                  <p:cNvPr id="808" name=""/>
                  <p:cNvSpPr/>
                  <p:nvPr/>
                </p:nvSpPr>
                <p:spPr>
                  <a:xfrm flipH="1">
                    <a:off x="6987240" y="4882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a:off x="6987240" y="49410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a:off x="6987240" y="49996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flipH="1">
                    <a:off x="6987240" y="50583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flipH="1">
                    <a:off x="6987240" y="51170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flipH="1">
                    <a:off x="6987240" y="5175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14" name=""/>
            <p:cNvGrpSpPr/>
            <p:nvPr/>
          </p:nvGrpSpPr>
          <p:grpSpPr>
            <a:xfrm>
              <a:off x="7013880" y="4870800"/>
              <a:ext cx="426960" cy="363600"/>
              <a:chOff x="7013880" y="4870800"/>
              <a:chExt cx="426960" cy="363600"/>
            </a:xfrm>
          </p:grpSpPr>
          <p:sp>
            <p:nvSpPr>
              <p:cNvPr id="815" name=""/>
              <p:cNvSpPr/>
              <p:nvPr/>
            </p:nvSpPr>
            <p:spPr>
              <a:xfrm>
                <a:off x="7014240" y="48708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6" name=""/>
              <p:cNvGrpSpPr/>
              <p:nvPr/>
            </p:nvGrpSpPr>
            <p:grpSpPr>
              <a:xfrm>
                <a:off x="7013880" y="4870800"/>
                <a:ext cx="426600" cy="363600"/>
                <a:chOff x="7013880" y="4870800"/>
                <a:chExt cx="426600" cy="363600"/>
              </a:xfrm>
            </p:grpSpPr>
            <p:grpSp>
              <p:nvGrpSpPr>
                <p:cNvPr id="817" name=""/>
                <p:cNvGrpSpPr/>
                <p:nvPr/>
              </p:nvGrpSpPr>
              <p:grpSpPr>
                <a:xfrm>
                  <a:off x="7067520" y="4870800"/>
                  <a:ext cx="320040" cy="363600"/>
                  <a:chOff x="7067520" y="4870800"/>
                  <a:chExt cx="320040" cy="363600"/>
                </a:xfrm>
              </p:grpSpPr>
              <p:sp>
                <p:nvSpPr>
                  <p:cNvPr id="818" name=""/>
                  <p:cNvSpPr/>
                  <p:nvPr/>
                </p:nvSpPr>
                <p:spPr>
                  <a:xfrm>
                    <a:off x="70675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71316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71953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72594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732348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738756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24" name=""/>
                <p:cNvGrpSpPr/>
                <p:nvPr/>
              </p:nvGrpSpPr>
              <p:grpSpPr>
                <a:xfrm>
                  <a:off x="7013880" y="4905720"/>
                  <a:ext cx="426600" cy="293400"/>
                  <a:chOff x="7013880" y="4905720"/>
                  <a:chExt cx="426600" cy="293400"/>
                </a:xfrm>
              </p:grpSpPr>
              <p:sp>
                <p:nvSpPr>
                  <p:cNvPr id="825" name=""/>
                  <p:cNvSpPr/>
                  <p:nvPr/>
                </p:nvSpPr>
                <p:spPr>
                  <a:xfrm flipH="1">
                    <a:off x="7013880" y="4905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a:off x="7013880" y="49644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a:off x="7013880" y="50230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a:off x="7013880" y="50817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a:off x="7013880" y="51404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013880" y="5199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31" name=""/>
            <p:cNvGrpSpPr/>
            <p:nvPr/>
          </p:nvGrpSpPr>
          <p:grpSpPr>
            <a:xfrm>
              <a:off x="7040520" y="4894200"/>
              <a:ext cx="426960" cy="363600"/>
              <a:chOff x="7040520" y="4894200"/>
              <a:chExt cx="426960" cy="363600"/>
            </a:xfrm>
          </p:grpSpPr>
          <p:sp>
            <p:nvSpPr>
              <p:cNvPr id="832" name=""/>
              <p:cNvSpPr/>
              <p:nvPr/>
            </p:nvSpPr>
            <p:spPr>
              <a:xfrm>
                <a:off x="7040880" y="48942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3" name=""/>
              <p:cNvGrpSpPr/>
              <p:nvPr/>
            </p:nvGrpSpPr>
            <p:grpSpPr>
              <a:xfrm>
                <a:off x="7040520" y="4894200"/>
                <a:ext cx="426600" cy="363600"/>
                <a:chOff x="7040520" y="4894200"/>
                <a:chExt cx="426600" cy="363600"/>
              </a:xfrm>
            </p:grpSpPr>
            <p:grpSp>
              <p:nvGrpSpPr>
                <p:cNvPr id="834" name=""/>
                <p:cNvGrpSpPr/>
                <p:nvPr/>
              </p:nvGrpSpPr>
              <p:grpSpPr>
                <a:xfrm>
                  <a:off x="7094160" y="4894200"/>
                  <a:ext cx="320040" cy="363600"/>
                  <a:chOff x="7094160" y="4894200"/>
                  <a:chExt cx="320040" cy="363600"/>
                </a:xfrm>
              </p:grpSpPr>
              <p:sp>
                <p:nvSpPr>
                  <p:cNvPr id="835" name=""/>
                  <p:cNvSpPr/>
                  <p:nvPr/>
                </p:nvSpPr>
                <p:spPr>
                  <a:xfrm>
                    <a:off x="70941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71582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72219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72860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735012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741420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41" name=""/>
                <p:cNvGrpSpPr/>
                <p:nvPr/>
              </p:nvGrpSpPr>
              <p:grpSpPr>
                <a:xfrm>
                  <a:off x="7040520" y="4929120"/>
                  <a:ext cx="426600" cy="293400"/>
                  <a:chOff x="7040520" y="4929120"/>
                  <a:chExt cx="426600" cy="293400"/>
                </a:xfrm>
              </p:grpSpPr>
              <p:sp>
                <p:nvSpPr>
                  <p:cNvPr id="842" name=""/>
                  <p:cNvSpPr/>
                  <p:nvPr/>
                </p:nvSpPr>
                <p:spPr>
                  <a:xfrm flipH="1">
                    <a:off x="7040520" y="4929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flipH="1">
                    <a:off x="7040520" y="49878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7040520" y="50464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a:off x="7040520" y="51051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a:off x="7040520" y="51638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a:off x="7040520" y="5222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848" name=""/>
            <p:cNvSpPr/>
            <p:nvPr/>
          </p:nvSpPr>
          <p:spPr>
            <a:xfrm>
              <a:off x="6934320" y="51642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49" name=""/>
          <p:cNvGrpSpPr/>
          <p:nvPr/>
        </p:nvGrpSpPr>
        <p:grpSpPr>
          <a:xfrm>
            <a:off x="7467480" y="5257800"/>
            <a:ext cx="533520" cy="457200"/>
            <a:chOff x="7467480" y="5257800"/>
            <a:chExt cx="533520" cy="457200"/>
          </a:xfrm>
        </p:grpSpPr>
        <p:grpSp>
          <p:nvGrpSpPr>
            <p:cNvPr id="850" name=""/>
            <p:cNvGrpSpPr/>
            <p:nvPr/>
          </p:nvGrpSpPr>
          <p:grpSpPr>
            <a:xfrm>
              <a:off x="7467480" y="5257800"/>
              <a:ext cx="426960" cy="363600"/>
              <a:chOff x="7467480" y="5257800"/>
              <a:chExt cx="426960" cy="363600"/>
            </a:xfrm>
          </p:grpSpPr>
          <p:sp>
            <p:nvSpPr>
              <p:cNvPr id="851" name=""/>
              <p:cNvSpPr/>
              <p:nvPr/>
            </p:nvSpPr>
            <p:spPr>
              <a:xfrm>
                <a:off x="7467480" y="5257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2" name=""/>
              <p:cNvGrpSpPr/>
              <p:nvPr/>
            </p:nvGrpSpPr>
            <p:grpSpPr>
              <a:xfrm>
                <a:off x="7467480" y="5257800"/>
                <a:ext cx="426960" cy="363600"/>
                <a:chOff x="7467480" y="5257800"/>
                <a:chExt cx="426960" cy="363600"/>
              </a:xfrm>
            </p:grpSpPr>
            <p:grpSp>
              <p:nvGrpSpPr>
                <p:cNvPr id="853" name=""/>
                <p:cNvGrpSpPr/>
                <p:nvPr/>
              </p:nvGrpSpPr>
              <p:grpSpPr>
                <a:xfrm>
                  <a:off x="7520760" y="5257800"/>
                  <a:ext cx="320400" cy="363600"/>
                  <a:chOff x="7520760" y="5257800"/>
                  <a:chExt cx="320400" cy="363600"/>
                </a:xfrm>
              </p:grpSpPr>
              <p:sp>
                <p:nvSpPr>
                  <p:cNvPr id="854" name=""/>
                  <p:cNvSpPr/>
                  <p:nvPr/>
                </p:nvSpPr>
                <p:spPr>
                  <a:xfrm>
                    <a:off x="75207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758484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764892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77130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77770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78411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60" name=""/>
                <p:cNvGrpSpPr/>
                <p:nvPr/>
              </p:nvGrpSpPr>
              <p:grpSpPr>
                <a:xfrm>
                  <a:off x="7467480" y="5292720"/>
                  <a:ext cx="426960" cy="293400"/>
                  <a:chOff x="7467480" y="5292720"/>
                  <a:chExt cx="426960" cy="293400"/>
                </a:xfrm>
              </p:grpSpPr>
              <p:sp>
                <p:nvSpPr>
                  <p:cNvPr id="861" name=""/>
                  <p:cNvSpPr/>
                  <p:nvPr/>
                </p:nvSpPr>
                <p:spPr>
                  <a:xfrm flipH="1">
                    <a:off x="7467480" y="5292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H="1">
                    <a:off x="7467480" y="5351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flipH="1">
                    <a:off x="7467480" y="5410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7467480" y="5468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a:off x="7467480" y="5527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a:off x="7467480" y="5586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67" name=""/>
            <p:cNvGrpSpPr/>
            <p:nvPr/>
          </p:nvGrpSpPr>
          <p:grpSpPr>
            <a:xfrm>
              <a:off x="7494120" y="5281200"/>
              <a:ext cx="426960" cy="363600"/>
              <a:chOff x="7494120" y="5281200"/>
              <a:chExt cx="426960" cy="363600"/>
            </a:xfrm>
          </p:grpSpPr>
          <p:sp>
            <p:nvSpPr>
              <p:cNvPr id="868" name=""/>
              <p:cNvSpPr/>
              <p:nvPr/>
            </p:nvSpPr>
            <p:spPr>
              <a:xfrm>
                <a:off x="7494120" y="5281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9" name=""/>
              <p:cNvGrpSpPr/>
              <p:nvPr/>
            </p:nvGrpSpPr>
            <p:grpSpPr>
              <a:xfrm>
                <a:off x="7494120" y="5281200"/>
                <a:ext cx="426960" cy="363600"/>
                <a:chOff x="7494120" y="5281200"/>
                <a:chExt cx="426960" cy="363600"/>
              </a:xfrm>
            </p:grpSpPr>
            <p:grpSp>
              <p:nvGrpSpPr>
                <p:cNvPr id="870" name=""/>
                <p:cNvGrpSpPr/>
                <p:nvPr/>
              </p:nvGrpSpPr>
              <p:grpSpPr>
                <a:xfrm>
                  <a:off x="7547400" y="5281200"/>
                  <a:ext cx="320400" cy="363600"/>
                  <a:chOff x="7547400" y="5281200"/>
                  <a:chExt cx="320400" cy="363600"/>
                </a:xfrm>
              </p:grpSpPr>
              <p:sp>
                <p:nvSpPr>
                  <p:cNvPr id="871" name=""/>
                  <p:cNvSpPr/>
                  <p:nvPr/>
                </p:nvSpPr>
                <p:spPr>
                  <a:xfrm>
                    <a:off x="75474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761148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767556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77396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78037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78678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77" name=""/>
                <p:cNvGrpSpPr/>
                <p:nvPr/>
              </p:nvGrpSpPr>
              <p:grpSpPr>
                <a:xfrm>
                  <a:off x="7494120" y="5316120"/>
                  <a:ext cx="426960" cy="293400"/>
                  <a:chOff x="7494120" y="5316120"/>
                  <a:chExt cx="426960" cy="293400"/>
                </a:xfrm>
              </p:grpSpPr>
              <p:sp>
                <p:nvSpPr>
                  <p:cNvPr id="878" name=""/>
                  <p:cNvSpPr/>
                  <p:nvPr/>
                </p:nvSpPr>
                <p:spPr>
                  <a:xfrm flipH="1">
                    <a:off x="7494120" y="5316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flipH="1">
                    <a:off x="7494120" y="5374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flipH="1">
                    <a:off x="7494120" y="5433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a:off x="7494120" y="5492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a:off x="7494120" y="5550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a:off x="7494120" y="5609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84" name=""/>
            <p:cNvGrpSpPr/>
            <p:nvPr/>
          </p:nvGrpSpPr>
          <p:grpSpPr>
            <a:xfrm>
              <a:off x="7520760" y="5304600"/>
              <a:ext cx="426960" cy="363600"/>
              <a:chOff x="7520760" y="5304600"/>
              <a:chExt cx="426960" cy="363600"/>
            </a:xfrm>
          </p:grpSpPr>
          <p:sp>
            <p:nvSpPr>
              <p:cNvPr id="885" name=""/>
              <p:cNvSpPr/>
              <p:nvPr/>
            </p:nvSpPr>
            <p:spPr>
              <a:xfrm>
                <a:off x="7520760" y="5304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86" name=""/>
              <p:cNvGrpSpPr/>
              <p:nvPr/>
            </p:nvGrpSpPr>
            <p:grpSpPr>
              <a:xfrm>
                <a:off x="7520760" y="5304600"/>
                <a:ext cx="426960" cy="363600"/>
                <a:chOff x="7520760" y="5304600"/>
                <a:chExt cx="426960" cy="363600"/>
              </a:xfrm>
            </p:grpSpPr>
            <p:grpSp>
              <p:nvGrpSpPr>
                <p:cNvPr id="887" name=""/>
                <p:cNvGrpSpPr/>
                <p:nvPr/>
              </p:nvGrpSpPr>
              <p:grpSpPr>
                <a:xfrm>
                  <a:off x="7574040" y="5304600"/>
                  <a:ext cx="320400" cy="363600"/>
                  <a:chOff x="7574040" y="5304600"/>
                  <a:chExt cx="320400" cy="363600"/>
                </a:xfrm>
              </p:grpSpPr>
              <p:sp>
                <p:nvSpPr>
                  <p:cNvPr id="888" name=""/>
                  <p:cNvSpPr/>
                  <p:nvPr/>
                </p:nvSpPr>
                <p:spPr>
                  <a:xfrm>
                    <a:off x="75740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763812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770220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7662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78303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78944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94" name=""/>
                <p:cNvGrpSpPr/>
                <p:nvPr/>
              </p:nvGrpSpPr>
              <p:grpSpPr>
                <a:xfrm>
                  <a:off x="7520760" y="5339520"/>
                  <a:ext cx="426960" cy="293400"/>
                  <a:chOff x="7520760" y="5339520"/>
                  <a:chExt cx="426960" cy="293400"/>
                </a:xfrm>
              </p:grpSpPr>
              <p:sp>
                <p:nvSpPr>
                  <p:cNvPr id="895" name=""/>
                  <p:cNvSpPr/>
                  <p:nvPr/>
                </p:nvSpPr>
                <p:spPr>
                  <a:xfrm flipH="1">
                    <a:off x="7520760" y="5339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H="1">
                    <a:off x="7520760" y="5398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H="1">
                    <a:off x="7520760" y="5456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flipH="1">
                    <a:off x="7520760" y="5515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7520760" y="5574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7520760" y="5632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901" name=""/>
            <p:cNvGrpSpPr/>
            <p:nvPr/>
          </p:nvGrpSpPr>
          <p:grpSpPr>
            <a:xfrm>
              <a:off x="7547400" y="5328000"/>
              <a:ext cx="426960" cy="363600"/>
              <a:chOff x="7547400" y="5328000"/>
              <a:chExt cx="426960" cy="363600"/>
            </a:xfrm>
          </p:grpSpPr>
          <p:sp>
            <p:nvSpPr>
              <p:cNvPr id="902" name=""/>
              <p:cNvSpPr/>
              <p:nvPr/>
            </p:nvSpPr>
            <p:spPr>
              <a:xfrm>
                <a:off x="7547400" y="5328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03" name=""/>
              <p:cNvGrpSpPr/>
              <p:nvPr/>
            </p:nvGrpSpPr>
            <p:grpSpPr>
              <a:xfrm>
                <a:off x="7547400" y="5328000"/>
                <a:ext cx="426960" cy="363600"/>
                <a:chOff x="7547400" y="5328000"/>
                <a:chExt cx="426960" cy="363600"/>
              </a:xfrm>
            </p:grpSpPr>
            <p:grpSp>
              <p:nvGrpSpPr>
                <p:cNvPr id="904" name=""/>
                <p:cNvGrpSpPr/>
                <p:nvPr/>
              </p:nvGrpSpPr>
              <p:grpSpPr>
                <a:xfrm>
                  <a:off x="7600680" y="5328000"/>
                  <a:ext cx="320400" cy="363600"/>
                  <a:chOff x="7600680" y="5328000"/>
                  <a:chExt cx="320400" cy="363600"/>
                </a:xfrm>
              </p:grpSpPr>
              <p:sp>
                <p:nvSpPr>
                  <p:cNvPr id="905" name=""/>
                  <p:cNvSpPr/>
                  <p:nvPr/>
                </p:nvSpPr>
                <p:spPr>
                  <a:xfrm>
                    <a:off x="76006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766476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772884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77929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78570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79210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11" name=""/>
                <p:cNvGrpSpPr/>
                <p:nvPr/>
              </p:nvGrpSpPr>
              <p:grpSpPr>
                <a:xfrm>
                  <a:off x="7547400" y="5362920"/>
                  <a:ext cx="426960" cy="293400"/>
                  <a:chOff x="7547400" y="5362920"/>
                  <a:chExt cx="426960" cy="293400"/>
                </a:xfrm>
              </p:grpSpPr>
              <p:sp>
                <p:nvSpPr>
                  <p:cNvPr id="912" name=""/>
                  <p:cNvSpPr/>
                  <p:nvPr/>
                </p:nvSpPr>
                <p:spPr>
                  <a:xfrm flipH="1">
                    <a:off x="7547400" y="5362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7547400" y="5421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H="1">
                    <a:off x="7547400" y="5480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flipH="1">
                    <a:off x="7547400" y="5538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flipH="1">
                    <a:off x="7547400" y="5597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flipH="1">
                    <a:off x="7547400" y="5656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918" name=""/>
            <p:cNvGrpSpPr/>
            <p:nvPr/>
          </p:nvGrpSpPr>
          <p:grpSpPr>
            <a:xfrm>
              <a:off x="7574040" y="5351400"/>
              <a:ext cx="426960" cy="363600"/>
              <a:chOff x="7574040" y="5351400"/>
              <a:chExt cx="426960" cy="363600"/>
            </a:xfrm>
          </p:grpSpPr>
          <p:sp>
            <p:nvSpPr>
              <p:cNvPr id="919" name=""/>
              <p:cNvSpPr/>
              <p:nvPr/>
            </p:nvSpPr>
            <p:spPr>
              <a:xfrm>
                <a:off x="7574040" y="5351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20" name=""/>
              <p:cNvGrpSpPr/>
              <p:nvPr/>
            </p:nvGrpSpPr>
            <p:grpSpPr>
              <a:xfrm>
                <a:off x="7574040" y="5351400"/>
                <a:ext cx="426960" cy="363600"/>
                <a:chOff x="7574040" y="5351400"/>
                <a:chExt cx="426960" cy="363600"/>
              </a:xfrm>
            </p:grpSpPr>
            <p:grpSp>
              <p:nvGrpSpPr>
                <p:cNvPr id="921" name=""/>
                <p:cNvGrpSpPr/>
                <p:nvPr/>
              </p:nvGrpSpPr>
              <p:grpSpPr>
                <a:xfrm>
                  <a:off x="7627320" y="5351400"/>
                  <a:ext cx="320400" cy="363600"/>
                  <a:chOff x="7627320" y="5351400"/>
                  <a:chExt cx="320400" cy="363600"/>
                </a:xfrm>
              </p:grpSpPr>
              <p:sp>
                <p:nvSpPr>
                  <p:cNvPr id="922" name=""/>
                  <p:cNvSpPr/>
                  <p:nvPr/>
                </p:nvSpPr>
                <p:spPr>
                  <a:xfrm>
                    <a:off x="76273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769140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775548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78195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78836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9477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8" name=""/>
                <p:cNvGrpSpPr/>
                <p:nvPr/>
              </p:nvGrpSpPr>
              <p:grpSpPr>
                <a:xfrm>
                  <a:off x="7574040" y="5386320"/>
                  <a:ext cx="426960" cy="293400"/>
                  <a:chOff x="7574040" y="5386320"/>
                  <a:chExt cx="426960" cy="293400"/>
                </a:xfrm>
              </p:grpSpPr>
              <p:sp>
                <p:nvSpPr>
                  <p:cNvPr id="929" name=""/>
                  <p:cNvSpPr/>
                  <p:nvPr/>
                </p:nvSpPr>
                <p:spPr>
                  <a:xfrm flipH="1">
                    <a:off x="7574040" y="5386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H="1">
                    <a:off x="7574040" y="5445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a:off x="7574040" y="5503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a:off x="7574040" y="5562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a:off x="7574040" y="5621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a:off x="7574040" y="5679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935" name=""/>
            <p:cNvSpPr/>
            <p:nvPr/>
          </p:nvSpPr>
          <p:spPr>
            <a:xfrm>
              <a:off x="7467480" y="56214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6" name=""/>
          <p:cNvSpPr/>
          <p:nvPr/>
        </p:nvSpPr>
        <p:spPr>
          <a:xfrm>
            <a:off x="6782040" y="1676520"/>
            <a:ext cx="1593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CATIONS</a:t>
            </a:r>
            <a:endParaRPr b="0" lang="en-US" sz="1200" spc="-1" strike="noStrike">
              <a:solidFill>
                <a:srgbClr val="000000"/>
              </a:solidFill>
              <a:latin typeface="Times New Roman"/>
            </a:endParaRPr>
          </a:p>
        </p:txBody>
      </p:sp>
      <p:sp>
        <p:nvSpPr>
          <p:cNvPr id="937" name=""/>
          <p:cNvSpPr/>
          <p:nvPr/>
        </p:nvSpPr>
        <p:spPr>
          <a:xfrm>
            <a:off x="7240680" y="2057400"/>
            <a:ext cx="866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ENCE</a:t>
            </a:r>
            <a:endParaRPr b="0" lang="en-US" sz="1200" spc="-1" strike="noStrike">
              <a:solidFill>
                <a:srgbClr val="000000"/>
              </a:solidFill>
              <a:latin typeface="Times New Roman"/>
            </a:endParaRPr>
          </a:p>
        </p:txBody>
      </p:sp>
      <p:sp>
        <p:nvSpPr>
          <p:cNvPr id="938" name=""/>
          <p:cNvSpPr/>
          <p:nvPr/>
        </p:nvSpPr>
        <p:spPr>
          <a:xfrm>
            <a:off x="7773840" y="251460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C</a:t>
            </a:r>
            <a:endParaRPr b="0" lang="en-US" sz="1200" spc="-1" strike="noStrike">
              <a:solidFill>
                <a:srgbClr val="000000"/>
              </a:solidFill>
              <a:latin typeface="Times New Roman"/>
            </a:endParaRPr>
          </a:p>
        </p:txBody>
      </p:sp>
      <p:sp>
        <p:nvSpPr>
          <p:cNvPr id="939" name=""/>
          <p:cNvSpPr/>
          <p:nvPr/>
        </p:nvSpPr>
        <p:spPr>
          <a:xfrm>
            <a:off x="6936840" y="4419720"/>
            <a:ext cx="1211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INEERING</a:t>
            </a:r>
            <a:endParaRPr b="0" lang="en-US" sz="1200" spc="-1" strike="noStrike">
              <a:solidFill>
                <a:srgbClr val="000000"/>
              </a:solidFill>
              <a:latin typeface="Times New Roman"/>
            </a:endParaRPr>
          </a:p>
        </p:txBody>
      </p:sp>
      <p:sp>
        <p:nvSpPr>
          <p:cNvPr id="940" name=""/>
          <p:cNvSpPr/>
          <p:nvPr/>
        </p:nvSpPr>
        <p:spPr>
          <a:xfrm>
            <a:off x="7469640" y="4800600"/>
            <a:ext cx="1527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 REGULATION</a:t>
            </a:r>
            <a:endParaRPr b="0" lang="en-US" sz="1200" spc="-1" strike="noStrike">
              <a:solidFill>
                <a:srgbClr val="000000"/>
              </a:solidFill>
              <a:latin typeface="Times New Roman"/>
            </a:endParaRPr>
          </a:p>
        </p:txBody>
      </p:sp>
      <p:sp>
        <p:nvSpPr>
          <p:cNvPr id="941" name=""/>
          <p:cNvSpPr/>
          <p:nvPr/>
        </p:nvSpPr>
        <p:spPr>
          <a:xfrm>
            <a:off x="8003520" y="5334120"/>
            <a:ext cx="678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a:t>
            </a:r>
            <a:endParaRPr b="0" lang="en-US" sz="1200" spc="-1" strike="noStrike">
              <a:solidFill>
                <a:srgbClr val="000000"/>
              </a:solidFill>
              <a:latin typeface="Times New Roman"/>
            </a:endParaRPr>
          </a:p>
        </p:txBody>
      </p:sp>
      <p:sp>
        <p:nvSpPr>
          <p:cNvPr id="942" name=""/>
          <p:cNvSpPr/>
          <p:nvPr/>
        </p:nvSpPr>
        <p:spPr>
          <a:xfrm>
            <a:off x="2897280" y="5281560"/>
            <a:ext cx="200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4. APPLICATION</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assBeth Inc.   www.cassbeth.com</a:t>
            </a:r>
          </a:p>
        </p:txBody>
      </p:sp>
      <p:sp>
        <p:nvSpPr>
          <p:cNvPr id="4" name="PlaceHolder 3"/>
          <p:cNvSpPr>
            <a:spLocks noGrp="1"/>
          </p:cNvSpPr>
          <p:nvPr>
            <p:ph type="sldNum" idx="3"/>
          </p:nvPr>
        </p:nvSpPr>
        <p:spPr/>
        <p:txBody>
          <a:bodyPr/>
          <a:p>
            <a:fld id="{B3FFC44F-2721-4BEC-8B5C-FCADBAE3FC94}"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lain Language Analysis Tool (PLA) is based on Internet technologies, and allows a user to analyze documents against your Plain Language Guideline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powerful mining techniques are based on predefined and user rules that can be saved as templates to support any future analysi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 is an outgrowth of the Specification Analysis Tool, which is used to help technologists write technical specifications in the engineering community.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est way to view these applications are as agents that go out and do complex multidimensional searches on your document that provide you with results similar to an Internet search engine. However, these complex search returns are based on rules that you can expand and modify to help you understand your problem set.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103B5831-C777-49E9-A59D-C2CFB56021C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PLA</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s visualize and analyze documen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Plain Language Guideline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gnificant user bas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vernment, Industry, Education and anywhere where Plain Language Guidelines are being applied</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ilar to Internet search engin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ed to a single documen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s multidimensional search criter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s as users agen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0603E6CC-F2DC-418A-ACDD-BF200C1523F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si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rfaced while creating an engineering too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nalyze specification tex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titutional / Legislative analysis was examp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show breath of the technology</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ed on 25+ years automation backgroun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s such as Air Traffic Control and Real Time Simulation System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 studies and its technologies starting 1997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BBD76114-494D-4E5A-B036-A9E58C3C368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es PLA Work</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uploads fi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local computer or network</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 examines file extens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Doc or .Html SAT tries to parse into object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verts each line into objec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tandalone statemen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jects object To each service and its rul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ed on setting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tputs object results and tabulates metric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0C354256-033C-472A-86EE-8E6D24A5E8C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es PLA Work</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ed in terms of services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decides what service makes sens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defined services and rul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s saved as templat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s users to grow their own template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lizes that searches provide powerful insight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uctured searches allow for even greater insigh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eatable searches allow for serious analysis using different source data and or different rul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6CF53FD8-AB2B-40CD-9E1E-8E4BE5A65F2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mplates</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in Language</a:t>
            </a:r>
            <a:endParaRPr b="0" lang="en-US" sz="28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 include: Plain Language Guidelines, reading level, word themes, duplicates, etc</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veryone writing using the Plain Language Guidelines such as legislative staff, people, special interest groups, academics, teachers, etc</a:t>
            </a:r>
            <a:endParaRPr b="0" lang="en-US" sz="24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roaches</a:t>
            </a:r>
            <a:endParaRPr b="0" lang="en-US" sz="28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 include:Plain Language plus a service to identify how the document approaches the problem</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legislative staff, people, special interest groups, academics, teachers, etc</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F9130D97-75FC-4D85-BC6C-D30B962EB83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mplates</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sla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 include: text clarity, legislative elements, committees, roles, special interests, representatives, reading level, word themes, duplicates, etc</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legislative staff, people, special interest groups, academics, teachers, etc</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titu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 include: government type, inalienable rights, separation of powers, roles, elections, representatives, challenges, scar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3549F575-1AE2-4292-85AF-5A3FDC2F6FD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enario</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ad document</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parately select each service </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ine result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ad next document and repeat</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n a service for modification</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pdate rule attribut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ve new services and rules as new templat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metrics data to compare different run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your conclusion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C938D61C-5C8F-4F47-BEA4-50A2DBB39DE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6T15:49:01Z</dcterms:created>
  <dc:creator>cassbeth</dc:creator>
  <dc:description/>
  <dc:language>en-US</dc:language>
  <cp:lastModifiedBy>walt sobkiw</cp:lastModifiedBy>
  <cp:lastPrinted>2005-10-19T00:03:31Z</cp:lastPrinted>
  <dcterms:modified xsi:type="dcterms:W3CDTF">2006-08-20T16:27:26Z</dcterms:modified>
  <cp:revision>364</cp:revision>
  <dc:subject/>
  <dc:title>Legislative Analysis Too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1</vt:r8>
  </property>
  <property fmtid="{D5CDD505-2E9C-101B-9397-08002B2CF9AE}" pid="12" name="Other">
    <vt:lpwstr/>
  </property>
  <property fmtid="{D5CDD505-2E9C-101B-9397-08002B2CF9AE}" pid="13" name="OutputDir">
    <vt:lpwstr>C:\z-places\CassBeth\operations\status</vt:lpwstr>
  </property>
  <property fmtid="{D5CDD505-2E9C-101B-9397-08002B2CF9AE}" pid="14" name="ScreenSize">
    <vt:r8>1</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