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D127D-C0B7-4923-89F5-212E10DB9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8A786-DD77-42AF-85CC-618EA7322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B9A97-1449-44DD-A45B-F0180EB95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E44AA-6FCA-4C49-803C-C9A8B23B5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2575D-1315-49C7-9FB6-E4ECA2D3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9979F-35A8-4B71-8D1F-A7C281B40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AE876-7D64-4B07-9954-629CA9B03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CBF20-CA9D-4D5F-837A-8ADDE37A6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1F43B-2395-4492-9776-195ACDAB5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DD3A5-2364-4D5B-A8B4-4854A415C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923C-6E58-4418-B0F8-3E55D8A67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B22EC-CC5E-43C3-A8DF-3D2E06017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870D-C8ED-476A-8FFF-25EE2619FA02}"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DDD6F6DA-3BCC-4864-B020-99784D6884C5}" type="datetime12">
              <a:rPr b="0" lang="en-US" sz="1400" spc="-1" strike="noStrike">
                <a:solidFill>
                  <a:srgbClr val="000000"/>
                </a:solidFill>
                <a:latin typeface="Times New Roman"/>
              </a:rPr>
              <a:t>12:54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CFA7-73F2-43CE-B5A0-A6E2CD234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B4CE42A-EDDE-4A4F-8162-3E1CFE4F815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CE7928B-8955-4297-96E1-AD7FB95BEA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29E18DC-B137-4206-856E-521DF45A8C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A65ED69-79AA-4DB0-8BB1-EE4BF87C0D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18441E8-C758-40A6-AD20-9164657809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39D539C-3E8B-4AA6-8374-C952A1D83C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B52B6DA-D5C3-450A-B4F9-50F4B7C199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98DFD243-15E8-4E70-B287-9411802FD370}"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