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E9E39-10E5-4152-8BFC-06225D4EC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BFB8C-003C-4D47-9545-2D8A4C2A3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8ADD3-C929-4B73-8FAD-093233060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AF9AD-2FA1-4571-B864-54C42E057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FFB7F-C0D7-42D3-8526-26ADCCC1E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0DEB1-FDD2-4877-AF4F-EE1E8BD71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8BF21-572C-474F-A10B-114561DCC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57A21-DBDB-4244-8ACC-191FCFDC1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33BFF-02C9-490D-811F-4B84C7E7F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5B59-A9DD-4677-8B32-CBA58AFF3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1B03-5DD2-4AEC-8462-DAD4A50D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B455-6D4F-4C4B-9379-0A0643B92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5E95-BF0F-4726-8926-86F7EFCAFA0C}"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BBA6AACD-48B4-4680-9C7F-ACD87F8C29B2}" type="datetime12">
              <a:rPr b="0" lang="en-US" sz="1400" spc="-1" strike="noStrike">
                <a:solidFill>
                  <a:srgbClr val="000000"/>
                </a:solidFill>
                <a:latin typeface="Times New Roman"/>
              </a:rPr>
              <a:t>08:36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4C45-F9FB-466B-B336-C5B720A42A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Transcript Analysis (MT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CC22059-DDCF-4EE6-8EF1-8F850CFD5B8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dical Transcript Analysis (MT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EE40C2C-2C30-4864-A2AE-857D77F632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T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5694992-163A-402D-98B8-D3676893CE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EAB23F1-C489-4A30-BEAF-074580982D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MT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18F80E1-BB62-49BF-B92E-D1203B030E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DACF19C-BB8C-4D5A-85E3-A615043D75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43C54D0-AAAD-40EE-B250-66EB7EA85B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E4056846-7AC5-492A-AF97-2267CC49FD00}"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12T22:52:47Z</dcterms:modified>
  <cp:revision>365</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