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D2555-3F76-4CA3-95B4-27EED4B96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FD5E4-C5A4-4662-A5C1-23061CC88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99610-E0EA-4B5D-ACAF-CD2B6E056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9E6CE-E12B-44D3-BD35-8683F61D5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0B4EC-3CD1-4351-9BC2-700127119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8262F-564A-4625-9318-4D6AE2E42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C9630-E76D-4FAB-AEB3-36D0D304C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A5AAD-6C2B-447D-AFFC-B080D7E9D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DBE48-3605-441C-97DA-47E535E7E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313EE-C58A-4DE6-A14A-84A491DE5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08E5C-CDC8-482D-A53B-D6ECDC819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18FF2-4D9A-4283-8923-49C8EE235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0D60-D84B-4F20-8EAE-22318DA2752A}" type="datetime">
              <a:rPr b="0" lang="en-US" sz="1400" spc="-1" strike="noStrike">
                <a:solidFill>
                  <a:srgbClr val="000000"/>
                </a:solidFill>
                <a:latin typeface="Times New Roman"/>
              </a:rPr>
              <a:t>07/29/26</a:t>
            </a:fld>
            <a:r>
              <a:rPr b="0" lang="en-US" sz="1400" spc="-1" strike="noStrike">
                <a:solidFill>
                  <a:srgbClr val="000000"/>
                </a:solidFill>
                <a:latin typeface="Times New Roman"/>
              </a:rPr>
              <a:t> </a:t>
            </a:r>
            <a:fld id="{04E96598-5DB1-4577-80D1-8EDA47581542}" type="datetime12">
              <a:rPr b="0" lang="en-US" sz="1400" spc="-1" strike="noStrike">
                <a:solidFill>
                  <a:srgbClr val="000000"/>
                </a:solidFill>
                <a:latin typeface="Times New Roman"/>
              </a:rPr>
              <a:t>12:53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38D6-4D5C-4EFE-AD38-13AEC2F3B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itutional Analysis Tool</a:t>
            </a:r>
            <a:br>
              <a:rPr sz="4400"/>
            </a:br>
            <a:r>
              <a:rPr b="0" lang="en-US" sz="4400" spc="-1" strike="noStrike">
                <a:solidFill>
                  <a:srgbClr val="000000"/>
                </a:solidFill>
                <a:latin typeface="Times New Roman"/>
              </a:rPr>
              <a:t>(C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6B9677D-B945-4754-84C9-50772DD7D10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stitutional Analysis Tool (CAT) is based on Internet technologies, and allows a user to analyze Constitutions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99A50C88-0A3B-4EF5-98C1-A5497BC49B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organizational constitu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0D4FAED-2D34-4A89-AFD3-156C13F86E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EF47727-DDE1-49BE-B200-43CD9AACCE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A266015-0516-429A-BC1D-9DFB81E21D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D4CE1AC-B7F9-460C-9E88-26BED3F803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 state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government type, inalienable rights, separation of powers, roles, representatives, current challenges, reading level, document shape, word themes, duplicate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al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echnical, student, community, labor, corporate and other organization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15BB373-6515-4DDB-B454-06D68A98F1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constit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D1E1024-184A-45A9-9DE4-43BD889C65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BB5B8ACF-1DE2-4494-9EF4-10C2BF360D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27:54Z</dcterms:modified>
  <cp:revision>362</cp:revision>
  <dc:subject/>
  <dc:title>Constitutional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