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BC36A-BA89-46EF-A3D3-A276AB2F1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094A-BCEC-4046-81AB-CDFD99A1F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ED266-0457-469E-80AD-335BD8C18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A9E89-FADF-4168-8FF2-FA5A253FD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58719-2304-4AC2-AE96-5103EB84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247BE-A703-4A1D-9648-56EF1F76A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4E831-BAAC-492B-B887-72DA78845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9060-07A5-4ABB-BC90-D8328DD02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5894-4785-4787-97C0-536BD013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DB10-7E10-49A8-902F-42EDF51D2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857F-2AE0-41F8-AB92-6E82BC5B1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9BCD-8C2C-410C-BBD5-A48CF35EC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9CE3-5216-48A2-A201-77D1DD1E3DD6}"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52B7D4B3-DA3C-4F92-A5CF-9EA35570D021}" type="datetime12">
              <a:rPr b="0" lang="en-US" sz="1400" spc="-1" strike="noStrike">
                <a:solidFill>
                  <a:srgbClr val="000000"/>
                </a:solidFill>
                <a:latin typeface="Times New Roman"/>
              </a:rPr>
              <a:t>08:3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D24B-A922-409F-9F8F-95C059D12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B333942-EE1A-44FB-B3E2-512EA8AB1C0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953B218-6E6C-45EC-A7BD-F8FB90C234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E098A50-4DCA-41D2-A0EC-7A49F2D78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E6FFB79-E4EA-480A-B17D-706A13771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D2F86A4-A66A-4076-A16A-D569E509DB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CB4D9D3-AF0C-4080-A6AA-71DBFBAD7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4649510-2CC8-4086-8408-995F10699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547507E-9BC8-420A-B79C-0871BF671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78A3227C-3EAB-477C-9274-E2CC503C4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