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4D971-3748-420C-8B15-84E6F646C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1F43-4C3B-4845-A8EF-90C997F00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B1CE6-508C-4369-BE38-DB7440ECB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37133-35D7-4901-B9BF-004CF1B74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40DD0-0C31-4CAD-8D7B-9491CA0CE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3391F-3822-40C7-AB52-2FC04D0FF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3FFD9-F62B-4CB8-8EA5-A9E3A05B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F504-589F-460A-8B99-0F87AD768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BCF94-EEF8-4CBE-B835-702570C82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4DDC-37BD-4314-A501-F2D7CA8EA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9EC55-8394-437E-A0F9-D0BDD1CB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DECB-D893-414B-869B-485EB87B7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0FBB-CB92-4194-BBB6-B2206E4458E2}"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FAFC5492-7875-47E1-BC3B-4D5703B36024}" type="datetime12">
              <a:rPr b="0" lang="en-US" sz="1400" spc="-1" strike="noStrike">
                <a:solidFill>
                  <a:srgbClr val="000000"/>
                </a:solidFill>
                <a:latin typeface="Times New Roman"/>
              </a:rPr>
              <a:t>12:53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CA52-7A7E-407D-B8D1-959D3F6DD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9BE2458-A7E9-4478-A6EC-2530430A4B6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682C73D-84B8-4587-AD2B-919BFAC2CF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1C4CADF-8EEB-4109-BB49-30E680B9FD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BE4D9BE-D5A8-4C59-A091-0FF3CEAE21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8AF97F1-3BC2-4A08-99C1-F777FFC64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DF5FFA3-BAE2-4B27-B5FB-0B22C06098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E480CDF-B4E4-4C59-8492-3A1665FB29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A3D880D3-7CFD-40D8-AD3A-4D2EB544A520}"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