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7FA92-343D-4181-A785-B5D13C704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F342-156F-4153-84A4-53B74447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28A93-5474-4764-A5D2-82CCA22C2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3BA62-649F-4D37-9C2B-0D77C88CB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1577B-A0FF-40E3-970E-7A267238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1BFE-7059-404E-9595-436CE3BB6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9C9F-D8F3-40C7-BCB9-32414707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AED2-CC03-4338-A7FB-F45C65319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39E06-0E99-48CF-B472-45689AD7F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363B-AE90-4450-82E5-1CCC048A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C030-2563-4EBA-AEE9-CFD07913C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9581D-EC55-473C-B79A-6DB5448E8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F8A3-B59A-446E-81B9-87906CC98A4B}"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477C2189-2563-4E8B-9812-7BABAC89F5F9}" type="datetime12">
              <a:rPr b="0" lang="en-US" sz="1400" spc="-1" strike="noStrike">
                <a:solidFill>
                  <a:srgbClr val="000000"/>
                </a:solidFill>
                <a:latin typeface="Times New Roman"/>
              </a:rPr>
              <a:t>08:36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0439-BC72-402A-8724-06E169AD7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3CF9C11-853F-4B7A-B526-6395C6BD62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06DA32EB-23F9-41B3-81E2-DDA88FBA8D6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70BC9F3-B729-428E-BF09-B1A1E63E00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C0220E2-D7AF-4B9F-AC11-6B621F9EC2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829721A-14DE-40AA-81D9-699CBB27F1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EB36668-CC8E-475E-A694-26A8B6DE7B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3930ADC-6CBE-4E98-98F8-ED9F6C174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B0FE921-F1D3-439E-BB1C-1E6AC5EDF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E175564-644A-4937-B3FE-DA886E55D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62269F6-3DE2-4330-956E-C488F0D0A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