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A70A8-6987-497D-B258-5E118F706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60A51-068C-44F6-80F0-911F5B813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04DA3-4B84-48BE-888C-96C774A23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7D914-EF33-4643-B74A-003BCAD5C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0DFE0-7C26-48FE-93C6-61CB9CF32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8B7E8-4480-4B5B-83BC-83AD44050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52AEF-8CB6-4F89-831F-6526FDC4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8941B-838D-49E4-83C8-CAACFC2A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D0F4C-C7D1-4A20-AFCF-DAEA05091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BF6E2-1D3E-4B94-A7F3-F443697B7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AFFC-0551-45D2-BF02-33D0F944A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5F9BD-3650-43E7-8EAE-A0569A1F4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2498-73C0-44D6-9536-640E8FC0CA12}"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36C9BE34-A6F7-4D0A-A526-646F181A8B4E}" type="datetime12">
              <a:rPr b="0" lang="en-US" sz="1400" spc="-1" strike="noStrike">
                <a:solidFill>
                  <a:srgbClr val="000000"/>
                </a:solidFill>
                <a:latin typeface="Times New Roman"/>
              </a:rPr>
              <a:t>10:44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B1E6-DB0A-404E-ADCF-1B24DE774B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itutional Analysis Tool</a:t>
            </a:r>
            <a:br>
              <a:rPr sz="4400"/>
            </a:br>
            <a:r>
              <a:rPr b="0" lang="en-US" sz="4400" spc="-1" strike="noStrike">
                <a:solidFill>
                  <a:srgbClr val="000000"/>
                </a:solidFill>
                <a:latin typeface="Times New Roman"/>
              </a:rPr>
              <a:t>(C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DFAADB1-3320-49B2-A9F6-4749FF03CC7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Analysis Tool (CAT) is based on Internet technologies, and allows a user to analyze Constitutions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E4449D0-D07D-4FD0-92FA-9EC2A39CFA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organizational constitu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5240698-15B4-47D4-82FC-95DD1432F5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13AD634-2202-4A5A-B987-A2056917E9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AEB91F5-989F-41A7-A3C8-C873D6396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B5F1C88-73E6-415D-AFFB-AAD47242F5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 state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government type, inalienable rights, separation of powers, roles, representatives, current challenges, reading level, document shape, word themes, duplicate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echnical, student, community, labor, corporate and other organization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CE5BD60-958E-4828-A467-88E12B418F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stit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6716BB3-87DA-4EB1-859D-A301475E55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4ADF5FA4-9848-462E-845E-103A24450E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27:54Z</dcterms:modified>
  <cp:revision>362</cp:revision>
  <dc:subject/>
  <dc:title>Constitutional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