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CC704-0B60-4C21-8057-D9EEE3C84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97334-0597-4494-B4BD-31CED551F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3F26C-9146-431B-832F-79E9A8228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89D10-A20F-47B3-BE61-A597E80CF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71DED-4024-4B8E-853D-1D8D7EAFF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AB7C5-3D6C-42A9-B8D8-F87D30CE1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4CDE4-BBFC-4F45-AECB-0B9872F68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E3F40-7FC9-4482-8A21-222435CE9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14E40-B108-4567-AFC5-5A2A35657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2D350-0ACE-4CEB-B765-DEE606D90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4B0AD-C7E9-47CF-90FB-5FE37BEC5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89F99-ADEB-4FC8-BFF0-6BC9FF951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099B-87E1-43DC-83D1-BBD4C0C5D0BB}"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E13A84FC-5081-4067-A68E-3AF5E9AA1649}" type="datetime12">
              <a:rPr b="0" lang="en-US" sz="1400" spc="-1" strike="noStrike">
                <a:solidFill>
                  <a:srgbClr val="000000"/>
                </a:solidFill>
                <a:latin typeface="Times New Roman"/>
              </a:rPr>
              <a:t>10:44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CC07-B4B0-4E0E-BC2C-5673B5908A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cument Analysis (GD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C450957-F7CE-4848-8E28-C6953609CC3F}"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neral Document Analysis (GD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D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ied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A6C0D66-79B2-47AF-AE8D-365D212971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GD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C90E3EC-72EF-4EC8-AB86-2201455D39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FD82C7D-9C27-4C67-A01A-E033D27CD6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GD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007615D-9CBE-45D5-9494-B35DF0CCA6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5F8A840-EDD7-4A40-B93F-17D686C6DA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C03BC48-F3D7-4977-898C-350BC2B405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AC208D51-F8A2-4FBC-AE7A-4F3831C1E184}"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24T06:50:06Z</dcterms:modified>
  <cp:revision>366</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