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B113C-518B-4AEB-8FC1-4C34099D3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A059-BBEE-404F-8BDD-49221540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DC7F5-94B9-4DA0-BDFE-E1506FD67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019A6-117C-43C1-A61A-73850BDAD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8A3B-D4B2-4DC9-8C27-017134EF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6EA29-46F5-41BA-9435-B1FA144F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63F25-9C98-4F5E-A4D5-76BFBB03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421B5-B1D7-45AD-A9F2-D39F3F3E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E36D8-4F03-4BC8-A9FD-8AC73CA1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389E-EEC0-4714-A369-B4076525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C36E-D1C8-4DFF-9118-51BC2972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18AD-E082-45A8-AD66-B9BC2EB26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32F9-CAF2-4259-A2E1-2CA09C80AB5D}"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C696EA2C-C934-4D8E-AE2C-69A77D0651CD}" type="datetime12">
              <a:rPr b="0" lang="en-US" sz="1400" spc="-1" strike="noStrike">
                <a:solidFill>
                  <a:srgbClr val="000000"/>
                </a:solidFill>
                <a:latin typeface="Times New Roman"/>
              </a:rPr>
              <a:t>08:1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B173-82AF-4EF4-8A8E-54523FC21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EB5B31C-696F-459F-8280-BEA8F87E265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7897212-72C4-4ABC-87FD-6D607E0E47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1D65EAD-E6FD-4F62-BCA4-869E6C0762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FFAFBDC-B631-41F1-A626-B881ABF34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D26972A-9E1E-48E4-9FFD-5CCA3F601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31D8E95-6494-4986-BFEC-244859A06B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4562875-FE80-4CF8-A610-A6E4449A9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F9E7415-D11C-42D2-8023-9D4E7CB9A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3F9E2A1E-8EAD-4BAB-88D9-50CA675B3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