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40853-05AA-4EAB-9777-B62D22060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9F39-9CF9-4F55-9A09-694A765E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66F62-0DF6-4F0D-BFD5-51D3B6D1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A5938-DCF9-4F90-AB6A-BA28FAFF2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66860-F3B2-4816-91EA-558C05251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06A4-A475-4CAA-B8F8-B4CFA94F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A4A0-B6BD-44A9-979F-6165D111C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6C57-C52B-4C67-A151-B6D28009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C278-294D-4924-964B-14FFA907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F263-61E7-4BF0-ACB6-299783825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21ACD-0C02-4CC7-B057-D915400BA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BE96-7DCC-44F5-BAB9-B22D167AD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A933-D612-40E4-9859-2370D9FC1588}"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9728670D-EC6E-4A3A-B4D6-1BB56120E8D3}" type="datetime12">
              <a:rPr b="0" lang="en-US" sz="1400" spc="-1" strike="noStrike">
                <a:solidFill>
                  <a:srgbClr val="000000"/>
                </a:solidFill>
                <a:latin typeface="Times New Roman"/>
              </a:rPr>
              <a:t>08:1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E1F0-CEF0-4D67-861F-44E5F0223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60D1531-1824-4B52-A47D-0B43DE85B6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B32AD7CB-31F7-4767-8886-996C0EE15AA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E0FB0A3-814D-4EE3-BA01-F443F346B7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F8A2FF5-CAE1-43F8-ADA9-B1E6E1BAF7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F0B49AF-F143-444A-B2BB-0C4A2A9B9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D820BD3-0C58-494C-9867-8D8F162244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FBC1EB0-215C-481A-9DF5-756FD8A4F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7D54C3B-B89C-4BB8-8214-FEB3B9421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9828567-19DC-4A50-BAC6-549FCA64B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EA9D41C-F575-4A82-ADAE-BED15D41B6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