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3CFE1-310E-4376-9F86-69BA434A6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65D64-874B-4388-8E0C-B214AB4AD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06F6B-5053-4219-9583-BF30E8A77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9EEA0-D65F-4A0B-9C01-4717EBF3A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8601A-760A-46DD-9D0D-30FBB9297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445F-00A3-442A-B84B-EA8D26152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66385-A27E-4095-AFBF-615387520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0B73E-7ADE-42E8-90C2-97A11FF6B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0764B-107E-4BDC-96FB-B5CEB7B5B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91B33-5696-4940-BAE3-A5A5C2CAC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DFE15-9605-4BED-A9C0-9831AC1A0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0B7F0-2EC9-4822-82EB-664242E50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9BC7-2959-4FF2-9D7C-164664D3A018}"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4794F53F-2EDC-441B-976F-8F9FB8E0DE26}" type="datetime12">
              <a:rPr b="0" lang="en-US" sz="1400" spc="-1" strike="noStrike">
                <a:solidFill>
                  <a:srgbClr val="000000"/>
                </a:solidFill>
                <a:latin typeface="Times New Roman"/>
              </a:rPr>
              <a:t>08:14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8DEE-3F31-4B7D-8925-F921BD908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Transcript Analysis (MT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B9F3326-BF53-4795-8F27-977E8D224D2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dical Transcript Analysis (MT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63BEBCF-FFC9-4D0B-B2BF-A6A82668D6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T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98183E7-FD04-495F-B3E5-1EBC9318C2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606ECD1-C374-4E30-901B-D890979CCE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MT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0376067-1EB2-402C-8739-E248364BE5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AD1F116-3E5C-4D99-9171-1727CD4A58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52D3BA3-DBFE-476D-9999-F1F6873A8B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A1386073-8FB7-487F-8957-9E9B05443CEE}"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12T22:52:47Z</dcterms:modified>
  <cp:revision>365</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